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BB9-48FA-4B45-8EB3-0759F2CF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0AB-8F0B-4222-9585-8DD97466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649-E104-49A2-BA3E-61E1FB9A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AA9-5DBF-4F19-9C84-554B5B18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8280-6CC3-4C3B-AEF1-3E2CA0D5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3C6D-29DA-491E-872F-A01D5816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082C-CD42-41D3-94AC-887DDC91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3B65-8975-478C-AECF-2D6E2B8B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2CD8-BC31-4A89-91FE-A483CD70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2DB2-A6A9-4821-A935-7C1D5722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B4A8-9ADC-42A6-9087-496DC13B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5A4-3B39-49F2-85E1-FA23903F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3C54-78B1-4E56-BC05-1AEABF31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0558-82D3-47EF-8205-061BB5C9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439F-9575-442C-B93D-69CD0626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1E8B-DE74-40AD-8905-090BF2B0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26FB-9EB2-4F8F-84F6-1A3FE0E1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E71-D770-4757-B854-BDB867DB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6EC-07B0-4FB9-9E30-A1D1758D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E8F-9426-4504-B7BE-7661A590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E0A-CD43-4DC7-895E-7DB34D72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728-6375-4A65-A785-854ED1D1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011-5791-43E5-ADBA-70A08E0E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DD3-A946-401D-9A49-755B7CC0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4179-2AD1-4CCD-B2A8-A362A9781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0C85-C64B-4A70-A668-9D8375C050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aopeng.com/kejijie/paint/page_01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kyz.net/yuwen/book2/e_fang/sucai/e_fangsc5.htm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aintcn.net/13-ldmj/6-jxd/jxd-34-fbs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naol.com/gb/tour/fj/wy_tour/landscape/03/ls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r?u=http://www.bgy.gd.cn/wenbo/&#23665;&#34892;.jpg&amp;f=http://www.bgy.gd.cn/wenbo/71.htm&amp;c=baidu" TargetMode="External"/><Relationship Id="rId2" Type="http://schemas.openxmlformats.org/officeDocument/2006/relationships/hyperlink" Target="http://image.baidu.com/ir?u=http://www.bgy.gd.cn/wenbo/&#23665;&#34892;.jpg&amp;f=http://www.bgy.gd.cn/wenbo/71.htm&amp;c=baidu" TargetMode="External"/><Relationship Id="rId3" Type="http://schemas.openxmlformats.org/officeDocument/2006/relationships/hyperlink" Target="http://image.baidu.com/ir?u=http://www.bgy.gd.cn/wenbo/&#23665;&#34892;.jpg&amp;f=http://www.bgy.gd.cn/wenbo/71.htm&amp;c=baidu" TargetMode="External"/><Relationship Id="rId4" Type="http://schemas.openxmlformats.org/officeDocument/2006/relationships/hyperlink" Target="http://image.baidu.com/ir?u=http://www.bgy.gd.cn/wenbo/&#23665;&#34892;.jpg&amp;f=http://www.bgy.gd.cn/wenbo/71.htm&amp;c=baidu" TargetMode="External"/><Relationship Id="rId5" Type="http://schemas.openxmlformats.org/officeDocument/2006/relationships/hyperlink" Target="http://image.baidu.com/ir?u=http://www.bgy.gd.cn/wenbo/&#23665;&#34892;.jpg&amp;f=http://www.bgy.gd.cn/wenbo/71.htm&amp;c=baidu" TargetMode="External"/><Relationship Id="rId6" Type="http://schemas.openxmlformats.org/officeDocument/2006/relationships/hyperlink" Target="http://yyxxedu.com/webs/yuanyizhichuang/kecheng/yuanyigushi/060.htm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.baidu.com/ir?u=http://www.bgy.gd.cn/wenbo/&#23665;&#34892;.jpg&amp;f=http://www.bgy.gd.cn/wenbo/71.htm&amp;c=baidu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orii.cocolog-nifty.com/kiroku/cat296158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55yangkaiyu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山行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简 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是一首优美的写景诗 。诗中描绘了深秋季节山行时所 见 到 的 枫 林 晚 景 。 写 秋 景 的 诗 历 来 悲 凉 ， 可 是 ， 诗 人 笔 下 的 秋 景 却 充 满 了 生 机 ， 真 可 谓 是 秋 天 里 的 春 天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头 两 句 描 绘 了 秋 山 远 景 。 第 一 句 描 写 了 秋 山 高 远 的 景 象 ， 表 现 了 诗 人 勇 于 攀 登 的 精 神 。 第 二 句 描 写 了 秋 山 中 的 一 个 特 定 场 景 ， 在 白 云 浮 动 的 天 空 下 山 窝 窝 里 有 几 户 人 家 隐 约 可 见 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 两 句 描 绘 了 秋 山 近 景 。 “ 霜 叶 红 于 二 月 花 ” 一 句 ，   生 机 勃 勃 ， 鲜 艳 夺 目 ， 清 新 刚 劲 ， 形 象 鲜 明 ， 给 人 一 种 秋 光 胜 似 春 光 的 美 感 。 这 句 诗 成 为 千 百 年 来 人 们 广 为 传 诵 的 名 句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 首 诗 写 了 诗 人 登 山 的 活 动 ， 写 了 诗 人 登 山 时 看 到 的 美 景 ， 表 现 了 诗 人 登 山 时 的 思 想 感 情 。 写 人 、 写 景 、 写 情 ， 三 者 紧 密 结 合 ， 又 以 写 景 为 主 ， 这 就 是 本 诗 的 独 到 之 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7"/>
          <p:cNvSpPr/>
          <p:nvPr/>
        </p:nvSpPr>
        <p:spPr>
          <a:xfrm>
            <a:off x="4165560" y="320040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山 行 （动 画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x%5b1%5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447920"/>
            <a:ext cx="792468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山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远 上 寒 山 石 径 斜 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白 云 生 处 有 人 家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停 车 坐 爱 枫 林 晚 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霜 叶 红 于 二 月 花 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24_01862.WAV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76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远 上 寒 山 石 径 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34-fbs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8305920" cy="4938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白 云 生 处 有 人 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80010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停 车 坐 爱 枫 林 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>
            <a:hlinkClick r:id="rId3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>
            <a:hlinkClick r:id="rId4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">
            <a:hlinkClick r:id="rId5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p022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1512720"/>
            <a:ext cx="82296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早发白帝城"/>
          <p:cNvPicPr/>
          <p:nvPr/>
        </p:nvPicPr>
        <p:blipFill>
          <a:blip r:embed="rId1"/>
          <a:stretch/>
        </p:blipFill>
        <p:spPr>
          <a:xfrm>
            <a:off x="2057400" y="0"/>
            <a:ext cx="52498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8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霜 叶 红 于 二 月 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DC1225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译 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远处高山山间小路曲曲弯弯 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深山密林中升腾着缕缕炊烟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停车是因为我爱看枫林晚景 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霜的红叶比春花更加鲜艳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3:31:43Z</dcterms:created>
  <dc:creator/>
  <dc:description/>
  <cp:keywords>幻灯片之家 http:/www.eeppt.com</cp:keywords>
  <dc:language>en-US</dc:language>
  <cp:lastModifiedBy/>
  <dcterms:modified xsi:type="dcterms:W3CDTF">2015-07-20T02:58:0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