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09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338E-C95F-4CB9-AE7D-47C82B8F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D7EE-14A7-4F52-BF1A-CA207F81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C9EF-B88A-4E99-98B8-3005C4B3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0140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8384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1896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0140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8384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BA4A-71C2-4E0F-9D90-504A7BFB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F03A-C750-40C0-A497-52A98E0C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96C7-C604-468B-9BBB-89D7D7D9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8040-92F6-4E0D-8C92-26FC0703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9DC3-A9FF-4D45-A669-C8E361AC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779B-A4CE-49E5-91B3-165FACE3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1625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3897-09D7-4C49-AB9F-E0B8398B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6D40-45D1-441E-A2D4-CDD8B4DA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8979-75B1-41CE-A9D4-5AAAFDCB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51E1-C90B-4DFA-A654-B6CE6468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19BC-1CA3-433E-95F6-63619969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3D61-6216-4C81-973B-EC5329F7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9A9A-15A7-4993-9ADB-A8B6C408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0140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8384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1896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0140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8384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6DEB-6505-405A-9F99-31A2FBBF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697FE-1A65-4816-B214-DB1A239E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44DA4-E001-4D24-88CA-A76DEB0C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E2650-6E5E-40A0-821C-42A9D0F8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7866E-2B66-46D8-880B-FC2C18DD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22721-2177-431F-87A9-0492F0FB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032D-8474-4091-8D76-9966AE6D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1625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1F8CD-A0C2-4434-B429-1295F9DB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B8DC5-B617-4AC3-8830-A6CAF688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E3552-AF87-4B22-A0D4-111329D4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6946F-1525-49BF-8910-F4F913E3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06546-3241-4B3C-ADD9-BD3D461D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76AE0-A105-4805-BD40-1724D5B1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0140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8384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1896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0140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8384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80DD4-4181-43AE-A6F7-7C1D01B9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F52A8-A9D3-41B3-93BA-278DCA96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FF604-EDAB-4F1E-BA82-C7403B27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3BB4C-D6AF-415B-97DD-53B5C37E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546C-5EB9-448C-915D-73704B97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82D18-6C0C-4C7D-BEA7-B6C6784E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C5C2D-75E9-4610-8C8B-1006541C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1625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CE055-6FF3-42FF-84D7-C4BD8BE7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E9869-D1A6-43F9-B037-9A9E6A6A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93C03-C2FB-4BDB-B944-48E354CC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2964E-B140-4DF7-82C9-382327DB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17D31-3B8C-40B5-AEBA-0882BFA4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E2CFE-08FC-40EE-95FA-44AE8056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10140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88384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1896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10140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88384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92ED0-5CC9-4D38-A243-125FC837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8917-52B5-4D02-ABF9-FBA94785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1625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8ACC-37E1-4419-AFD4-CD5605E7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AC95-4E22-4A39-B668-00C15B37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6C6A-9C0C-4807-BCDE-12D33F79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B660-7181-4A86-9381-C67BBB48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579132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5791320"/>
            <a:ext cx="289584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579132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DCB1-0BD5-469A-BE15-B515566E5C6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20" descr="png-1835"/>
          <p:cNvPicPr/>
          <p:nvPr/>
        </p:nvPicPr>
        <p:blipFill>
          <a:blip r:embed="rId3"/>
          <a:stretch/>
        </p:blipFill>
        <p:spPr>
          <a:xfrm>
            <a:off x="7797960" y="763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2" descr="92"/>
          <p:cNvPicPr/>
          <p:nvPr/>
        </p:nvPicPr>
        <p:blipFill>
          <a:blip r:embed="rId4"/>
          <a:srcRect l="26151" t="28126" r="42945" b="55469"/>
          <a:stretch/>
        </p:blipFill>
        <p:spPr>
          <a:xfrm>
            <a:off x="-76320" y="-38160"/>
            <a:ext cx="1981440" cy="1600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8" descr="8"/>
          <p:cNvPicPr/>
          <p:nvPr/>
        </p:nvPicPr>
        <p:blipFill>
          <a:blip r:embed="rId5"/>
          <a:stretch/>
        </p:blipFill>
        <p:spPr>
          <a:xfrm>
            <a:off x="7115040" y="3352680"/>
            <a:ext cx="2028960" cy="274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579132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5791320"/>
            <a:ext cx="289584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579132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F096-1428-493D-84B4-0AA02394A0D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" descr="png-1823"/>
          <p:cNvPicPr/>
          <p:nvPr/>
        </p:nvPicPr>
        <p:blipFill>
          <a:blip r:embed="rId3"/>
          <a:stretch/>
        </p:blipFill>
        <p:spPr>
          <a:xfrm>
            <a:off x="7899480" y="21600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92"/>
          <p:cNvPicPr/>
          <p:nvPr/>
        </p:nvPicPr>
        <p:blipFill>
          <a:blip r:embed="rId4"/>
          <a:srcRect l="26151" t="28126" r="42945" b="55469"/>
          <a:stretch/>
        </p:blipFill>
        <p:spPr>
          <a:xfrm>
            <a:off x="-76320" y="-76320"/>
            <a:ext cx="1981440" cy="1600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8"/>
          <p:cNvPicPr/>
          <p:nvPr/>
        </p:nvPicPr>
        <p:blipFill>
          <a:blip r:embed="rId5"/>
          <a:stretch/>
        </p:blipFill>
        <p:spPr>
          <a:xfrm>
            <a:off x="7115040" y="3352680"/>
            <a:ext cx="2028960" cy="274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579132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5791320"/>
            <a:ext cx="289584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579132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3ADF-9E38-4D57-964D-5483771B8D4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" descr="92"/>
          <p:cNvPicPr/>
          <p:nvPr/>
        </p:nvPicPr>
        <p:blipFill>
          <a:blip r:embed="rId3"/>
          <a:srcRect l="26151" t="28126" r="42945" b="55469"/>
          <a:stretch/>
        </p:blipFill>
        <p:spPr>
          <a:xfrm>
            <a:off x="-76320" y="-76320"/>
            <a:ext cx="1981440" cy="1600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中国风图标下载50"/>
          <p:cNvPicPr/>
          <p:nvPr/>
        </p:nvPicPr>
        <p:blipFill>
          <a:blip r:embed="rId4"/>
          <a:stretch/>
        </p:blipFill>
        <p:spPr>
          <a:xfrm rot="850200">
            <a:off x="7608960" y="289080"/>
            <a:ext cx="1305000" cy="1304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8"/>
          <p:cNvPicPr/>
          <p:nvPr/>
        </p:nvPicPr>
        <p:blipFill>
          <a:blip r:embed="rId5"/>
          <a:stretch/>
        </p:blipFill>
        <p:spPr>
          <a:xfrm>
            <a:off x="7115040" y="3352680"/>
            <a:ext cx="2028960" cy="274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68"/>
          <p:cNvGrpSpPr/>
          <p:nvPr/>
        </p:nvGrpSpPr>
        <p:grpSpPr>
          <a:xfrm>
            <a:off x="0" y="1905120"/>
            <a:ext cx="6934320" cy="2743200"/>
            <a:chOff x="0" y="1905120"/>
            <a:chExt cx="6934320" cy="2743200"/>
          </a:xfrm>
        </p:grpSpPr>
        <p:sp>
          <p:nvSpPr>
            <p:cNvPr id="136" name="Rectangle 67"/>
            <p:cNvSpPr/>
            <p:nvPr/>
          </p:nvSpPr>
          <p:spPr>
            <a:xfrm>
              <a:off x="0" y="1905120"/>
              <a:ext cx="4191120" cy="27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20"/>
            <p:cNvSpPr/>
            <p:nvPr/>
          </p:nvSpPr>
          <p:spPr>
            <a:xfrm>
              <a:off x="152280" y="1905120"/>
              <a:ext cx="6782040" cy="2743200"/>
            </a:xfrm>
            <a:prstGeom prst="flowChartAlternateProcess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56" descr="92"/>
          <p:cNvPicPr/>
          <p:nvPr/>
        </p:nvPicPr>
        <p:blipFill>
          <a:blip r:embed="rId3"/>
          <a:srcRect l="28255" t="39380" r="47658" b="23779"/>
          <a:stretch/>
        </p:blipFill>
        <p:spPr>
          <a:xfrm rot="2737200">
            <a:off x="2673360" y="755280"/>
            <a:ext cx="2349360" cy="2362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7" descr="92"/>
          <p:cNvPicPr/>
          <p:nvPr/>
        </p:nvPicPr>
        <p:blipFill>
          <a:blip r:embed="rId4"/>
          <a:srcRect l="28255" t="39380" r="60809" b="30911"/>
          <a:stretch/>
        </p:blipFill>
        <p:spPr>
          <a:xfrm rot="2395200">
            <a:off x="926640" y="4038480"/>
            <a:ext cx="1067040" cy="1905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8" descr="92"/>
          <p:cNvPicPr/>
          <p:nvPr/>
        </p:nvPicPr>
        <p:blipFill>
          <a:blip r:embed="rId5"/>
          <a:srcRect l="28255" t="59587" r="47658" b="23779"/>
          <a:stretch/>
        </p:blipFill>
        <p:spPr>
          <a:xfrm rot="10489800">
            <a:off x="3504960" y="152280"/>
            <a:ext cx="2349360" cy="1067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0" descr="中国风图标下载50"/>
          <p:cNvPicPr/>
          <p:nvPr/>
        </p:nvPicPr>
        <p:blipFill>
          <a:blip r:embed="rId6"/>
          <a:stretch/>
        </p:blipFill>
        <p:spPr>
          <a:xfrm rot="1034400">
            <a:off x="5522760" y="284796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4" descr="8"/>
          <p:cNvPicPr/>
          <p:nvPr/>
        </p:nvPicPr>
        <p:blipFill>
          <a:blip r:embed="rId7"/>
          <a:stretch/>
        </p:blipFill>
        <p:spPr>
          <a:xfrm>
            <a:off x="3505320" y="1905120"/>
            <a:ext cx="2028600" cy="274320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66"/>
          <p:cNvSpPr/>
          <p:nvPr/>
        </p:nvSpPr>
        <p:spPr>
          <a:xfrm>
            <a:off x="7543800" y="228600"/>
            <a:ext cx="533520" cy="533520"/>
          </a:xfrm>
          <a:custGeom>
            <a:avLst/>
            <a:gdLst>
              <a:gd name="textAreaLeft" fmla="*/ 219960 w 533520"/>
              <a:gd name="textAreaRight" fmla="*/ 313560 w 53352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08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9"/>
          <p:cNvSpPr/>
          <p:nvPr/>
        </p:nvSpPr>
        <p:spPr>
          <a:xfrm>
            <a:off x="6769080" y="673200"/>
            <a:ext cx="380880" cy="380880"/>
          </a:xfrm>
          <a:custGeom>
            <a:avLst/>
            <a:gdLst>
              <a:gd name="textAreaLeft" fmla="*/ 156960 w 380880"/>
              <a:gd name="textAreaRight" fmla="*/ 223920 w 38088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08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0"/>
          <p:cNvSpPr/>
          <p:nvPr/>
        </p:nvSpPr>
        <p:spPr>
          <a:xfrm>
            <a:off x="6705720" y="762120"/>
            <a:ext cx="380880" cy="380880"/>
          </a:xfrm>
          <a:custGeom>
            <a:avLst/>
            <a:gdLst>
              <a:gd name="textAreaLeft" fmla="*/ 156960 w 380880"/>
              <a:gd name="textAreaRight" fmla="*/ 223920 w 38088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08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456840" y="5715000"/>
            <a:ext cx="213372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124080" y="5715000"/>
            <a:ext cx="28958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552720" y="5715000"/>
            <a:ext cx="213372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  <a:ea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E52F-48B1-49E5-B7BC-73F5651160BA}" type="slidenum">
              <a:rPr b="0" lang="en-US" sz="11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6320" y="57150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0040" y="208584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中国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68120"/>
            <a:ext cx="82072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8000" y="1128600"/>
            <a:ext cx="892800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zh-TW" sz="12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TW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TW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TW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TW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TW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TW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TW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TW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TW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TW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TW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2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zh-TW" sz="12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TW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zh-TW" sz="12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zh-TW" sz="12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7286760" y="297000"/>
            <a:ext cx="1388880" cy="309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3E25-988A-4E52-8693-8101BAB640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7T12:20:5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20T09:50:55Z</dcterms:modified>
  <cp:revision>3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