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08F-7CED-48B8-AFD8-77EAE262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4E6-FA36-429B-8502-7DFBF2D1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2EF-BEB8-48F8-B045-007D8616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DCC-4016-4DA3-A2EF-4D1C117A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320C-3374-4BF7-AF55-5043C24B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7AAD-F321-424D-A5E7-5DAA8FB8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0420-A30A-44E1-8BF0-67D64CAA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BAA5-D491-4525-8631-F3DDC3B0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40AE-D56E-4FBF-8FCC-C396907B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C074-CD9D-4FA6-9A78-0BC2F3D4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A435-6030-4DB2-86AA-5B8D3A6A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A4D-8EA0-43EB-A70C-854CFB0D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A521-D617-47FD-99CE-D721DAF4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BCBF-98E8-4335-A560-13479336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6A7F-1FD5-4EED-8A40-18FF01C5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8E98-B3BD-4DB0-A810-64347558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87F9-FDFE-4A4D-AABD-DAC4D8B7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222-A215-4860-8955-DAB66EDF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4C7-4762-4539-99A2-4DF49453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01B-3FCF-4C56-B0FC-202701D7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159-A0D8-4E88-8F37-ABDCA2E2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FA8-CF83-4F4F-B5AC-DCB05BC1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CE2-A123-42EA-B5B4-310534BF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968-C0D7-4437-BA07-27852F70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904D-F468-4CE2-8506-93ED5A58AF3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8413-D113-46DC-85B9-39D3C5BB399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4E7F-8906-436F-95FE-34D897D0FB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4920" y="907920"/>
            <a:ext cx="9001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协作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5" descr="3484168_140234208666_2.jpg"/>
          <p:cNvPicPr/>
          <p:nvPr/>
        </p:nvPicPr>
        <p:blipFill>
          <a:blip r:embed="rId2"/>
          <a:stretch/>
        </p:blipFill>
        <p:spPr>
          <a:xfrm>
            <a:off x="1460520" y="1838160"/>
            <a:ext cx="6486480" cy="39880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29EA-76C7-4913-9365-CEFA65EC7B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5Z</dcterms:modified>
  <cp:revision>86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