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92321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918-6C2A-472A-B705-0CBFA94B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AE4-1B62-46D0-86EB-3327D34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EA6-6656-427A-90CB-89222609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20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20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24D-0AB7-4143-82A8-474A5379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CD2-C716-4E17-B6AF-B1DC519C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B587-C56E-4B83-B7D9-1F988199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5BF-8E75-4880-88D1-01C824A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72A-729D-436B-86AD-0C7CA9E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4968-E1EC-4394-B35B-4516980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216000"/>
            <a:ext cx="71308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F6F-CB0E-4655-AFC7-F1607EE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CB2F-3BC7-484E-9141-2B7CF17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FF1-64BD-4EA4-8B2F-3E0B82D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1A7D-F53E-4E12-8AA3-53E68C2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9BA-66F4-489C-A1DD-5180DC7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E28-B136-4152-BD75-701AE44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E384-041A-4A1C-8591-7492E057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0620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1712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0620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1712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AA7-DB37-48BD-867F-5BB73D14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37D-5A5F-41B1-81EC-A3584C8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10D-2B70-4932-9003-EFF11922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AC-849F-4952-974B-BCF237C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16000"/>
            <a:ext cx="71308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B03-67CF-4D6A-AC24-7AED7E9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60B-3F8E-491E-B2D0-D0042DF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71A-39AE-4C70-B951-A4DE98C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3B7-6756-4097-9EC5-22A53CB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9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260360"/>
            <a:ext cx="71294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360" y="4917600"/>
            <a:ext cx="1847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DB3F4FFC-2F7F-4951-BC26-5CCD509C668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marL="284040" indent="-284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492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67648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E3ECE114-01DC-4EBA-8E84-D24B7465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0"/>
            <a:ext cx="7921800" cy="5400720"/>
          </a:xfrm>
          <a:prstGeom prst="rect">
            <a:avLst/>
          </a:prstGeom>
          <a:solidFill>
            <a:srgbClr val="66c935"/>
          </a:solidFill>
          <a:ln w="25560">
            <a:solidFill>
              <a:srgbClr val="66c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0"/>
          <p:cNvSpPr/>
          <p:nvPr/>
        </p:nvSpPr>
        <p:spPr>
          <a:xfrm>
            <a:off x="0" y="4894200"/>
            <a:ext cx="79218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3"/>
          <p:cNvSpPr/>
          <p:nvPr/>
        </p:nvSpPr>
        <p:spPr>
          <a:xfrm>
            <a:off x="0" y="5175360"/>
            <a:ext cx="792180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765680" y="1406520"/>
            <a:ext cx="1298520" cy="115740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990" h="970">
                <a:moveTo>
                  <a:pt x="379" y="918"/>
                </a:moveTo>
                <a:cubicBezTo>
                  <a:pt x="379" y="915"/>
                  <a:pt x="376" y="914"/>
                  <a:pt x="377" y="910"/>
                </a:cubicBezTo>
                <a:cubicBezTo>
                  <a:pt x="367" y="909"/>
                  <a:pt x="367" y="924"/>
                  <a:pt x="359" y="925"/>
                </a:cubicBezTo>
                <a:cubicBezTo>
                  <a:pt x="359" y="922"/>
                  <a:pt x="359" y="922"/>
                  <a:pt x="359" y="922"/>
                </a:cubicBezTo>
                <a:cubicBezTo>
                  <a:pt x="356" y="921"/>
                  <a:pt x="356" y="921"/>
                  <a:pt x="356" y="921"/>
                </a:cubicBezTo>
                <a:cubicBezTo>
                  <a:pt x="348" y="918"/>
                  <a:pt x="343" y="918"/>
                  <a:pt x="336" y="921"/>
                </a:cubicBezTo>
                <a:cubicBezTo>
                  <a:pt x="335" y="921"/>
                  <a:pt x="332" y="923"/>
                  <a:pt x="332" y="923"/>
                </a:cubicBezTo>
                <a:cubicBezTo>
                  <a:pt x="325" y="925"/>
                  <a:pt x="317" y="926"/>
                  <a:pt x="311" y="930"/>
                </a:cubicBezTo>
                <a:cubicBezTo>
                  <a:pt x="303" y="927"/>
                  <a:pt x="297" y="923"/>
                  <a:pt x="291" y="918"/>
                </a:cubicBezTo>
                <a:cubicBezTo>
                  <a:pt x="275" y="919"/>
                  <a:pt x="253" y="929"/>
                  <a:pt x="240" y="919"/>
                </a:cubicBezTo>
                <a:cubicBezTo>
                  <a:pt x="245" y="897"/>
                  <a:pt x="262" y="894"/>
                  <a:pt x="281" y="893"/>
                </a:cubicBezTo>
                <a:cubicBezTo>
                  <a:pt x="281" y="897"/>
                  <a:pt x="288" y="897"/>
                  <a:pt x="287" y="902"/>
                </a:cubicBezTo>
                <a:cubicBezTo>
                  <a:pt x="290" y="904"/>
                  <a:pt x="287" y="910"/>
                  <a:pt x="292" y="911"/>
                </a:cubicBezTo>
                <a:cubicBezTo>
                  <a:pt x="297" y="914"/>
                  <a:pt x="298" y="909"/>
                  <a:pt x="300" y="909"/>
                </a:cubicBezTo>
                <a:cubicBezTo>
                  <a:pt x="302" y="909"/>
                  <a:pt x="307" y="911"/>
                  <a:pt x="308" y="910"/>
                </a:cubicBezTo>
                <a:cubicBezTo>
                  <a:pt x="311" y="908"/>
                  <a:pt x="308" y="903"/>
                  <a:pt x="313" y="904"/>
                </a:cubicBezTo>
                <a:cubicBezTo>
                  <a:pt x="316" y="904"/>
                  <a:pt x="321" y="901"/>
                  <a:pt x="322" y="898"/>
                </a:cubicBezTo>
                <a:cubicBezTo>
                  <a:pt x="330" y="901"/>
                  <a:pt x="338" y="901"/>
                  <a:pt x="345" y="899"/>
                </a:cubicBezTo>
                <a:cubicBezTo>
                  <a:pt x="347" y="899"/>
                  <a:pt x="351" y="898"/>
                  <a:pt x="353" y="897"/>
                </a:cubicBezTo>
                <a:cubicBezTo>
                  <a:pt x="354" y="897"/>
                  <a:pt x="353" y="894"/>
                  <a:pt x="354" y="893"/>
                </a:cubicBezTo>
                <a:cubicBezTo>
                  <a:pt x="358" y="892"/>
                  <a:pt x="362" y="894"/>
                  <a:pt x="366" y="892"/>
                </a:cubicBezTo>
                <a:cubicBezTo>
                  <a:pt x="372" y="888"/>
                  <a:pt x="376" y="881"/>
                  <a:pt x="381" y="876"/>
                </a:cubicBezTo>
                <a:cubicBezTo>
                  <a:pt x="386" y="867"/>
                  <a:pt x="375" y="867"/>
                  <a:pt x="377" y="860"/>
                </a:cubicBezTo>
                <a:cubicBezTo>
                  <a:pt x="384" y="829"/>
                  <a:pt x="360" y="818"/>
                  <a:pt x="347" y="799"/>
                </a:cubicBezTo>
                <a:cubicBezTo>
                  <a:pt x="348" y="791"/>
                  <a:pt x="359" y="798"/>
                  <a:pt x="361" y="791"/>
                </a:cubicBezTo>
                <a:cubicBezTo>
                  <a:pt x="362" y="785"/>
                  <a:pt x="362" y="776"/>
                  <a:pt x="367" y="777"/>
                </a:cubicBezTo>
                <a:cubicBezTo>
                  <a:pt x="367" y="772"/>
                  <a:pt x="363" y="770"/>
                  <a:pt x="362" y="764"/>
                </a:cubicBezTo>
                <a:cubicBezTo>
                  <a:pt x="361" y="753"/>
                  <a:pt x="369" y="738"/>
                  <a:pt x="358" y="732"/>
                </a:cubicBezTo>
                <a:cubicBezTo>
                  <a:pt x="352" y="731"/>
                  <a:pt x="345" y="734"/>
                  <a:pt x="341" y="737"/>
                </a:cubicBezTo>
                <a:cubicBezTo>
                  <a:pt x="340" y="737"/>
                  <a:pt x="341" y="743"/>
                  <a:pt x="340" y="744"/>
                </a:cubicBezTo>
                <a:cubicBezTo>
                  <a:pt x="338" y="745"/>
                  <a:pt x="334" y="746"/>
                  <a:pt x="332" y="746"/>
                </a:cubicBezTo>
                <a:cubicBezTo>
                  <a:pt x="327" y="745"/>
                  <a:pt x="330" y="751"/>
                  <a:pt x="326" y="753"/>
                </a:cubicBezTo>
                <a:cubicBezTo>
                  <a:pt x="321" y="755"/>
                  <a:pt x="316" y="756"/>
                  <a:pt x="309" y="760"/>
                </a:cubicBezTo>
                <a:cubicBezTo>
                  <a:pt x="308" y="761"/>
                  <a:pt x="306" y="766"/>
                  <a:pt x="304" y="767"/>
                </a:cubicBezTo>
                <a:cubicBezTo>
                  <a:pt x="303" y="768"/>
                  <a:pt x="298" y="765"/>
                  <a:pt x="297" y="765"/>
                </a:cubicBezTo>
                <a:cubicBezTo>
                  <a:pt x="292" y="769"/>
                  <a:pt x="287" y="774"/>
                  <a:pt x="273" y="768"/>
                </a:cubicBezTo>
                <a:cubicBezTo>
                  <a:pt x="275" y="764"/>
                  <a:pt x="274" y="761"/>
                  <a:pt x="271" y="760"/>
                </a:cubicBezTo>
                <a:cubicBezTo>
                  <a:pt x="270" y="747"/>
                  <a:pt x="284" y="745"/>
                  <a:pt x="290" y="741"/>
                </a:cubicBezTo>
                <a:cubicBezTo>
                  <a:pt x="294" y="739"/>
                  <a:pt x="297" y="733"/>
                  <a:pt x="300" y="732"/>
                </a:cubicBezTo>
                <a:cubicBezTo>
                  <a:pt x="301" y="731"/>
                  <a:pt x="305" y="729"/>
                  <a:pt x="305" y="729"/>
                </a:cubicBezTo>
                <a:cubicBezTo>
                  <a:pt x="306" y="728"/>
                  <a:pt x="310" y="731"/>
                  <a:pt x="312" y="730"/>
                </a:cubicBezTo>
                <a:cubicBezTo>
                  <a:pt x="313" y="730"/>
                  <a:pt x="312" y="727"/>
                  <a:pt x="313" y="727"/>
                </a:cubicBezTo>
                <a:cubicBezTo>
                  <a:pt x="314" y="726"/>
                  <a:pt x="316" y="728"/>
                  <a:pt x="316" y="727"/>
                </a:cubicBezTo>
                <a:cubicBezTo>
                  <a:pt x="317" y="727"/>
                  <a:pt x="317" y="724"/>
                  <a:pt x="317" y="724"/>
                </a:cubicBezTo>
                <a:cubicBezTo>
                  <a:pt x="318" y="723"/>
                  <a:pt x="325" y="722"/>
                  <a:pt x="325" y="722"/>
                </a:cubicBezTo>
                <a:cubicBezTo>
                  <a:pt x="326" y="720"/>
                  <a:pt x="326" y="715"/>
                  <a:pt x="327" y="714"/>
                </a:cubicBezTo>
                <a:cubicBezTo>
                  <a:pt x="328" y="713"/>
                  <a:pt x="333" y="717"/>
                  <a:pt x="334" y="716"/>
                </a:cubicBezTo>
                <a:cubicBezTo>
                  <a:pt x="335" y="715"/>
                  <a:pt x="334" y="713"/>
                  <a:pt x="335" y="712"/>
                </a:cubicBezTo>
                <a:cubicBezTo>
                  <a:pt x="336" y="712"/>
                  <a:pt x="338" y="713"/>
                  <a:pt x="339" y="713"/>
                </a:cubicBezTo>
                <a:cubicBezTo>
                  <a:pt x="343" y="710"/>
                  <a:pt x="344" y="705"/>
                  <a:pt x="351" y="708"/>
                </a:cubicBezTo>
                <a:cubicBezTo>
                  <a:pt x="356" y="699"/>
                  <a:pt x="365" y="696"/>
                  <a:pt x="371" y="689"/>
                </a:cubicBezTo>
                <a:cubicBezTo>
                  <a:pt x="380" y="691"/>
                  <a:pt x="389" y="693"/>
                  <a:pt x="394" y="690"/>
                </a:cubicBezTo>
                <a:cubicBezTo>
                  <a:pt x="398" y="690"/>
                  <a:pt x="398" y="684"/>
                  <a:pt x="400" y="680"/>
                </a:cubicBezTo>
                <a:cubicBezTo>
                  <a:pt x="401" y="677"/>
                  <a:pt x="404" y="677"/>
                  <a:pt x="405" y="673"/>
                </a:cubicBezTo>
                <a:cubicBezTo>
                  <a:pt x="411" y="678"/>
                  <a:pt x="408" y="688"/>
                  <a:pt x="417" y="691"/>
                </a:cubicBezTo>
                <a:cubicBezTo>
                  <a:pt x="422" y="691"/>
                  <a:pt x="424" y="685"/>
                  <a:pt x="429" y="686"/>
                </a:cubicBezTo>
                <a:cubicBezTo>
                  <a:pt x="430" y="686"/>
                  <a:pt x="432" y="687"/>
                  <a:pt x="433" y="687"/>
                </a:cubicBezTo>
                <a:cubicBezTo>
                  <a:pt x="438" y="685"/>
                  <a:pt x="443" y="679"/>
                  <a:pt x="447" y="675"/>
                </a:cubicBezTo>
                <a:cubicBezTo>
                  <a:pt x="452" y="676"/>
                  <a:pt x="457" y="677"/>
                  <a:pt x="462" y="678"/>
                </a:cubicBezTo>
                <a:cubicBezTo>
                  <a:pt x="465" y="667"/>
                  <a:pt x="453" y="665"/>
                  <a:pt x="446" y="663"/>
                </a:cubicBezTo>
                <a:cubicBezTo>
                  <a:pt x="438" y="660"/>
                  <a:pt x="434" y="668"/>
                  <a:pt x="428" y="659"/>
                </a:cubicBezTo>
                <a:cubicBezTo>
                  <a:pt x="424" y="661"/>
                  <a:pt x="421" y="664"/>
                  <a:pt x="418" y="668"/>
                </a:cubicBezTo>
                <a:cubicBezTo>
                  <a:pt x="414" y="667"/>
                  <a:pt x="416" y="661"/>
                  <a:pt x="417" y="656"/>
                </a:cubicBezTo>
                <a:cubicBezTo>
                  <a:pt x="395" y="647"/>
                  <a:pt x="381" y="659"/>
                  <a:pt x="368" y="650"/>
                </a:cubicBezTo>
                <a:cubicBezTo>
                  <a:pt x="363" y="633"/>
                  <a:pt x="380" y="629"/>
                  <a:pt x="384" y="611"/>
                </a:cubicBezTo>
                <a:cubicBezTo>
                  <a:pt x="388" y="598"/>
                  <a:pt x="377" y="590"/>
                  <a:pt x="371" y="581"/>
                </a:cubicBezTo>
                <a:cubicBezTo>
                  <a:pt x="371" y="580"/>
                  <a:pt x="372" y="578"/>
                  <a:pt x="372" y="577"/>
                </a:cubicBezTo>
                <a:cubicBezTo>
                  <a:pt x="371" y="577"/>
                  <a:pt x="369" y="577"/>
                  <a:pt x="368" y="577"/>
                </a:cubicBezTo>
                <a:cubicBezTo>
                  <a:pt x="368" y="576"/>
                  <a:pt x="369" y="574"/>
                  <a:pt x="369" y="573"/>
                </a:cubicBezTo>
                <a:cubicBezTo>
                  <a:pt x="369" y="572"/>
                  <a:pt x="366" y="573"/>
                  <a:pt x="365" y="572"/>
                </a:cubicBezTo>
                <a:cubicBezTo>
                  <a:pt x="365" y="572"/>
                  <a:pt x="367" y="569"/>
                  <a:pt x="366" y="568"/>
                </a:cubicBezTo>
                <a:cubicBezTo>
                  <a:pt x="365" y="567"/>
                  <a:pt x="360" y="568"/>
                  <a:pt x="359" y="567"/>
                </a:cubicBezTo>
                <a:cubicBezTo>
                  <a:pt x="355" y="565"/>
                  <a:pt x="358" y="564"/>
                  <a:pt x="356" y="562"/>
                </a:cubicBezTo>
                <a:cubicBezTo>
                  <a:pt x="355" y="562"/>
                  <a:pt x="349" y="562"/>
                  <a:pt x="348" y="561"/>
                </a:cubicBezTo>
                <a:cubicBezTo>
                  <a:pt x="348" y="560"/>
                  <a:pt x="350" y="557"/>
                  <a:pt x="349" y="557"/>
                </a:cubicBezTo>
                <a:cubicBezTo>
                  <a:pt x="348" y="556"/>
                  <a:pt x="343" y="557"/>
                  <a:pt x="342" y="556"/>
                </a:cubicBezTo>
                <a:cubicBezTo>
                  <a:pt x="342" y="555"/>
                  <a:pt x="343" y="552"/>
                  <a:pt x="343" y="552"/>
                </a:cubicBezTo>
                <a:cubicBezTo>
                  <a:pt x="342" y="551"/>
                  <a:pt x="336" y="552"/>
                  <a:pt x="335" y="550"/>
                </a:cubicBezTo>
                <a:cubicBezTo>
                  <a:pt x="335" y="550"/>
                  <a:pt x="336" y="547"/>
                  <a:pt x="336" y="547"/>
                </a:cubicBezTo>
                <a:cubicBezTo>
                  <a:pt x="329" y="542"/>
                  <a:pt x="318" y="541"/>
                  <a:pt x="311" y="537"/>
                </a:cubicBezTo>
                <a:cubicBezTo>
                  <a:pt x="311" y="528"/>
                  <a:pt x="301" y="525"/>
                  <a:pt x="300" y="516"/>
                </a:cubicBezTo>
                <a:cubicBezTo>
                  <a:pt x="289" y="511"/>
                  <a:pt x="290" y="525"/>
                  <a:pt x="277" y="518"/>
                </a:cubicBezTo>
                <a:cubicBezTo>
                  <a:pt x="279" y="507"/>
                  <a:pt x="285" y="502"/>
                  <a:pt x="290" y="494"/>
                </a:cubicBezTo>
                <a:cubicBezTo>
                  <a:pt x="291" y="496"/>
                  <a:pt x="291" y="496"/>
                  <a:pt x="291" y="496"/>
                </a:cubicBezTo>
                <a:cubicBezTo>
                  <a:pt x="293" y="495"/>
                  <a:pt x="293" y="495"/>
                  <a:pt x="293" y="495"/>
                </a:cubicBezTo>
                <a:cubicBezTo>
                  <a:pt x="304" y="497"/>
                  <a:pt x="315" y="500"/>
                  <a:pt x="326" y="502"/>
                </a:cubicBezTo>
                <a:cubicBezTo>
                  <a:pt x="337" y="502"/>
                  <a:pt x="332" y="511"/>
                  <a:pt x="340" y="513"/>
                </a:cubicBezTo>
                <a:cubicBezTo>
                  <a:pt x="341" y="508"/>
                  <a:pt x="347" y="511"/>
                  <a:pt x="351" y="511"/>
                </a:cubicBezTo>
                <a:cubicBezTo>
                  <a:pt x="353" y="507"/>
                  <a:pt x="358" y="508"/>
                  <a:pt x="360" y="506"/>
                </a:cubicBezTo>
                <a:cubicBezTo>
                  <a:pt x="368" y="500"/>
                  <a:pt x="371" y="494"/>
                  <a:pt x="376" y="486"/>
                </a:cubicBezTo>
                <a:cubicBezTo>
                  <a:pt x="365" y="474"/>
                  <a:pt x="347" y="467"/>
                  <a:pt x="346" y="448"/>
                </a:cubicBezTo>
                <a:cubicBezTo>
                  <a:pt x="331" y="445"/>
                  <a:pt x="325" y="434"/>
                  <a:pt x="313" y="438"/>
                </a:cubicBezTo>
                <a:cubicBezTo>
                  <a:pt x="311" y="438"/>
                  <a:pt x="310" y="443"/>
                  <a:pt x="308" y="444"/>
                </a:cubicBezTo>
                <a:cubicBezTo>
                  <a:pt x="307" y="445"/>
                  <a:pt x="303" y="443"/>
                  <a:pt x="304" y="447"/>
                </a:cubicBezTo>
                <a:cubicBezTo>
                  <a:pt x="300" y="446"/>
                  <a:pt x="300" y="446"/>
                  <a:pt x="300" y="446"/>
                </a:cubicBezTo>
                <a:cubicBezTo>
                  <a:pt x="299" y="450"/>
                  <a:pt x="299" y="450"/>
                  <a:pt x="299" y="450"/>
                </a:cubicBezTo>
                <a:cubicBezTo>
                  <a:pt x="296" y="449"/>
                  <a:pt x="297" y="445"/>
                  <a:pt x="297" y="442"/>
                </a:cubicBezTo>
                <a:cubicBezTo>
                  <a:pt x="297" y="439"/>
                  <a:pt x="294" y="437"/>
                  <a:pt x="295" y="434"/>
                </a:cubicBezTo>
                <a:cubicBezTo>
                  <a:pt x="287" y="431"/>
                  <a:pt x="281" y="431"/>
                  <a:pt x="276" y="433"/>
                </a:cubicBezTo>
                <a:cubicBezTo>
                  <a:pt x="268" y="450"/>
                  <a:pt x="288" y="449"/>
                  <a:pt x="280" y="465"/>
                </a:cubicBezTo>
                <a:cubicBezTo>
                  <a:pt x="269" y="471"/>
                  <a:pt x="266" y="454"/>
                  <a:pt x="253" y="452"/>
                </a:cubicBezTo>
                <a:cubicBezTo>
                  <a:pt x="247" y="452"/>
                  <a:pt x="245" y="457"/>
                  <a:pt x="240" y="457"/>
                </a:cubicBezTo>
                <a:cubicBezTo>
                  <a:pt x="238" y="472"/>
                  <a:pt x="251" y="477"/>
                  <a:pt x="261" y="484"/>
                </a:cubicBezTo>
                <a:cubicBezTo>
                  <a:pt x="258" y="501"/>
                  <a:pt x="265" y="511"/>
                  <a:pt x="259" y="530"/>
                </a:cubicBezTo>
                <a:cubicBezTo>
                  <a:pt x="250" y="532"/>
                  <a:pt x="255" y="523"/>
                  <a:pt x="253" y="521"/>
                </a:cubicBezTo>
                <a:cubicBezTo>
                  <a:pt x="251" y="519"/>
                  <a:pt x="244" y="521"/>
                  <a:pt x="242" y="519"/>
                </a:cubicBezTo>
                <a:cubicBezTo>
                  <a:pt x="241" y="518"/>
                  <a:pt x="243" y="516"/>
                  <a:pt x="243" y="515"/>
                </a:cubicBezTo>
                <a:cubicBezTo>
                  <a:pt x="242" y="514"/>
                  <a:pt x="240" y="515"/>
                  <a:pt x="239" y="514"/>
                </a:cubicBezTo>
                <a:cubicBezTo>
                  <a:pt x="239" y="513"/>
                  <a:pt x="240" y="511"/>
                  <a:pt x="240" y="510"/>
                </a:cubicBezTo>
                <a:cubicBezTo>
                  <a:pt x="239" y="510"/>
                  <a:pt x="237" y="510"/>
                  <a:pt x="236" y="510"/>
                </a:cubicBezTo>
                <a:cubicBezTo>
                  <a:pt x="236" y="509"/>
                  <a:pt x="237" y="507"/>
                  <a:pt x="237" y="506"/>
                </a:cubicBezTo>
                <a:cubicBezTo>
                  <a:pt x="237" y="505"/>
                  <a:pt x="234" y="506"/>
                  <a:pt x="233" y="505"/>
                </a:cubicBezTo>
                <a:cubicBezTo>
                  <a:pt x="233" y="504"/>
                  <a:pt x="235" y="502"/>
                  <a:pt x="234" y="501"/>
                </a:cubicBezTo>
                <a:cubicBezTo>
                  <a:pt x="233" y="499"/>
                  <a:pt x="224" y="488"/>
                  <a:pt x="223" y="480"/>
                </a:cubicBezTo>
                <a:cubicBezTo>
                  <a:pt x="217" y="478"/>
                  <a:pt x="210" y="483"/>
                  <a:pt x="203" y="483"/>
                </a:cubicBezTo>
                <a:cubicBezTo>
                  <a:pt x="195" y="484"/>
                  <a:pt x="184" y="477"/>
                  <a:pt x="180" y="486"/>
                </a:cubicBezTo>
                <a:cubicBezTo>
                  <a:pt x="173" y="483"/>
                  <a:pt x="172" y="476"/>
                  <a:pt x="163" y="475"/>
                </a:cubicBezTo>
                <a:cubicBezTo>
                  <a:pt x="160" y="475"/>
                  <a:pt x="158" y="477"/>
                  <a:pt x="155" y="477"/>
                </a:cubicBezTo>
                <a:cubicBezTo>
                  <a:pt x="146" y="474"/>
                  <a:pt x="148" y="486"/>
                  <a:pt x="141" y="485"/>
                </a:cubicBezTo>
                <a:cubicBezTo>
                  <a:pt x="135" y="505"/>
                  <a:pt x="144" y="524"/>
                  <a:pt x="124" y="528"/>
                </a:cubicBezTo>
                <a:cubicBezTo>
                  <a:pt x="97" y="517"/>
                  <a:pt x="130" y="498"/>
                  <a:pt x="129" y="471"/>
                </a:cubicBezTo>
                <a:cubicBezTo>
                  <a:pt x="128" y="465"/>
                  <a:pt x="125" y="461"/>
                  <a:pt x="120" y="458"/>
                </a:cubicBezTo>
                <a:cubicBezTo>
                  <a:pt x="104" y="456"/>
                  <a:pt x="97" y="468"/>
                  <a:pt x="77" y="460"/>
                </a:cubicBezTo>
                <a:cubicBezTo>
                  <a:pt x="76" y="454"/>
                  <a:pt x="71" y="450"/>
                  <a:pt x="69" y="443"/>
                </a:cubicBezTo>
                <a:cubicBezTo>
                  <a:pt x="69" y="441"/>
                  <a:pt x="71" y="438"/>
                  <a:pt x="71" y="436"/>
                </a:cubicBezTo>
                <a:cubicBezTo>
                  <a:pt x="71" y="430"/>
                  <a:pt x="66" y="428"/>
                  <a:pt x="66" y="423"/>
                </a:cubicBezTo>
                <a:cubicBezTo>
                  <a:pt x="46" y="417"/>
                  <a:pt x="32" y="424"/>
                  <a:pt x="23" y="410"/>
                </a:cubicBezTo>
                <a:cubicBezTo>
                  <a:pt x="22" y="396"/>
                  <a:pt x="31" y="397"/>
                  <a:pt x="32" y="385"/>
                </a:cubicBezTo>
                <a:cubicBezTo>
                  <a:pt x="35" y="374"/>
                  <a:pt x="26" y="370"/>
                  <a:pt x="21" y="363"/>
                </a:cubicBezTo>
                <a:cubicBezTo>
                  <a:pt x="19" y="361"/>
                  <a:pt x="23" y="360"/>
                  <a:pt x="18" y="359"/>
                </a:cubicBezTo>
                <a:cubicBezTo>
                  <a:pt x="13" y="357"/>
                  <a:pt x="12" y="349"/>
                  <a:pt x="10" y="345"/>
                </a:cubicBezTo>
                <a:cubicBezTo>
                  <a:pt x="9" y="345"/>
                  <a:pt x="6" y="345"/>
                  <a:pt x="6" y="344"/>
                </a:cubicBezTo>
                <a:cubicBezTo>
                  <a:pt x="5" y="343"/>
                  <a:pt x="9" y="338"/>
                  <a:pt x="8" y="337"/>
                </a:cubicBezTo>
                <a:cubicBezTo>
                  <a:pt x="7" y="337"/>
                  <a:pt x="4" y="337"/>
                  <a:pt x="4" y="336"/>
                </a:cubicBezTo>
                <a:cubicBezTo>
                  <a:pt x="3" y="330"/>
                  <a:pt x="6" y="325"/>
                  <a:pt x="0" y="320"/>
                </a:cubicBezTo>
                <a:cubicBezTo>
                  <a:pt x="12" y="306"/>
                  <a:pt x="31" y="303"/>
                  <a:pt x="42" y="287"/>
                </a:cubicBezTo>
                <a:cubicBezTo>
                  <a:pt x="45" y="269"/>
                  <a:pt x="28" y="264"/>
                  <a:pt x="31" y="246"/>
                </a:cubicBezTo>
                <a:cubicBezTo>
                  <a:pt x="35" y="247"/>
                  <a:pt x="34" y="241"/>
                  <a:pt x="36" y="239"/>
                </a:cubicBezTo>
                <a:cubicBezTo>
                  <a:pt x="38" y="237"/>
                  <a:pt x="42" y="239"/>
                  <a:pt x="44" y="237"/>
                </a:cubicBezTo>
                <a:cubicBezTo>
                  <a:pt x="48" y="235"/>
                  <a:pt x="52" y="227"/>
                  <a:pt x="58" y="228"/>
                </a:cubicBezTo>
                <a:cubicBezTo>
                  <a:pt x="61" y="229"/>
                  <a:pt x="67" y="224"/>
                  <a:pt x="77" y="229"/>
                </a:cubicBezTo>
                <a:cubicBezTo>
                  <a:pt x="82" y="227"/>
                  <a:pt x="87" y="226"/>
                  <a:pt x="91" y="220"/>
                </a:cubicBezTo>
                <a:cubicBezTo>
                  <a:pt x="92" y="217"/>
                  <a:pt x="95" y="208"/>
                  <a:pt x="97" y="206"/>
                </a:cubicBezTo>
                <a:cubicBezTo>
                  <a:pt x="98" y="206"/>
                  <a:pt x="101" y="207"/>
                  <a:pt x="101" y="207"/>
                </a:cubicBezTo>
                <a:cubicBezTo>
                  <a:pt x="102" y="206"/>
                  <a:pt x="101" y="200"/>
                  <a:pt x="103" y="200"/>
                </a:cubicBezTo>
                <a:cubicBezTo>
                  <a:pt x="103" y="199"/>
                  <a:pt x="106" y="201"/>
                  <a:pt x="106" y="200"/>
                </a:cubicBezTo>
                <a:cubicBezTo>
                  <a:pt x="109" y="195"/>
                  <a:pt x="108" y="187"/>
                  <a:pt x="110" y="182"/>
                </a:cubicBezTo>
                <a:cubicBezTo>
                  <a:pt x="114" y="172"/>
                  <a:pt x="125" y="164"/>
                  <a:pt x="124" y="154"/>
                </a:cubicBezTo>
                <a:cubicBezTo>
                  <a:pt x="127" y="149"/>
                  <a:pt x="122" y="148"/>
                  <a:pt x="122" y="146"/>
                </a:cubicBezTo>
                <a:cubicBezTo>
                  <a:pt x="122" y="144"/>
                  <a:pt x="124" y="140"/>
                  <a:pt x="124" y="139"/>
                </a:cubicBezTo>
                <a:cubicBezTo>
                  <a:pt x="123" y="138"/>
                  <a:pt x="120" y="138"/>
                  <a:pt x="120" y="138"/>
                </a:cubicBezTo>
                <a:cubicBezTo>
                  <a:pt x="118" y="132"/>
                  <a:pt x="125" y="125"/>
                  <a:pt x="115" y="125"/>
                </a:cubicBezTo>
                <a:cubicBezTo>
                  <a:pt x="114" y="114"/>
                  <a:pt x="124" y="119"/>
                  <a:pt x="125" y="112"/>
                </a:cubicBezTo>
                <a:cubicBezTo>
                  <a:pt x="127" y="103"/>
                  <a:pt x="129" y="95"/>
                  <a:pt x="131" y="86"/>
                </a:cubicBezTo>
                <a:cubicBezTo>
                  <a:pt x="139" y="89"/>
                  <a:pt x="136" y="97"/>
                  <a:pt x="139" y="103"/>
                </a:cubicBezTo>
                <a:cubicBezTo>
                  <a:pt x="141" y="107"/>
                  <a:pt x="142" y="109"/>
                  <a:pt x="145" y="112"/>
                </a:cubicBezTo>
                <a:cubicBezTo>
                  <a:pt x="146" y="115"/>
                  <a:pt x="148" y="112"/>
                  <a:pt x="147" y="117"/>
                </a:cubicBezTo>
                <a:cubicBezTo>
                  <a:pt x="147" y="122"/>
                  <a:pt x="156" y="129"/>
                  <a:pt x="155" y="137"/>
                </a:cubicBezTo>
                <a:cubicBezTo>
                  <a:pt x="161" y="133"/>
                  <a:pt x="175" y="130"/>
                  <a:pt x="181" y="139"/>
                </a:cubicBezTo>
                <a:cubicBezTo>
                  <a:pt x="191" y="143"/>
                  <a:pt x="188" y="126"/>
                  <a:pt x="195" y="127"/>
                </a:cubicBezTo>
                <a:cubicBezTo>
                  <a:pt x="198" y="122"/>
                  <a:pt x="203" y="119"/>
                  <a:pt x="206" y="114"/>
                </a:cubicBezTo>
                <a:cubicBezTo>
                  <a:pt x="208" y="103"/>
                  <a:pt x="200" y="98"/>
                  <a:pt x="195" y="92"/>
                </a:cubicBezTo>
                <a:cubicBezTo>
                  <a:pt x="197" y="75"/>
                  <a:pt x="186" y="66"/>
                  <a:pt x="194" y="46"/>
                </a:cubicBezTo>
                <a:cubicBezTo>
                  <a:pt x="211" y="47"/>
                  <a:pt x="208" y="62"/>
                  <a:pt x="215" y="70"/>
                </a:cubicBezTo>
                <a:cubicBezTo>
                  <a:pt x="215" y="74"/>
                  <a:pt x="222" y="74"/>
                  <a:pt x="221" y="79"/>
                </a:cubicBezTo>
                <a:cubicBezTo>
                  <a:pt x="240" y="75"/>
                  <a:pt x="223" y="51"/>
                  <a:pt x="222" y="40"/>
                </a:cubicBezTo>
                <a:cubicBezTo>
                  <a:pt x="220" y="36"/>
                  <a:pt x="220" y="31"/>
                  <a:pt x="221" y="25"/>
                </a:cubicBezTo>
                <a:cubicBezTo>
                  <a:pt x="231" y="30"/>
                  <a:pt x="229" y="29"/>
                  <a:pt x="236" y="28"/>
                </a:cubicBezTo>
                <a:cubicBezTo>
                  <a:pt x="238" y="27"/>
                  <a:pt x="244" y="17"/>
                  <a:pt x="252" y="24"/>
                </a:cubicBezTo>
                <a:cubicBezTo>
                  <a:pt x="254" y="32"/>
                  <a:pt x="257" y="40"/>
                  <a:pt x="259" y="48"/>
                </a:cubicBezTo>
                <a:cubicBezTo>
                  <a:pt x="255" y="47"/>
                  <a:pt x="255" y="47"/>
                  <a:pt x="255" y="47"/>
                </a:cubicBezTo>
                <a:cubicBezTo>
                  <a:pt x="254" y="51"/>
                  <a:pt x="254" y="51"/>
                  <a:pt x="254" y="51"/>
                </a:cubicBezTo>
                <a:cubicBezTo>
                  <a:pt x="240" y="42"/>
                  <a:pt x="245" y="78"/>
                  <a:pt x="247" y="84"/>
                </a:cubicBezTo>
                <a:cubicBezTo>
                  <a:pt x="258" y="87"/>
                  <a:pt x="263" y="80"/>
                  <a:pt x="271" y="78"/>
                </a:cubicBezTo>
                <a:cubicBezTo>
                  <a:pt x="276" y="67"/>
                  <a:pt x="264" y="66"/>
                  <a:pt x="264" y="57"/>
                </a:cubicBezTo>
                <a:cubicBezTo>
                  <a:pt x="268" y="58"/>
                  <a:pt x="268" y="58"/>
                  <a:pt x="268" y="58"/>
                </a:cubicBezTo>
                <a:cubicBezTo>
                  <a:pt x="269" y="54"/>
                  <a:pt x="269" y="54"/>
                  <a:pt x="269" y="54"/>
                </a:cubicBezTo>
                <a:cubicBezTo>
                  <a:pt x="274" y="54"/>
                  <a:pt x="277" y="51"/>
                  <a:pt x="279" y="45"/>
                </a:cubicBezTo>
                <a:cubicBezTo>
                  <a:pt x="285" y="51"/>
                  <a:pt x="280" y="65"/>
                  <a:pt x="284" y="73"/>
                </a:cubicBezTo>
                <a:cubicBezTo>
                  <a:pt x="287" y="73"/>
                  <a:pt x="289" y="70"/>
                  <a:pt x="292" y="71"/>
                </a:cubicBezTo>
                <a:cubicBezTo>
                  <a:pt x="295" y="71"/>
                  <a:pt x="295" y="76"/>
                  <a:pt x="299" y="76"/>
                </a:cubicBezTo>
                <a:cubicBezTo>
                  <a:pt x="310" y="77"/>
                  <a:pt x="321" y="69"/>
                  <a:pt x="337" y="77"/>
                </a:cubicBezTo>
                <a:cubicBezTo>
                  <a:pt x="345" y="77"/>
                  <a:pt x="348" y="69"/>
                  <a:pt x="351" y="64"/>
                </a:cubicBezTo>
                <a:cubicBezTo>
                  <a:pt x="353" y="63"/>
                  <a:pt x="355" y="66"/>
                  <a:pt x="356" y="61"/>
                </a:cubicBezTo>
                <a:cubicBezTo>
                  <a:pt x="357" y="58"/>
                  <a:pt x="362" y="57"/>
                  <a:pt x="362" y="51"/>
                </a:cubicBezTo>
                <a:cubicBezTo>
                  <a:pt x="372" y="57"/>
                  <a:pt x="373" y="57"/>
                  <a:pt x="384" y="56"/>
                </a:cubicBezTo>
                <a:cubicBezTo>
                  <a:pt x="386" y="47"/>
                  <a:pt x="388" y="39"/>
                  <a:pt x="390" y="30"/>
                </a:cubicBezTo>
                <a:cubicBezTo>
                  <a:pt x="401" y="23"/>
                  <a:pt x="400" y="42"/>
                  <a:pt x="409" y="46"/>
                </a:cubicBezTo>
                <a:cubicBezTo>
                  <a:pt x="416" y="47"/>
                  <a:pt x="422" y="49"/>
                  <a:pt x="428" y="50"/>
                </a:cubicBezTo>
                <a:cubicBezTo>
                  <a:pt x="427" y="58"/>
                  <a:pt x="441" y="56"/>
                  <a:pt x="440" y="64"/>
                </a:cubicBezTo>
                <a:cubicBezTo>
                  <a:pt x="447" y="65"/>
                  <a:pt x="450" y="60"/>
                  <a:pt x="451" y="51"/>
                </a:cubicBezTo>
                <a:cubicBezTo>
                  <a:pt x="452" y="53"/>
                  <a:pt x="452" y="53"/>
                  <a:pt x="452" y="53"/>
                </a:cubicBezTo>
                <a:cubicBezTo>
                  <a:pt x="454" y="52"/>
                  <a:pt x="454" y="52"/>
                  <a:pt x="454" y="52"/>
                </a:cubicBezTo>
                <a:cubicBezTo>
                  <a:pt x="456" y="52"/>
                  <a:pt x="457" y="52"/>
                  <a:pt x="458" y="53"/>
                </a:cubicBezTo>
                <a:cubicBezTo>
                  <a:pt x="471" y="48"/>
                  <a:pt x="465" y="35"/>
                  <a:pt x="468" y="24"/>
                </a:cubicBezTo>
                <a:cubicBezTo>
                  <a:pt x="470" y="16"/>
                  <a:pt x="475" y="11"/>
                  <a:pt x="477" y="3"/>
                </a:cubicBezTo>
                <a:cubicBezTo>
                  <a:pt x="480" y="3"/>
                  <a:pt x="480" y="3"/>
                  <a:pt x="480" y="3"/>
                </a:cubicBezTo>
                <a:cubicBezTo>
                  <a:pt x="481" y="0"/>
                  <a:pt x="481" y="0"/>
                  <a:pt x="481" y="0"/>
                </a:cubicBezTo>
                <a:cubicBezTo>
                  <a:pt x="485" y="1"/>
                  <a:pt x="483" y="7"/>
                  <a:pt x="482" y="12"/>
                </a:cubicBezTo>
                <a:cubicBezTo>
                  <a:pt x="480" y="23"/>
                  <a:pt x="500" y="19"/>
                  <a:pt x="498" y="30"/>
                </a:cubicBezTo>
                <a:cubicBezTo>
                  <a:pt x="509" y="31"/>
                  <a:pt x="505" y="42"/>
                  <a:pt x="514" y="45"/>
                </a:cubicBezTo>
                <a:cubicBezTo>
                  <a:pt x="526" y="47"/>
                  <a:pt x="543" y="55"/>
                  <a:pt x="551" y="50"/>
                </a:cubicBezTo>
                <a:cubicBezTo>
                  <a:pt x="552" y="46"/>
                  <a:pt x="553" y="42"/>
                  <a:pt x="554" y="39"/>
                </a:cubicBezTo>
                <a:cubicBezTo>
                  <a:pt x="555" y="41"/>
                  <a:pt x="555" y="41"/>
                  <a:pt x="555" y="41"/>
                </a:cubicBezTo>
                <a:cubicBezTo>
                  <a:pt x="557" y="39"/>
                  <a:pt x="557" y="39"/>
                  <a:pt x="557" y="39"/>
                </a:cubicBezTo>
                <a:cubicBezTo>
                  <a:pt x="567" y="33"/>
                  <a:pt x="569" y="42"/>
                  <a:pt x="575" y="47"/>
                </a:cubicBezTo>
                <a:cubicBezTo>
                  <a:pt x="586" y="48"/>
                  <a:pt x="587" y="33"/>
                  <a:pt x="597" y="33"/>
                </a:cubicBezTo>
                <a:cubicBezTo>
                  <a:pt x="602" y="22"/>
                  <a:pt x="593" y="20"/>
                  <a:pt x="598" y="10"/>
                </a:cubicBezTo>
                <a:cubicBezTo>
                  <a:pt x="608" y="17"/>
                  <a:pt x="613" y="28"/>
                  <a:pt x="606" y="46"/>
                </a:cubicBezTo>
                <a:cubicBezTo>
                  <a:pt x="613" y="48"/>
                  <a:pt x="621" y="49"/>
                  <a:pt x="628" y="51"/>
                </a:cubicBezTo>
                <a:cubicBezTo>
                  <a:pt x="629" y="54"/>
                  <a:pt x="630" y="58"/>
                  <a:pt x="634" y="60"/>
                </a:cubicBezTo>
                <a:cubicBezTo>
                  <a:pt x="632" y="64"/>
                  <a:pt x="633" y="66"/>
                  <a:pt x="636" y="68"/>
                </a:cubicBezTo>
                <a:cubicBezTo>
                  <a:pt x="633" y="77"/>
                  <a:pt x="632" y="85"/>
                  <a:pt x="635" y="91"/>
                </a:cubicBezTo>
                <a:cubicBezTo>
                  <a:pt x="649" y="95"/>
                  <a:pt x="649" y="77"/>
                  <a:pt x="664" y="82"/>
                </a:cubicBezTo>
                <a:cubicBezTo>
                  <a:pt x="667" y="91"/>
                  <a:pt x="667" y="92"/>
                  <a:pt x="664" y="101"/>
                </a:cubicBezTo>
                <a:cubicBezTo>
                  <a:pt x="662" y="105"/>
                  <a:pt x="660" y="109"/>
                  <a:pt x="657" y="111"/>
                </a:cubicBezTo>
                <a:cubicBezTo>
                  <a:pt x="657" y="111"/>
                  <a:pt x="654" y="110"/>
                  <a:pt x="654" y="110"/>
                </a:cubicBezTo>
                <a:cubicBezTo>
                  <a:pt x="653" y="113"/>
                  <a:pt x="656" y="115"/>
                  <a:pt x="656" y="118"/>
                </a:cubicBezTo>
                <a:cubicBezTo>
                  <a:pt x="656" y="123"/>
                  <a:pt x="651" y="132"/>
                  <a:pt x="656" y="138"/>
                </a:cubicBezTo>
                <a:cubicBezTo>
                  <a:pt x="676" y="145"/>
                  <a:pt x="681" y="129"/>
                  <a:pt x="702" y="136"/>
                </a:cubicBezTo>
                <a:cubicBezTo>
                  <a:pt x="705" y="149"/>
                  <a:pt x="700" y="149"/>
                  <a:pt x="697" y="162"/>
                </a:cubicBezTo>
                <a:cubicBezTo>
                  <a:pt x="688" y="161"/>
                  <a:pt x="686" y="171"/>
                  <a:pt x="679" y="173"/>
                </a:cubicBezTo>
                <a:cubicBezTo>
                  <a:pt x="680" y="188"/>
                  <a:pt x="701" y="191"/>
                  <a:pt x="703" y="206"/>
                </a:cubicBezTo>
                <a:cubicBezTo>
                  <a:pt x="703" y="215"/>
                  <a:pt x="695" y="218"/>
                  <a:pt x="691" y="222"/>
                </a:cubicBezTo>
                <a:cubicBezTo>
                  <a:pt x="690" y="224"/>
                  <a:pt x="691" y="229"/>
                  <a:pt x="690" y="230"/>
                </a:cubicBezTo>
                <a:cubicBezTo>
                  <a:pt x="686" y="231"/>
                  <a:pt x="682" y="231"/>
                  <a:pt x="681" y="235"/>
                </a:cubicBezTo>
                <a:cubicBezTo>
                  <a:pt x="682" y="247"/>
                  <a:pt x="697" y="238"/>
                  <a:pt x="703" y="240"/>
                </a:cubicBezTo>
                <a:cubicBezTo>
                  <a:pt x="703" y="255"/>
                  <a:pt x="684" y="241"/>
                  <a:pt x="684" y="256"/>
                </a:cubicBezTo>
                <a:cubicBezTo>
                  <a:pt x="683" y="259"/>
                  <a:pt x="688" y="259"/>
                  <a:pt x="691" y="261"/>
                </a:cubicBezTo>
                <a:cubicBezTo>
                  <a:pt x="688" y="262"/>
                  <a:pt x="688" y="262"/>
                  <a:pt x="688" y="262"/>
                </a:cubicBezTo>
                <a:cubicBezTo>
                  <a:pt x="690" y="264"/>
                  <a:pt x="690" y="264"/>
                  <a:pt x="690" y="264"/>
                </a:cubicBezTo>
                <a:cubicBezTo>
                  <a:pt x="690" y="266"/>
                  <a:pt x="689" y="267"/>
                  <a:pt x="689" y="268"/>
                </a:cubicBezTo>
                <a:cubicBezTo>
                  <a:pt x="691" y="271"/>
                  <a:pt x="698" y="276"/>
                  <a:pt x="700" y="271"/>
                </a:cubicBezTo>
                <a:cubicBezTo>
                  <a:pt x="697" y="271"/>
                  <a:pt x="697" y="268"/>
                  <a:pt x="697" y="266"/>
                </a:cubicBezTo>
                <a:cubicBezTo>
                  <a:pt x="698" y="262"/>
                  <a:pt x="698" y="262"/>
                  <a:pt x="698" y="262"/>
                </a:cubicBezTo>
                <a:cubicBezTo>
                  <a:pt x="694" y="262"/>
                  <a:pt x="694" y="262"/>
                  <a:pt x="694" y="262"/>
                </a:cubicBezTo>
                <a:cubicBezTo>
                  <a:pt x="694" y="253"/>
                  <a:pt x="705" y="258"/>
                  <a:pt x="711" y="257"/>
                </a:cubicBezTo>
                <a:cubicBezTo>
                  <a:pt x="712" y="257"/>
                  <a:pt x="711" y="254"/>
                  <a:pt x="715" y="254"/>
                </a:cubicBezTo>
                <a:cubicBezTo>
                  <a:pt x="723" y="256"/>
                  <a:pt x="741" y="250"/>
                  <a:pt x="752" y="262"/>
                </a:cubicBezTo>
                <a:cubicBezTo>
                  <a:pt x="746" y="281"/>
                  <a:pt x="725" y="277"/>
                  <a:pt x="704" y="271"/>
                </a:cubicBezTo>
                <a:cubicBezTo>
                  <a:pt x="705" y="282"/>
                  <a:pt x="721" y="284"/>
                  <a:pt x="731" y="289"/>
                </a:cubicBezTo>
                <a:cubicBezTo>
                  <a:pt x="735" y="290"/>
                  <a:pt x="734" y="284"/>
                  <a:pt x="736" y="282"/>
                </a:cubicBezTo>
                <a:cubicBezTo>
                  <a:pt x="738" y="280"/>
                  <a:pt x="742" y="282"/>
                  <a:pt x="744" y="280"/>
                </a:cubicBezTo>
                <a:cubicBezTo>
                  <a:pt x="747" y="278"/>
                  <a:pt x="745" y="276"/>
                  <a:pt x="749" y="277"/>
                </a:cubicBezTo>
                <a:cubicBezTo>
                  <a:pt x="753" y="278"/>
                  <a:pt x="753" y="271"/>
                  <a:pt x="755" y="267"/>
                </a:cubicBezTo>
                <a:cubicBezTo>
                  <a:pt x="763" y="267"/>
                  <a:pt x="762" y="274"/>
                  <a:pt x="764" y="277"/>
                </a:cubicBezTo>
                <a:cubicBezTo>
                  <a:pt x="767" y="280"/>
                  <a:pt x="773" y="281"/>
                  <a:pt x="774" y="286"/>
                </a:cubicBezTo>
                <a:cubicBezTo>
                  <a:pt x="781" y="282"/>
                  <a:pt x="790" y="285"/>
                  <a:pt x="797" y="284"/>
                </a:cubicBezTo>
                <a:cubicBezTo>
                  <a:pt x="806" y="283"/>
                  <a:pt x="813" y="281"/>
                  <a:pt x="821" y="281"/>
                </a:cubicBezTo>
                <a:cubicBezTo>
                  <a:pt x="826" y="290"/>
                  <a:pt x="825" y="302"/>
                  <a:pt x="830" y="310"/>
                </a:cubicBezTo>
                <a:cubicBezTo>
                  <a:pt x="845" y="311"/>
                  <a:pt x="843" y="323"/>
                  <a:pt x="858" y="324"/>
                </a:cubicBezTo>
                <a:cubicBezTo>
                  <a:pt x="852" y="345"/>
                  <a:pt x="860" y="357"/>
                  <a:pt x="868" y="368"/>
                </a:cubicBezTo>
                <a:cubicBezTo>
                  <a:pt x="862" y="391"/>
                  <a:pt x="873" y="403"/>
                  <a:pt x="871" y="423"/>
                </a:cubicBezTo>
                <a:cubicBezTo>
                  <a:pt x="869" y="436"/>
                  <a:pt x="856" y="433"/>
                  <a:pt x="852" y="442"/>
                </a:cubicBezTo>
                <a:cubicBezTo>
                  <a:pt x="855" y="456"/>
                  <a:pt x="881" y="455"/>
                  <a:pt x="876" y="474"/>
                </a:cubicBezTo>
                <a:cubicBezTo>
                  <a:pt x="870" y="476"/>
                  <a:pt x="868" y="479"/>
                  <a:pt x="860" y="478"/>
                </a:cubicBezTo>
                <a:cubicBezTo>
                  <a:pt x="853" y="478"/>
                  <a:pt x="847" y="475"/>
                  <a:pt x="841" y="474"/>
                </a:cubicBezTo>
                <a:cubicBezTo>
                  <a:pt x="836" y="487"/>
                  <a:pt x="853" y="483"/>
                  <a:pt x="858" y="486"/>
                </a:cubicBezTo>
                <a:cubicBezTo>
                  <a:pt x="859" y="487"/>
                  <a:pt x="857" y="489"/>
                  <a:pt x="861" y="490"/>
                </a:cubicBezTo>
                <a:cubicBezTo>
                  <a:pt x="867" y="492"/>
                  <a:pt x="864" y="502"/>
                  <a:pt x="878" y="501"/>
                </a:cubicBezTo>
                <a:cubicBezTo>
                  <a:pt x="876" y="509"/>
                  <a:pt x="887" y="508"/>
                  <a:pt x="882" y="518"/>
                </a:cubicBezTo>
                <a:cubicBezTo>
                  <a:pt x="890" y="517"/>
                  <a:pt x="889" y="525"/>
                  <a:pt x="891" y="528"/>
                </a:cubicBezTo>
                <a:cubicBezTo>
                  <a:pt x="898" y="533"/>
                  <a:pt x="911" y="533"/>
                  <a:pt x="911" y="543"/>
                </a:cubicBezTo>
                <a:cubicBezTo>
                  <a:pt x="917" y="545"/>
                  <a:pt x="918" y="542"/>
                  <a:pt x="923" y="542"/>
                </a:cubicBezTo>
                <a:cubicBezTo>
                  <a:pt x="927" y="543"/>
                  <a:pt x="924" y="546"/>
                  <a:pt x="926" y="547"/>
                </a:cubicBezTo>
                <a:cubicBezTo>
                  <a:pt x="930" y="548"/>
                  <a:pt x="929" y="544"/>
                  <a:pt x="930" y="544"/>
                </a:cubicBezTo>
                <a:cubicBezTo>
                  <a:pt x="937" y="544"/>
                  <a:pt x="952" y="552"/>
                  <a:pt x="957" y="546"/>
                </a:cubicBezTo>
                <a:cubicBezTo>
                  <a:pt x="968" y="554"/>
                  <a:pt x="948" y="555"/>
                  <a:pt x="946" y="562"/>
                </a:cubicBezTo>
                <a:cubicBezTo>
                  <a:pt x="945" y="565"/>
                  <a:pt x="939" y="567"/>
                  <a:pt x="939" y="573"/>
                </a:cubicBezTo>
                <a:cubicBezTo>
                  <a:pt x="939" y="584"/>
                  <a:pt x="944" y="591"/>
                  <a:pt x="954" y="595"/>
                </a:cubicBezTo>
                <a:cubicBezTo>
                  <a:pt x="952" y="596"/>
                  <a:pt x="952" y="596"/>
                  <a:pt x="952" y="596"/>
                </a:cubicBezTo>
                <a:cubicBezTo>
                  <a:pt x="953" y="599"/>
                  <a:pt x="953" y="599"/>
                  <a:pt x="953" y="599"/>
                </a:cubicBezTo>
                <a:cubicBezTo>
                  <a:pt x="955" y="601"/>
                  <a:pt x="949" y="602"/>
                  <a:pt x="949" y="602"/>
                </a:cubicBezTo>
                <a:cubicBezTo>
                  <a:pt x="952" y="613"/>
                  <a:pt x="969" y="624"/>
                  <a:pt x="981" y="632"/>
                </a:cubicBezTo>
                <a:cubicBezTo>
                  <a:pt x="983" y="635"/>
                  <a:pt x="990" y="636"/>
                  <a:pt x="990" y="641"/>
                </a:cubicBezTo>
                <a:cubicBezTo>
                  <a:pt x="989" y="644"/>
                  <a:pt x="990" y="647"/>
                  <a:pt x="989" y="649"/>
                </a:cubicBezTo>
                <a:cubicBezTo>
                  <a:pt x="987" y="653"/>
                  <a:pt x="983" y="653"/>
                  <a:pt x="980" y="654"/>
                </a:cubicBezTo>
                <a:cubicBezTo>
                  <a:pt x="974" y="657"/>
                  <a:pt x="972" y="654"/>
                  <a:pt x="960" y="654"/>
                </a:cubicBezTo>
                <a:cubicBezTo>
                  <a:pt x="957" y="654"/>
                  <a:pt x="956" y="657"/>
                  <a:pt x="952" y="656"/>
                </a:cubicBezTo>
                <a:cubicBezTo>
                  <a:pt x="947" y="656"/>
                  <a:pt x="942" y="653"/>
                  <a:pt x="938" y="653"/>
                </a:cubicBezTo>
                <a:cubicBezTo>
                  <a:pt x="933" y="653"/>
                  <a:pt x="935" y="656"/>
                  <a:pt x="933" y="656"/>
                </a:cubicBezTo>
                <a:cubicBezTo>
                  <a:pt x="931" y="656"/>
                  <a:pt x="928" y="654"/>
                  <a:pt x="926" y="654"/>
                </a:cubicBezTo>
                <a:cubicBezTo>
                  <a:pt x="921" y="656"/>
                  <a:pt x="920" y="658"/>
                  <a:pt x="917" y="660"/>
                </a:cubicBezTo>
                <a:cubicBezTo>
                  <a:pt x="914" y="662"/>
                  <a:pt x="909" y="661"/>
                  <a:pt x="908" y="666"/>
                </a:cubicBezTo>
                <a:cubicBezTo>
                  <a:pt x="907" y="670"/>
                  <a:pt x="904" y="667"/>
                  <a:pt x="903" y="669"/>
                </a:cubicBezTo>
                <a:cubicBezTo>
                  <a:pt x="899" y="676"/>
                  <a:pt x="904" y="687"/>
                  <a:pt x="893" y="698"/>
                </a:cubicBezTo>
                <a:cubicBezTo>
                  <a:pt x="894" y="706"/>
                  <a:pt x="898" y="714"/>
                  <a:pt x="895" y="725"/>
                </a:cubicBezTo>
                <a:cubicBezTo>
                  <a:pt x="888" y="729"/>
                  <a:pt x="888" y="728"/>
                  <a:pt x="875" y="728"/>
                </a:cubicBezTo>
                <a:cubicBezTo>
                  <a:pt x="867" y="728"/>
                  <a:pt x="861" y="724"/>
                  <a:pt x="856" y="728"/>
                </a:cubicBezTo>
                <a:cubicBezTo>
                  <a:pt x="858" y="742"/>
                  <a:pt x="881" y="743"/>
                  <a:pt x="880" y="760"/>
                </a:cubicBezTo>
                <a:cubicBezTo>
                  <a:pt x="878" y="770"/>
                  <a:pt x="868" y="772"/>
                  <a:pt x="861" y="775"/>
                </a:cubicBezTo>
                <a:cubicBezTo>
                  <a:pt x="857" y="777"/>
                  <a:pt x="853" y="775"/>
                  <a:pt x="849" y="777"/>
                </a:cubicBezTo>
                <a:cubicBezTo>
                  <a:pt x="846" y="778"/>
                  <a:pt x="845" y="784"/>
                  <a:pt x="840" y="782"/>
                </a:cubicBezTo>
                <a:cubicBezTo>
                  <a:pt x="839" y="789"/>
                  <a:pt x="838" y="795"/>
                  <a:pt x="836" y="801"/>
                </a:cubicBezTo>
                <a:cubicBezTo>
                  <a:pt x="825" y="797"/>
                  <a:pt x="824" y="808"/>
                  <a:pt x="818" y="812"/>
                </a:cubicBezTo>
                <a:cubicBezTo>
                  <a:pt x="821" y="817"/>
                  <a:pt x="819" y="823"/>
                  <a:pt x="823" y="829"/>
                </a:cubicBezTo>
                <a:cubicBezTo>
                  <a:pt x="825" y="833"/>
                  <a:pt x="834" y="832"/>
                  <a:pt x="832" y="838"/>
                </a:cubicBezTo>
                <a:cubicBezTo>
                  <a:pt x="841" y="840"/>
                  <a:pt x="849" y="842"/>
                  <a:pt x="858" y="844"/>
                </a:cubicBezTo>
                <a:cubicBezTo>
                  <a:pt x="857" y="853"/>
                  <a:pt x="869" y="854"/>
                  <a:pt x="865" y="865"/>
                </a:cubicBezTo>
                <a:cubicBezTo>
                  <a:pt x="845" y="861"/>
                  <a:pt x="838" y="844"/>
                  <a:pt x="821" y="855"/>
                </a:cubicBezTo>
                <a:cubicBezTo>
                  <a:pt x="820" y="858"/>
                  <a:pt x="820" y="860"/>
                  <a:pt x="819" y="863"/>
                </a:cubicBezTo>
                <a:cubicBezTo>
                  <a:pt x="815" y="862"/>
                  <a:pt x="815" y="862"/>
                  <a:pt x="815" y="862"/>
                </a:cubicBezTo>
                <a:cubicBezTo>
                  <a:pt x="815" y="866"/>
                  <a:pt x="815" y="866"/>
                  <a:pt x="815" y="866"/>
                </a:cubicBezTo>
                <a:cubicBezTo>
                  <a:pt x="811" y="866"/>
                  <a:pt x="813" y="863"/>
                  <a:pt x="812" y="861"/>
                </a:cubicBezTo>
                <a:cubicBezTo>
                  <a:pt x="810" y="856"/>
                  <a:pt x="806" y="844"/>
                  <a:pt x="788" y="844"/>
                </a:cubicBezTo>
                <a:cubicBezTo>
                  <a:pt x="787" y="845"/>
                  <a:pt x="787" y="848"/>
                  <a:pt x="784" y="847"/>
                </a:cubicBezTo>
                <a:cubicBezTo>
                  <a:pt x="771" y="845"/>
                  <a:pt x="753" y="864"/>
                  <a:pt x="750" y="879"/>
                </a:cubicBezTo>
                <a:cubicBezTo>
                  <a:pt x="746" y="877"/>
                  <a:pt x="743" y="878"/>
                  <a:pt x="742" y="881"/>
                </a:cubicBezTo>
                <a:cubicBezTo>
                  <a:pt x="737" y="885"/>
                  <a:pt x="731" y="877"/>
                  <a:pt x="724" y="877"/>
                </a:cubicBezTo>
                <a:cubicBezTo>
                  <a:pt x="720" y="877"/>
                  <a:pt x="717" y="881"/>
                  <a:pt x="712" y="878"/>
                </a:cubicBezTo>
                <a:cubicBezTo>
                  <a:pt x="701" y="883"/>
                  <a:pt x="697" y="897"/>
                  <a:pt x="684" y="899"/>
                </a:cubicBezTo>
                <a:cubicBezTo>
                  <a:pt x="684" y="904"/>
                  <a:pt x="682" y="905"/>
                  <a:pt x="679" y="906"/>
                </a:cubicBezTo>
                <a:cubicBezTo>
                  <a:pt x="677" y="912"/>
                  <a:pt x="676" y="918"/>
                  <a:pt x="675" y="924"/>
                </a:cubicBezTo>
                <a:cubicBezTo>
                  <a:pt x="660" y="915"/>
                  <a:pt x="652" y="918"/>
                  <a:pt x="637" y="920"/>
                </a:cubicBezTo>
                <a:cubicBezTo>
                  <a:pt x="635" y="914"/>
                  <a:pt x="629" y="910"/>
                  <a:pt x="625" y="906"/>
                </a:cubicBezTo>
                <a:cubicBezTo>
                  <a:pt x="614" y="903"/>
                  <a:pt x="603" y="901"/>
                  <a:pt x="592" y="898"/>
                </a:cubicBezTo>
                <a:cubicBezTo>
                  <a:pt x="587" y="890"/>
                  <a:pt x="592" y="875"/>
                  <a:pt x="578" y="872"/>
                </a:cubicBezTo>
                <a:cubicBezTo>
                  <a:pt x="569" y="868"/>
                  <a:pt x="569" y="878"/>
                  <a:pt x="565" y="881"/>
                </a:cubicBezTo>
                <a:cubicBezTo>
                  <a:pt x="560" y="883"/>
                  <a:pt x="552" y="883"/>
                  <a:pt x="548" y="885"/>
                </a:cubicBezTo>
                <a:cubicBezTo>
                  <a:pt x="547" y="886"/>
                  <a:pt x="548" y="892"/>
                  <a:pt x="547" y="893"/>
                </a:cubicBezTo>
                <a:cubicBezTo>
                  <a:pt x="546" y="893"/>
                  <a:pt x="544" y="891"/>
                  <a:pt x="543" y="892"/>
                </a:cubicBezTo>
                <a:cubicBezTo>
                  <a:pt x="542" y="892"/>
                  <a:pt x="543" y="895"/>
                  <a:pt x="542" y="896"/>
                </a:cubicBezTo>
                <a:cubicBezTo>
                  <a:pt x="542" y="896"/>
                  <a:pt x="539" y="894"/>
                  <a:pt x="539" y="895"/>
                </a:cubicBezTo>
                <a:cubicBezTo>
                  <a:pt x="533" y="900"/>
                  <a:pt x="538" y="908"/>
                  <a:pt x="531" y="912"/>
                </a:cubicBezTo>
                <a:cubicBezTo>
                  <a:pt x="528" y="914"/>
                  <a:pt x="529" y="913"/>
                  <a:pt x="526" y="915"/>
                </a:cubicBezTo>
                <a:cubicBezTo>
                  <a:pt x="524" y="917"/>
                  <a:pt x="523" y="919"/>
                  <a:pt x="521" y="922"/>
                </a:cubicBezTo>
                <a:cubicBezTo>
                  <a:pt x="519" y="937"/>
                  <a:pt x="529" y="957"/>
                  <a:pt x="515" y="970"/>
                </a:cubicBezTo>
                <a:cubicBezTo>
                  <a:pt x="503" y="962"/>
                  <a:pt x="507" y="943"/>
                  <a:pt x="504" y="930"/>
                </a:cubicBezTo>
                <a:cubicBezTo>
                  <a:pt x="501" y="927"/>
                  <a:pt x="487" y="929"/>
                  <a:pt x="486" y="926"/>
                </a:cubicBezTo>
                <a:cubicBezTo>
                  <a:pt x="486" y="925"/>
                  <a:pt x="487" y="922"/>
                  <a:pt x="486" y="922"/>
                </a:cubicBezTo>
                <a:cubicBezTo>
                  <a:pt x="478" y="921"/>
                  <a:pt x="469" y="933"/>
                  <a:pt x="464" y="921"/>
                </a:cubicBezTo>
                <a:cubicBezTo>
                  <a:pt x="458" y="921"/>
                  <a:pt x="456" y="926"/>
                  <a:pt x="451" y="926"/>
                </a:cubicBezTo>
                <a:cubicBezTo>
                  <a:pt x="444" y="933"/>
                  <a:pt x="441" y="930"/>
                  <a:pt x="432" y="926"/>
                </a:cubicBezTo>
                <a:cubicBezTo>
                  <a:pt x="420" y="921"/>
                  <a:pt x="426" y="944"/>
                  <a:pt x="414" y="937"/>
                </a:cubicBezTo>
                <a:cubicBezTo>
                  <a:pt x="411" y="928"/>
                  <a:pt x="412" y="915"/>
                  <a:pt x="409" y="905"/>
                </a:cubicBezTo>
                <a:cubicBezTo>
                  <a:pt x="396" y="903"/>
                  <a:pt x="389" y="910"/>
                  <a:pt x="383" y="919"/>
                </a:cubicBezTo>
                <a:cubicBezTo>
                  <a:pt x="382" y="917"/>
                  <a:pt x="382" y="917"/>
                  <a:pt x="382" y="917"/>
                </a:cubicBezTo>
                <a:lnTo>
                  <a:pt x="379" y="918"/>
                </a:ln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010320" y="1763640"/>
            <a:ext cx="19814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2"/>
          <p:cNvSpPr/>
          <p:nvPr/>
        </p:nvSpPr>
        <p:spPr>
          <a:xfrm flipH="1" rot="16446000">
            <a:off x="4462200" y="1807200"/>
            <a:ext cx="39600" cy="162000"/>
          </a:xfrm>
          <a:custGeom>
            <a:avLst/>
            <a:gdLst>
              <a:gd name="textAreaLeft" fmla="*/ 360 w 39600"/>
              <a:gd name="textAreaRight" fmla="*/ 40320 w 396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2"/>
          <p:cNvSpPr/>
          <p:nvPr/>
        </p:nvSpPr>
        <p:spPr>
          <a:xfrm flipH="1" rot="18085800">
            <a:off x="4411080" y="1228680"/>
            <a:ext cx="95400" cy="218880"/>
          </a:xfrm>
          <a:custGeom>
            <a:avLst/>
            <a:gdLst>
              <a:gd name="textAreaLeft" fmla="*/ -360 w 95400"/>
              <a:gd name="textAreaRight" fmla="*/ 95400 w 954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076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9400"/>
            <a:ext cx="7110360" cy="45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600" y="999720"/>
            <a:ext cx="7734240" cy="41101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311880" y="262080"/>
            <a:ext cx="120492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9D2-48DD-44AF-B34A-03F2CEF61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06:22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