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16.gif" ContentType="image/gif"/>
  <Override PartName="/ppt/media/image2.png" ContentType="image/png"/>
  <Override PartName="/ppt/media/image15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3C2-DB66-4602-AB4C-169545F3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98F-4874-40D7-9AEB-1AECC8C2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CF1-0069-4754-8BC9-0A60A7AE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DCE-1EB2-45DC-B3C7-003685DD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E235-CD04-49A4-8812-8BB6B53F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6717-7DA1-45F9-9BD8-2B0D0982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81A0-F50C-45A5-AFD2-EA0A5725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AE65-AFF1-47CD-A7B3-869D8705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B501-1EF5-42C8-B7AA-A554EECD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3B90-A3D9-4610-AEB4-E26A045C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3F02-55D8-4247-AC2C-6772381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378-11B2-4072-AFBF-CB995326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69B0-82A0-4573-A342-D749201A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AFC9-7AB5-45EF-A4C2-7EC4FB5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F5A9-725E-4496-A1B7-8A0C1546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8BF0-D459-4DC7-ACA9-AD0B0C1A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8902-8BE7-4299-933F-CD4E6070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445-411B-4116-898A-50F5D2B5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C3E-5E84-4DD8-825D-3EB95978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0E2-E838-45BC-8941-D81BB637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22E-812D-40DE-9F35-47B632E0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3DF-4BF0-45AB-9B29-81AD706B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BF0-DAB3-4DD4-ADF6-8B64585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983-4ACC-42E6-BE42-01A96A29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9B45-1F89-40B6-973C-28951B7094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68B8-691F-4D20-A361-73ACDCBD08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背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0" y="404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24000" y="62064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ound(1).mp3" descr=""/>
          <p:cNvPicPr/>
          <p:nvPr/>
        </p:nvPicPr>
        <p:blipFill>
          <a:blip r:embed="rId2"/>
          <a:stretch/>
        </p:blipFill>
        <p:spPr>
          <a:xfrm>
            <a:off x="7667640" y="5229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2495160" y="6332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望洞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943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200710291741930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2008113000082356787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dth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63ddb2fa4eab7ca29f5146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背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869760" y="762480"/>
            <a:ext cx="74044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望洞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唐  白居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湖光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月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潭面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风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镜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遥望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洞庭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水色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银盘里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flower-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图片2"/>
          <p:cNvPicPr/>
          <p:nvPr/>
        </p:nvPicPr>
        <p:blipFill>
          <a:blip r:embed="rId2"/>
          <a:stretch/>
        </p:blipFill>
        <p:spPr>
          <a:xfrm>
            <a:off x="6659640" y="189000"/>
            <a:ext cx="1944720" cy="1297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95280" y="33336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理解诗意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11280" y="134136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湖光秋月两相和，潭面无风镜未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9640" y="378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遥望洞庭山水色，白银盘里一青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11280" y="198900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思是： 秋夜皎洁明月的清光与清澈明净的湖水交相辉映，融为一体。因为没有风，湖面平静的像一面平滑的镜子，没有一丝波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39640" y="440388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意思是：在皓月银辉直下，洞庭山愈显青翠，洞庭水愈显清澈，山水浑然一体，远远望去，如同一个白色的盘子里放了一颗小巧玲珑的青螺，十分惹人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92360" y="765000"/>
            <a:ext cx="540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岳阳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杜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昔闻洞庭水，今上岳阳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吴楚东南坼，乾坤日夜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亲朋无一字，老病有孤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戎马关山北，凭轩涕泗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692360" y="1125360"/>
            <a:ext cx="6192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望洞庭湖赠张丞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浩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八月湖水平，涵虚混太清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蒸云梦泽，波撼岳阳城。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欲济无舟楫，端居耻圣明。 　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坐观垂钓者，徒有羡鱼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flower-221"/>
          <p:cNvPicPr/>
          <p:nvPr/>
        </p:nvPicPr>
        <p:blipFill>
          <a:blip r:embed="rId1"/>
          <a:stretch/>
        </p:blipFill>
        <p:spPr>
          <a:xfrm>
            <a:off x="-322200" y="0"/>
            <a:ext cx="91422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5"/>
          <p:cNvSpPr/>
          <p:nvPr/>
        </p:nvSpPr>
        <p:spPr>
          <a:xfrm>
            <a:off x="2556000" y="2781360"/>
            <a:ext cx="990360" cy="685800"/>
          </a:xfrm>
          <a:prstGeom prst="wedgeRoundRectCallout">
            <a:avLst>
              <a:gd name="adj1" fmla="val -36537"/>
              <a:gd name="adj2" fmla="val 5671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 rot="5400000">
            <a:off x="-937800" y="1593000"/>
            <a:ext cx="352908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作业小超市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087640" y="981000"/>
            <a:ext cx="705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能有感情的古诗《望洞庭》背给家              长或小伙伴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可以把古诗《望洞庭》默写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能把古诗《望洞庭》的意思讲一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还可以把古诗《菊花》和《枫桥夜泊》读熟，试着背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9"/>
          <p:cNvSpPr/>
          <p:nvPr/>
        </p:nvSpPr>
        <p:spPr>
          <a:xfrm>
            <a:off x="4716360" y="220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00882972210988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0" y="8366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洞庭湖在湖南省北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江南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中国第二大淡水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梦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跨湘鄂两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北连长江、南接湘、资、沅、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百里洞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水面被分割为东洞庭湖、南洞庭湖、西洞庭湖三部分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洞庭湖的风光极为秀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景点都是国家级的风景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岳阳楼、君山、杜甫墓、杨么寨、铁经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屈子祠、跃龙塔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积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公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4000" y="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洞庭湖概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shi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背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刘禹锡（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77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84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，字梦得，唐代诗人，被白居易称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诗豪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他的许多作品，立意新颖，思想深刻；七言绝句受到民歌的启发，写得明快清新，富有生活气息和地方色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刘锡禹"/>
          <p:cNvPicPr/>
          <p:nvPr/>
        </p:nvPicPr>
        <p:blipFill>
          <a:blip r:embed="rId2"/>
          <a:stretch/>
        </p:blipFill>
        <p:spPr>
          <a:xfrm>
            <a:off x="6046920" y="1905120"/>
            <a:ext cx="2259000" cy="3047760"/>
          </a:xfrm>
          <a:prstGeom prst="rect">
            <a:avLst/>
          </a:prstGeom>
          <a:ln w="0">
            <a:noFill/>
          </a:ln>
        </p:spPr>
      </p:pic>
      <p:sp>
        <p:nvSpPr>
          <p:cNvPr id="99" name="WordArt 5"/>
          <p:cNvSpPr txBox="1"/>
          <p:nvPr/>
        </p:nvSpPr>
        <p:spPr>
          <a:xfrm>
            <a:off x="1116000" y="47628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背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179720" y="2420280"/>
            <a:ext cx="624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洞   潭   磨   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hi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16256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238880" cy="1724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72"/>
          <p:cNvPicPr/>
          <p:nvPr/>
        </p:nvPicPr>
        <p:blipFill>
          <a:blip r:embed="rId4"/>
          <a:stretch/>
        </p:blipFill>
        <p:spPr>
          <a:xfrm>
            <a:off x="990720" y="4114800"/>
            <a:ext cx="7238880" cy="228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背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0" y="404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4000" y="62064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-352440" y="671400"/>
            <a:ext cx="99345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洞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  白居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湖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月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潭面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风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遥望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洞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水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银盘里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螺。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132000" y="4221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7:35:09Z</dcterms:created>
  <dc:creator/>
  <dc:description/>
  <cp:keywords>幻灯片之家 http:/www.eeppt.com</cp:keywords>
  <dc:language>en-US</dc:language>
  <cp:lastModifiedBy/>
  <dcterms:modified xsi:type="dcterms:W3CDTF">2015-07-20T03:17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