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8E9-0E39-4C52-9AD8-D20FD4BF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FB4-705A-4900-8A27-44803E50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155-4C27-4DD8-9352-8FFB03D5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484-167D-4054-80AF-0B3CB436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7261-DF8B-4C44-9423-5CCE8F91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14BC-2EB2-4D42-855C-50D5E587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DB91-1463-4928-8B45-D2462142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D367-634C-43B1-A57C-E6BC891E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4835-D591-495F-8364-AC478518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1A17-A042-42C9-86C7-99553160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C047-6FC1-4045-835C-06336676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E25-C0A2-4A60-A082-7F5289AE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D08C-AA42-4C75-A7F0-1E6AA30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EFDA-DEE4-41B2-A878-E66D795E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A85A-0760-4D54-9DE2-32864A6E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32E1-C3B5-420C-867D-E0273CD2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3537-18ED-4EB1-A7EE-9466421F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1A6-D146-4AA2-BEC5-183E7EC4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C22-1FF7-407A-A83F-5D2CDE7B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639-BDB4-46B3-B7DF-84607683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3D9-532D-429E-A72A-DDD70336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C28-5F21-475D-8C74-0B9564B5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8E9-4DCE-4487-896C-6C2D8C0A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0DE-0F6D-4D00-A7DB-9689C6CF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C89F-C178-4AE7-9A98-AD930430D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4B73-638A-4FBE-AB10-85D29AB99D78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7636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a77"/>
                </a:solidFill>
                <a:latin typeface="Arial"/>
                <a:ea typeface="黑体"/>
              </a:rPr>
              <a:t> 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41320" y="4428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80c"/>
                </a:solidFill>
                <a:latin typeface="Arial"/>
              </a:rPr>
              <a:t>我的中国心</a:t>
            </a:r>
            <a:r>
              <a:rPr b="0" lang="zh-CN" sz="4000" spc="-1" strike="noStrike">
                <a:solidFill>
                  <a:srgbClr val="0c080c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c080c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11280" y="103896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早已把我的一切烙上中国印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烙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字能否换成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盖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？为什么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187280" y="2796120"/>
            <a:ext cx="70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。“烙”准确而形象地表达了海外赤子跟祖国永远无法分离的骨肉关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，而“盖”字程度远不及“烙”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755640" y="836280"/>
            <a:ext cx="80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长江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长城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黄山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黄河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借代什么？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重千斤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表现了什么？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4360" y="32630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长江”“长城”“黄山”“黄河”，都是能够代表祖国的“河山”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借代指祖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。“重千斤”把不可以斤两计算的对祖国的感情用斤两来表现了出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形象地表现祖国在海外游子心中的分量，表达强烈的爱国之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无论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何时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无论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何地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从时间和空间两个方面，充分强调祖国在人们心中无法取代的地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0000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r>
              <a:rPr b="1" lang="en-US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澎湃着中华的声音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澎湃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中华的声音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如何理解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0000" y="3050280"/>
            <a:ext cx="77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澎湃”突出声音之响，“中华的声音”突出这是来自心中的声音，这是融在血液中的声音，是海外赤子永不改变的爱国之心的表白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24000" y="96624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歌词中直抒胸臆表达对祖国一片深情不可改变的句子有哪些？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11280" y="3331440"/>
            <a:ext cx="73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可是不管怎样，也改变不了我的中国心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无论何时，无论何地，心中一样亲。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就算身在他乡，也改变不了我的中国心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黑体"/>
              </a:rPr>
              <a:t>主旨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歌词通过一位海外游子的诉说，刻画了祖国的拳拳赤子之心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07062912066656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想一想：香港为何会回到祖国的怀抱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香港回归具有十分重大的历史意义。成熟理智地总结经验的十分恰当的时间座标。从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840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鸦片战争开始，中国社会逐渐沦为半殖民地半封建社会。在中国近现代史上，中华民族饱尝了外国列强的侵略和压迫。中国的近现代史是一部屈辱的记录。其中，英国殖民者通过炮舰政策。海盗行径和不平等条约割占了香港，使之成为西方世界问鼎中华和掳掠东方财富的桥头堡。因而香港的历史命运正是中华民族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50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多年特殊遭遇的一个生动写照。今天，在中国政府和中国人民的不懈努力之下，香港回归祖国，百年的民族耻辱被洗刷，民族的神圣感情再次升华。这是香港回归历史意义的最基本的方面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香港回归历史意义的另一个方面，在于它表现了中国人民长期反对强权政治的胆识和魄力。这一时期，正是邓小平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一个国家，两种制度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和平统一，一国两制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的构想趋于成熟定型的关键时期。当邓小平提出中国政府将在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997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日收回香港，并用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一国两制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方案来解决香港问题时，素有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铁娘子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之称的撒切尔夫人闻听此言，心慌走神，在人民大会堂的台阶上险些跌了一跤。挟马岛之战胜利余威来到北京的柴契尔夫人，在会谈开始时就抛出了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三个条约继续有效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的论调，声言中国只能收回新界，而香港岛和九龙则按条约永属英国。未料，此说被中国方面当场回绝，邓小平以坚定的口吻回答：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主权问题是不可以讨论的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。第二年，英国政府推出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以主权换治权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的方案，再次遭到中国政府代表团的否定。 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840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年到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997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年这样一个极大的历史跨度，包含了中国社会和历史的丰富内容，在世界历史发展中也占有极为特殊的重要地位。这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50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多年的时间，是中国人民不断探索，逐步走向民族振兴。国家富强和社会进步的现代化目标的过程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756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只有自己足够强大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才不会让心怀不轨的人小瞧中国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希望同学们好好学习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成为祖国未来的接班人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让祖国永远繁荣昌盛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843280" y="105264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Picture 3" descr="858af5ed3491e53a62d09f93"/>
          <p:cNvPicPr/>
          <p:nvPr/>
        </p:nvPicPr>
        <p:blipFill>
          <a:blip r:embed="rId2"/>
          <a:srcRect l="0" t="0" r="0" b="-133"/>
          <a:stretch/>
        </p:blipFill>
        <p:spPr>
          <a:xfrm>
            <a:off x="0" y="0"/>
            <a:ext cx="9753480" cy="7324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-252360" y="1916280"/>
            <a:ext cx="6240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河山只在我梦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祖国已多年未亲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可是不管怎样也改变不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的中国心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洋装虽然穿在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心依然是中国心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的祖先早已把我的一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烙上中国印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700360" y="765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  <a:ea typeface="黑体"/>
              </a:rPr>
              <a:t>我的中国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411280" y="170028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ahoma"/>
              </a:rPr>
              <a:t>词：黄霑     曲：王福龄     原唱：张明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608360" y="2060640"/>
            <a:ext cx="4535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长江 长城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黄山 黄河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在我心中重千斤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无论何时  无论何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心中一样亲 流在心里的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澎湃着中华的声音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就算生在他乡也改变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的中国心</a:t>
            </a:r>
            <a:r>
              <a:rPr b="1" i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张明敏-我的中国心.mp3" descr=""/>
          <p:cNvPicPr/>
          <p:nvPr/>
        </p:nvPicPr>
        <p:blipFill>
          <a:blip r:embed="rId3"/>
          <a:stretch/>
        </p:blipFill>
        <p:spPr>
          <a:xfrm>
            <a:off x="9144000" y="6300720"/>
            <a:ext cx="557280" cy="5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00360" y="65260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166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5493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唱一唱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971640" y="1628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在品味歌词的基础上，再次聆听歌曲，会唱的同学跟着哼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700360" y="3429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的中国心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0E9-E02B-47E8-ACDD-04B468B952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843280" y="105264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Picture 3" descr="858af5ed3491e53a62d09f93"/>
          <p:cNvPicPr/>
          <p:nvPr/>
        </p:nvPicPr>
        <p:blipFill>
          <a:blip r:embed="rId2"/>
          <a:srcRect l="0" t="0" r="0" b="-133"/>
          <a:stretch/>
        </p:blipFill>
        <p:spPr>
          <a:xfrm>
            <a:off x="0" y="0"/>
            <a:ext cx="9753480" cy="732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0" y="1916280"/>
            <a:ext cx="6240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河山只在我梦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祖国已多年未亲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是不管怎样也改变不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的中国心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洋装虽然穿在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心依然是中国心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的祖先早已把我的一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烙上中国印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700360" y="765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  <a:ea typeface="黑体"/>
              </a:rPr>
              <a:t>我的中国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411280" y="170028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ahoma"/>
              </a:rPr>
              <a:t>词：黄霑     曲：王福龄     原唱：张明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32360" y="1916280"/>
            <a:ext cx="4535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长江 长城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黄山 黄河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我心中重千斤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论何时  无论何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中一样亲 流在心里的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澎湃着中华的声音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算生在他乡也改变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的中国心</a:t>
            </a:r>
            <a:r>
              <a:rPr b="1" i="1" lang="zh-CN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"/>
          <p:cNvSpPr/>
          <p:nvPr/>
        </p:nvSpPr>
        <p:spPr>
          <a:xfrm>
            <a:off x="150012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Picture 5" descr="59l"/>
          <p:cNvPicPr/>
          <p:nvPr/>
        </p:nvPicPr>
        <p:blipFill>
          <a:blip r:embed="rId2"/>
          <a:stretch/>
        </p:blipFill>
        <p:spPr>
          <a:xfrm>
            <a:off x="0" y="1125360"/>
            <a:ext cx="4284720" cy="5732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4356000" y="0"/>
            <a:ext cx="47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黄霑，原名黄湛森，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4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生于广州，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49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随父母移居香港，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63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毕业于香港大学中文系。香港著名作家、词曲作家。与金庸、倪匡、蔡澜一起被称为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香港四大才子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。又与倪匡、蔡澜一同被称为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香港三大名嘴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，写出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2000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多首歌曲，被称为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流行歌词总讲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。从事媒体工作数十年，有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鬼才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之称 。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2004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日因病逝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0920" y="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作者介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30200" y="620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80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82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下半年，日本文部省在审定中小学教科书时，公然篡改日本帝国主义侵略中国的历史，这激起了中国人民及港澳同胞极大的愤慨，黄霑和王福龄合作创作了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我的中国心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。经香港歌手张明敏演唱后，在港澳同胞中引起强烈共鸣，纷纷传唱，表达他们的爱国之情。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84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月，英国时任首相撒切尔夫人来华访问，发表了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中英联合声明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，中国政府将于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97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日收回香港主权。这一年的春节联欢晚会上，张明敏凭一曲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我的中国心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第一个参加中国中央电视台春节联欢晚会的香港演员 ，并让这首歌曲红遍祖国的大江南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歌曲简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9"/>
          <p:cNvSpPr/>
          <p:nvPr/>
        </p:nvSpPr>
        <p:spPr>
          <a:xfrm>
            <a:off x="250920" y="2060640"/>
            <a:ext cx="3960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80c"/>
                </a:solidFill>
                <a:latin typeface="黑体"/>
                <a:ea typeface="黑体"/>
              </a:rPr>
              <a:t>聆  听  歌 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80c"/>
                </a:solidFill>
                <a:latin typeface="黑体"/>
                <a:ea typeface="黑体"/>
              </a:rPr>
              <a:t>体  会  情 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80c"/>
                </a:solidFill>
                <a:latin typeface="黑体"/>
                <a:ea typeface="黑体"/>
              </a:rPr>
              <a:t>走  入  情 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435640" y="213372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80c"/>
                </a:solidFill>
                <a:latin typeface="黑体"/>
                <a:ea typeface="黑体"/>
              </a:rPr>
              <a:t>有感情的朗读歌词，品味歌词的美妙之处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211640" y="3213000"/>
            <a:ext cx="865080" cy="503280"/>
          </a:xfrm>
          <a:prstGeom prst="rightArrow">
            <a:avLst>
              <a:gd name="adj1" fmla="val 50000"/>
              <a:gd name="adj2" fmla="val 4297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c080c"/>
                </a:solidFill>
                <a:latin typeface="Arial"/>
                <a:ea typeface="黑体"/>
              </a:rPr>
              <a:t>梳理结构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海外赤子有一颗不变的中国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祖国永远在海外赤子心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海外赤子之心永远不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47640" y="2637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19280" y="4005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47640" y="566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17928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深入探究歌词，回答有关问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68360" y="170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、歌曲中反复吟唱的主题词是什么？如何理解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84360" y="3213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歌词中反复吟唱的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国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也就是海外游子心中永远装着祖国，永远念着祖国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39640" y="62064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、这首歌以什么样的身份来吟唱？从哪些地方可以看出来？</a:t>
            </a:r>
            <a:r>
              <a:rPr b="0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9640" y="1916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海外游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河山只在我梦萦，祖国已多年未亲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 离开祖国已不知多少年，有的甚至从未踏上过祖国的河山。可是不管离开了多少年，哪怕从未见过，而梦里都是祖国山河的影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梦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年未亲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点明了游子的身份，包含着深深地思念和遗憾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80c"/>
                </a:solidFill>
                <a:latin typeface="Arial"/>
                <a:ea typeface="黑体"/>
              </a:rPr>
              <a:t>洋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虽然</a:t>
            </a:r>
            <a:r>
              <a:rPr b="1" lang="zh-CN" sz="4000" spc="-1" strike="noStrike">
                <a:solidFill>
                  <a:srgbClr val="0c080c"/>
                </a:solidFill>
                <a:latin typeface="Arial"/>
                <a:ea typeface="黑体"/>
              </a:rPr>
              <a:t>穿在身，我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依然</a:t>
            </a:r>
            <a:r>
              <a:rPr b="1" lang="zh-CN" sz="4000" spc="-1" strike="noStrike">
                <a:solidFill>
                  <a:srgbClr val="0c080c"/>
                </a:solidFill>
                <a:latin typeface="Arial"/>
                <a:ea typeface="黑体"/>
              </a:rPr>
              <a:t>是中国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虽然”、“依然”在结构上呼应，在内容上对比，通过内外对比，写出海外游子身在海外，心系祖国的情怀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7:43:59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20T11:41:53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