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DF0-4B82-4E35-AB4E-5CCE5D5A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9A1-C7EA-47CC-9655-529C8779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B0E-C36B-4DA8-8278-4FC77229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8FA-B60A-484F-A72A-12661AD4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3A6-C787-4A2B-B0B5-F09095EE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CC0-1023-4981-A245-418C4E9D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499-A59B-4BD0-AE8D-50848260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2B3-E59D-4B01-B249-33A0924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C86-C291-4269-88FA-60D68BA9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C9C-66F1-4421-8D0F-8100E415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BD3-A2EC-438D-AB7E-84C5D92A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419-6B64-40DF-B752-64627C97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E168-6680-437B-8BD2-767C84F8BC5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CFE8-A62D-4825-90E1-4436A65252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7269" r="0" b="0"/>
          <a:stretch/>
        </p:blipFill>
        <p:spPr>
          <a:xfrm>
            <a:off x="-4680" y="0"/>
            <a:ext cx="9148680" cy="571968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6480" y="4494240"/>
            <a:ext cx="2189160" cy="1220760"/>
          </a:xfrm>
          <a:prstGeom prst="rect">
            <a:avLst/>
          </a:prstGeom>
          <a:ln w="0">
            <a:noFill/>
          </a:ln>
        </p:spPr>
      </p:pic>
      <p:pic>
        <p:nvPicPr>
          <p:cNvPr id="7" name="图片 8" descr=""/>
          <p:cNvPicPr/>
          <p:nvPr/>
        </p:nvPicPr>
        <p:blipFill>
          <a:blip r:embed="rId4"/>
          <a:stretch/>
        </p:blipFill>
        <p:spPr>
          <a:xfrm>
            <a:off x="0" y="3073320"/>
            <a:ext cx="2590920" cy="216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rcRect l="0" t="6899" r="0" b="0"/>
          <a:stretch/>
        </p:blipFill>
        <p:spPr>
          <a:xfrm>
            <a:off x="0" y="13500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52600" y="1176120"/>
            <a:ext cx="6705360" cy="107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武功功夫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01560" y="5027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 录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2340000" y="1346040"/>
            <a:ext cx="4929120" cy="787680"/>
            <a:chOff x="2340000" y="1346040"/>
            <a:chExt cx="4929120" cy="787680"/>
          </a:xfrm>
        </p:grpSpPr>
        <p:sp>
          <p:nvSpPr>
            <p:cNvPr id="49" name="圆角矩形 5"/>
            <p:cNvSpPr/>
            <p:nvPr/>
          </p:nvSpPr>
          <p:spPr>
            <a:xfrm>
              <a:off x="2340000" y="1489680"/>
              <a:ext cx="4929120" cy="5043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标题 1"/>
            <p:cNvSpPr/>
            <p:nvPr/>
          </p:nvSpPr>
          <p:spPr>
            <a:xfrm>
              <a:off x="3220200" y="1346040"/>
              <a:ext cx="31687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研究</a:t>
              </a:r>
              <a:r>
                <a:rPr b="0" lang="en-US" sz="1800" spc="-1" strike="noStrike">
                  <a:solidFill>
                    <a:srgbClr val="e36c09"/>
                  </a:solidFill>
                  <a:latin typeface="微软雅黑"/>
                </a:rPr>
                <a:t>PPT</a:t>
              </a: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模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6"/>
          <p:cNvGrpSpPr/>
          <p:nvPr/>
        </p:nvGrpSpPr>
        <p:grpSpPr>
          <a:xfrm>
            <a:off x="2340000" y="2162160"/>
            <a:ext cx="4929120" cy="787320"/>
            <a:chOff x="2340000" y="2162160"/>
            <a:chExt cx="4929120" cy="787320"/>
          </a:xfrm>
        </p:grpSpPr>
        <p:sp>
          <p:nvSpPr>
            <p:cNvPr id="52" name="圆角矩形 8"/>
            <p:cNvSpPr/>
            <p:nvPr/>
          </p:nvSpPr>
          <p:spPr>
            <a:xfrm>
              <a:off x="2340000" y="230580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标题 1"/>
            <p:cNvSpPr/>
            <p:nvPr/>
          </p:nvSpPr>
          <p:spPr>
            <a:xfrm>
              <a:off x="3220200" y="216216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不变的风格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2340000" y="2978280"/>
            <a:ext cx="4929120" cy="787320"/>
            <a:chOff x="2340000" y="2978280"/>
            <a:chExt cx="4929120" cy="787320"/>
          </a:xfrm>
        </p:grpSpPr>
        <p:sp>
          <p:nvSpPr>
            <p:cNvPr id="55" name="圆角矩形 11"/>
            <p:cNvSpPr/>
            <p:nvPr/>
          </p:nvSpPr>
          <p:spPr>
            <a:xfrm>
              <a:off x="2340000" y="312192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标题 1"/>
            <p:cNvSpPr/>
            <p:nvPr/>
          </p:nvSpPr>
          <p:spPr>
            <a:xfrm>
              <a:off x="3220200" y="297828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求变求创新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2359080" y="3794040"/>
            <a:ext cx="4929120" cy="787320"/>
            <a:chOff x="2359080" y="3794040"/>
            <a:chExt cx="4929120" cy="787320"/>
          </a:xfrm>
        </p:grpSpPr>
        <p:sp>
          <p:nvSpPr>
            <p:cNvPr id="58" name="圆角矩形 14"/>
            <p:cNvSpPr/>
            <p:nvPr/>
          </p:nvSpPr>
          <p:spPr>
            <a:xfrm>
              <a:off x="2359080" y="393768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标题 1"/>
            <p:cNvSpPr/>
            <p:nvPr/>
          </p:nvSpPr>
          <p:spPr>
            <a:xfrm>
              <a:off x="3239280" y="379404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一天怎么这么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5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25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362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PPT </a:t>
            </a:r>
            <a:r>
              <a:rPr b="1" lang="zh-CN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内 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4"/>
          <p:cNvSpPr/>
          <p:nvPr/>
        </p:nvSpPr>
        <p:spPr>
          <a:xfrm>
            <a:off x="324000" y="912960"/>
            <a:ext cx="8496000" cy="4608360"/>
          </a:xfrm>
          <a:prstGeom prst="roundRect">
            <a:avLst>
              <a:gd name="adj" fmla="val 2394"/>
            </a:avLst>
          </a:prstGeom>
          <a:solidFill>
            <a:srgbClr val="ffffff">
              <a:alpha val="25000"/>
            </a:srgbClr>
          </a:solidFill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1104840" y="1488960"/>
            <a:ext cx="69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书到用时方恨少，年少有空的时间多积累些东西，待到用时信手拈来，即为快哉，图表这东西很多的了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做了没用究竟有没有意义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64" name="Group 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65" name="Group 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66" name="Group 1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67" name="Group 12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68" name="Group 1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69" name="Group 2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0" name="Group 2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1" name="Group 3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72" name="Group 3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73" name="Group 3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4" name="Group 4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75" name="Group 4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76" name="Group 4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7" name="Group 4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78" name="Group 49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79" name="Group 5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0" name="Group 5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1" name="Group 6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2" name="Group 6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83" name="Group 7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84" name="Group 7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5" name="Group 7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86" name="Group 8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87" name="Group 8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8" name="Group 8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89" name="Group 87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90" name="Group 9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1" name="Group 9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2" name="Group 10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3" name="Group 10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94" name="Group 10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95" name="Group 11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6" name="Group 11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97" name="Group 1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98" name="Group 12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9" name="Group 1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00" name="Group 12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01" name="Group 13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02" name="Group 13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03" name="Group 14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04" name="Group 14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05" name="Group 14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06" name="Group 15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07" name="Group 15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08" name="Group 15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109" name="Group 15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0" name="Group 16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11" name="Group 16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12" name="Group 16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3" name="Group 17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4" name="Group 17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5" name="Group 18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16" name="Group 18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17" name="Group 18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8" name="Group 19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sp>
        <p:nvSpPr>
          <p:cNvPr id="119" name="TextBox 198"/>
          <p:cNvSpPr/>
          <p:nvPr/>
        </p:nvSpPr>
        <p:spPr>
          <a:xfrm>
            <a:off x="4822920" y="25304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99"/>
          <p:cNvSpPr/>
          <p:nvPr/>
        </p:nvSpPr>
        <p:spPr>
          <a:xfrm>
            <a:off x="6665760" y="4481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0"/>
          <p:cNvSpPr/>
          <p:nvPr/>
        </p:nvSpPr>
        <p:spPr>
          <a:xfrm>
            <a:off x="7093080" y="324180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1"/>
          <p:cNvSpPr/>
          <p:nvPr/>
        </p:nvSpPr>
        <p:spPr>
          <a:xfrm>
            <a:off x="3386160" y="45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2"/>
          <p:cNvSpPr/>
          <p:nvPr/>
        </p:nvSpPr>
        <p:spPr>
          <a:xfrm>
            <a:off x="3475080" y="3429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03" descr=""/>
          <p:cNvPicPr/>
          <p:nvPr/>
        </p:nvPicPr>
        <p:blipFill>
          <a:blip r:embed="rId1"/>
          <a:stretch/>
        </p:blipFill>
        <p:spPr>
          <a:xfrm>
            <a:off x="6480" y="4494240"/>
            <a:ext cx="2189160" cy="1220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04" descr=""/>
          <p:cNvPicPr/>
          <p:nvPr/>
        </p:nvPicPr>
        <p:blipFill>
          <a:blip r:embed="rId2"/>
          <a:stretch/>
        </p:blipFill>
        <p:spPr>
          <a:xfrm>
            <a:off x="0" y="3073320"/>
            <a:ext cx="2590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 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内 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4765680" y="2473200"/>
            <a:ext cx="1933560" cy="1933560"/>
            <a:chOff x="4765680" y="2473200"/>
            <a:chExt cx="1933560" cy="1933560"/>
          </a:xfrm>
        </p:grpSpPr>
        <p:sp>
          <p:nvSpPr>
            <p:cNvPr id="128" name="Oval 14"/>
            <p:cNvSpPr/>
            <p:nvPr/>
          </p:nvSpPr>
          <p:spPr>
            <a:xfrm>
              <a:off x="4765680" y="2473200"/>
              <a:ext cx="1933560" cy="19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13"/>
            <p:cNvGrpSpPr/>
            <p:nvPr/>
          </p:nvGrpSpPr>
          <p:grpSpPr>
            <a:xfrm>
              <a:off x="5519520" y="2512800"/>
              <a:ext cx="420480" cy="377280"/>
              <a:chOff x="5519520" y="2512800"/>
              <a:chExt cx="420480" cy="377280"/>
            </a:xfrm>
          </p:grpSpPr>
          <p:sp>
            <p:nvSpPr>
              <p:cNvPr id="130" name="Oval 17"/>
              <p:cNvSpPr/>
              <p:nvPr/>
            </p:nvSpPr>
            <p:spPr>
              <a:xfrm>
                <a:off x="5519520" y="2512800"/>
                <a:ext cx="420480" cy="37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18"/>
            <p:cNvSpPr/>
            <p:nvPr/>
          </p:nvSpPr>
          <p:spPr>
            <a:xfrm>
              <a:off x="4958640" y="2927160"/>
              <a:ext cx="168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</a:rPr>
                <a:t>是否有点无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9"/>
          <p:cNvSpPr/>
          <p:nvPr/>
        </p:nvSpPr>
        <p:spPr>
          <a:xfrm>
            <a:off x="5940360" y="4562640"/>
            <a:ext cx="78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nspi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4745160" y="4632480"/>
            <a:ext cx="66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rem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4027320" y="3666960"/>
            <a:ext cx="52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ub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4070520" y="2473200"/>
            <a:ext cx="554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ty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42160" y="3699000"/>
            <a:ext cx="5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Vis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 rot="1390800">
            <a:off x="5749920" y="1809720"/>
            <a:ext cx="118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impl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&amp; Bea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6927840" y="262080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ff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4784760" y="1733400"/>
            <a:ext cx="70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niver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611280" y="1241280"/>
            <a:ext cx="1888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36c09"/>
                </a:solidFill>
                <a:latin typeface="微软雅黑"/>
              </a:rPr>
              <a:t>主要原因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反正闲着也是闲着，让无聊进行到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36c09"/>
                </a:solidFill>
                <a:latin typeface="微软雅黑"/>
              </a:rPr>
              <a:t>主要原因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身在异地见不到女朋友，连女朋友生气了也没法哄，想发泄下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28"/>
          <p:cNvSpPr/>
          <p:nvPr/>
        </p:nvSpPr>
        <p:spPr>
          <a:xfrm>
            <a:off x="2843280" y="1417680"/>
            <a:ext cx="1440" cy="224928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3" descr=""/>
          <p:cNvPicPr/>
          <p:nvPr/>
        </p:nvPicPr>
        <p:blipFill>
          <a:blip r:embed="rId1"/>
          <a:srcRect l="0" t="6899" r="0" b="0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1704960"/>
            <a:ext cx="74152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01:34:00Z</dcterms:created>
  <dc:creator>王琳</dc:creator>
  <dc:description/>
  <cp:keywords/>
  <dc:language>en-US</dc:language>
  <cp:lastModifiedBy>a</cp:lastModifiedBy>
  <dcterms:modified xsi:type="dcterms:W3CDTF">2015-07-21T02:16:43Z</dcterms:modified>
  <cp:revision>5</cp:revision>
  <dc:subject/>
  <dc:title>Power Point  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