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22D8-60B9-4B32-87E8-51D343A52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F97F-C245-4F93-AEC3-8A890821F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F799-E913-4E5C-85F5-2F986C17E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F173-C0E4-4C53-82D5-F18112704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FA1D3-0CC7-4238-AE82-110340065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A46D6-33BA-414E-A371-4E20C7E0C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8E98B-D5FC-47E3-B63B-51E1141B3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E8AC3-5834-4454-9A65-539115ADF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36831-C392-4C48-A4F7-C6213D292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A2F40-B5F5-4911-8495-4B4825957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D1817-20C4-490D-B309-650EB3FAC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9036-98CF-4E4A-8220-A76776480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0AAF9-B98D-4064-8208-FF9CC65D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50181-8DD7-4926-AA89-7F46960C0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53CB3-17CF-4CE4-AB8D-FFE3B95EB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D1D01-B05F-4AAE-9BEC-1B718ECB3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DC331-7AD9-4B68-AF23-5218AC386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C2D6-A63E-4916-B84D-7AC36DDC2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CCA0-887B-42F2-9113-7C2E58D61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92D5-288E-4D0F-8CD1-E4F867239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593D-42A3-4A24-8FD7-409557D2D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C744-59DA-48E1-ABDC-8604A1E0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DF65-A6EC-45FC-ABDB-0D3B3CDB6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65F1-8714-4886-8985-3656326BA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B00D4-EE5E-46E3-8F3D-D23C38C0072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B35C2-558D-496F-BC17-243F6AE1E0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4FE71-4BCA-482E-828E-631A707D056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DEF80-02A5-43BE-9F46-0143E2C0D06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9840" y="34920"/>
            <a:ext cx="8939160" cy="67136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6360" y="6453360"/>
            <a:ext cx="508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00320" y="264960"/>
            <a:ext cx="436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网络安全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素材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A63D0-B688-4454-863F-3ED8A26A44D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3:04:28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