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D7DD-B556-4D86-A6DD-43383798A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ED76-72E0-457D-A4E9-5FC858D0A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8898-5EEA-43D4-84E8-24D435CFB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4E14-48B7-4E8C-8418-FE085DBEE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1597F-A190-43C4-AAAC-DE17A9115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409EA-55DF-4E53-A9AE-077F2471D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A8E83-0EF7-4FB7-83A3-41CF351AA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00191-2714-46D5-A6B1-171C48592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30377-6D94-41A7-89A1-B5C096C3C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AEB93-DD97-4951-A370-B0049CEAA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747D7-8D50-4A0F-844F-9A2C1013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9933-42DB-470D-98A9-2F399DE99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1E936-88F4-4F49-99EC-2FFD8D932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B1D0D-D86C-44F3-83AA-AD49A795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4C29F-6105-42C4-BC81-D87FB0AFE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0D10A-1E40-46A9-9557-E8C8F039B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C2156-640A-4142-8BC3-7496C71C3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43E1-D0F6-4D2C-A5AC-25988BE64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4ACF-A7EB-447D-BEC8-511A99D9D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C60B-1817-4F8D-B3EB-92588E6BB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1220-EF6A-4556-8463-9483342D0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68CC-DA9E-4B8F-B57A-ECD2B7A70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6F16-8C71-4F7C-8441-2F7530ABA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83D9-FE9F-4068-9999-DB3DDF47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3CACE-8FB5-4B78-911F-4ADDCDE0877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98A79-2665-475A-8F23-1B173AFE54D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74F10-CF8A-4A62-A151-AE7002D985E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AEAD1-0A38-4474-AA59-721029D6DFE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hyperlink" Target="http://www.eeppt.com/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6"/>
          <p:cNvSpPr/>
          <p:nvPr/>
        </p:nvSpPr>
        <p:spPr>
          <a:xfrm>
            <a:off x="4716360" y="1917720"/>
            <a:ext cx="4248360" cy="4941720"/>
          </a:xfrm>
          <a:prstGeom prst="rect">
            <a:avLst/>
          </a:prstGeom>
          <a:solidFill>
            <a:srgbClr val="0099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932360" y="2060640"/>
            <a:ext cx="404352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我想，我是不是好久没有认真的看一下这个美丽的世界了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是不是好久好久没有好好的欣赏一下这个美丽的世界</a:t>
            </a:r>
            <a:r>
              <a:rPr b="0" lang="en-US" sz="1800" spc="-1" strike="noStrike">
                <a:solidFill>
                  <a:srgbClr val="ffffff"/>
                </a:solidFill>
                <a:latin typeface="华文仿宋"/>
                <a:ea typeface="华文仿宋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是不是好久好久没有抬头仰望一下那似海水一般湛蓝的天空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是不是好久好久没有舒展一下紧蹙的眉头，把嘴角上扬会心的微笑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是不是好久好久没有静下心来，尽情地享受一下属于生命的美好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图片 5" descr=""/>
          <p:cNvPicPr/>
          <p:nvPr/>
        </p:nvPicPr>
        <p:blipFill>
          <a:blip r:embed="rId2"/>
          <a:stretch/>
        </p:blipFill>
        <p:spPr>
          <a:xfrm>
            <a:off x="108000" y="260280"/>
            <a:ext cx="4824360" cy="6597720"/>
          </a:xfrm>
          <a:prstGeom prst="rect">
            <a:avLst/>
          </a:prstGeom>
          <a:ln w="0">
            <a:noFill/>
          </a:ln>
        </p:spPr>
      </p:pic>
      <p:sp>
        <p:nvSpPr>
          <p:cNvPr id="85" name="矩形 1"/>
          <p:cNvSpPr/>
          <p:nvPr/>
        </p:nvSpPr>
        <p:spPr>
          <a:xfrm>
            <a:off x="3241440" y="784080"/>
            <a:ext cx="35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唯美蒲公英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5"/>
          <p:cNvSpPr/>
          <p:nvPr/>
        </p:nvSpPr>
        <p:spPr>
          <a:xfrm>
            <a:off x="208800" y="64533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5"/>
          <p:cNvSpPr/>
          <p:nvPr/>
        </p:nvSpPr>
        <p:spPr>
          <a:xfrm>
            <a:off x="0" y="4508640"/>
            <a:ext cx="8677440" cy="1584360"/>
          </a:xfrm>
          <a:prstGeom prst="rect">
            <a:avLst/>
          </a:prstGeom>
          <a:solidFill>
            <a:srgbClr val="ffc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50920" y="4689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华文仿宋"/>
                <a:ea typeface="华文仿宋"/>
              </a:rPr>
              <a:t>河流弯弯，记录岁月哀愁。小溪潺潺，承载流年往昔。记忆，越来越淡了，淡得似乎已想不起你的容颜。印象，越来越浅了，浅得宛如那天边的云彩，一阵风就会将它吹散。记忆，容颜，印象，吹散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6"/>
          <p:cNvSpPr/>
          <p:nvPr/>
        </p:nvSpPr>
        <p:spPr>
          <a:xfrm>
            <a:off x="5508720" y="692280"/>
            <a:ext cx="3384360" cy="6165720"/>
          </a:xfrm>
          <a:prstGeom prst="rect">
            <a:avLst/>
          </a:prstGeom>
          <a:solidFill>
            <a:srgbClr val="ff0066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616360" y="691920"/>
            <a:ext cx="325116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华文仿宋"/>
                <a:ea typeface="华文仿宋"/>
              </a:rPr>
              <a:t>路旁的花，色彩斑斓，开得妖娆灿烂，暗香浮动。浓春烟景，似人间仙境。岁月悠悠，时过境迁，人非物换，悲喜无常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华文仿宋"/>
                <a:ea typeface="华文仿宋"/>
              </a:rPr>
              <a:t>急景流年里，我只愿用一颗永恒的心去应对人生的风风雨雨，喜怒无常。流深静水，往事如烟云。唯愿记住快乐，忘却痛苦。记住欢喜，忘记悲凉。将美好的曾经和过往，永久珍藏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华文仿宋"/>
                <a:ea typeface="华文仿宋"/>
              </a:rPr>
              <a:t>好好爱，别让美丽变尘埃。给自己一份好心情，让世界对着你微笑：给别人一份好心情，让生活对我们微笑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图片 5" descr=""/>
          <p:cNvPicPr/>
          <p:nvPr/>
        </p:nvPicPr>
        <p:blipFill>
          <a:blip r:embed="rId2"/>
          <a:stretch/>
        </p:blipFill>
        <p:spPr>
          <a:xfrm>
            <a:off x="0" y="1268280"/>
            <a:ext cx="5192640" cy="574848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"/>
          <p:cNvSpPr/>
          <p:nvPr/>
        </p:nvSpPr>
        <p:spPr>
          <a:xfrm>
            <a:off x="1106640" y="611820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会议报告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交通安全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教育培训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卡通动漫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体育运动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01:02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3:17:36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