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AF12-74AE-4A4C-939E-898F0E1F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840-6154-4977-8407-66B7AD7D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7671-3947-4E44-972E-5CDE7CB5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D4B-2906-4A5B-A23B-E7238B03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1BBD-1A81-4D8A-8E7D-0BB891CE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E175-FD09-4A30-9FBB-449FE49C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AB74-9075-4E1D-8D5E-96068CE9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5F0A-B89D-4301-A753-9E2E3CCA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8F2A-74E8-4CA4-A6F3-A92AF7D2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7791-DDC3-4E6C-9A86-CB1345B4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DEE4-FBFB-452E-B39D-B342BD5D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B2D-6B73-43F8-8FE8-A72318B9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2745-4AFD-4838-975C-F6B02C23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96E3-A34E-4FF6-A300-B1F777EB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60B5-FEF6-4582-9048-3CF9F162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F491-37EA-4C13-86D6-55A9FDAD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14DD-7466-4B1B-89E9-5ED5E2E3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63678-A534-46D7-87D8-0135BEA7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D0FC8-D480-4D8A-B6A5-4C1C7896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9C932-039E-4F45-B0B9-07EB5B8F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1491B-D4FB-494C-933C-F4056232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EFE51-2B6B-4CFB-8CCA-4B0AEA55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807-545B-4D2B-A818-C2B0BE7C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44F60-622B-4EB7-8D6D-2871A699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ACA3C-0F63-4AA4-A7A0-FE5E8E94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698BD-5FA2-4A47-8F61-EBE1FB2A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C12BC-26B7-4E7F-AA38-DC6257A5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5A619-CB27-4024-8508-E700A337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25F98-E5DA-4492-AD2F-41F49CFD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37751-4FAC-48C3-9B9C-E1FB9556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4625-87DE-4845-AB0F-115D7BFF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993-1603-4AA6-AEE6-4F8D4928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4A3-E6FE-465C-AF26-BEC372B7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B5B5-A93E-4647-B584-657EB4AF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B16-1697-49D8-AA45-C5FA586C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FD2-8568-482B-80C9-895DC96C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5175-60D7-4AA6-BB20-1B70BD826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D2AE-0CD7-4E44-8C70-094807E98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A61F-E512-4E78-87E1-78DD61FB174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蜗牛</a:t>
            </a:r>
            <a:r>
              <a:rPr b="0" lang="en-US" sz="40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609560" y="6118200"/>
            <a:ext cx="675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2:09:5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20:4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