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8FD-0418-4F3B-B8F3-0E99FCD4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9AE-1555-46E4-99C4-EA639782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79A-09F4-4F61-B7D5-37BB7AF7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CEE-B721-401A-ABD9-BB389E79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74E-FC2E-4F86-A830-548511DB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0A1-31EB-4799-BF0A-353BAEB5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AC1E-F0F7-4B0C-BB20-C4BB43F6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D7C-9BB4-4BB3-9E71-36F4ADF2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77F-C2A9-48DE-A6D1-2BE0B238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55E-BE8C-4FF7-8D06-EF95C473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814-527C-4076-82DC-25774A60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B31-36DB-4892-9596-844AB4B3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6E55-8A21-45B6-B473-50572F3F41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95400" y="-12600"/>
            <a:ext cx="1215072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484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25920" y="8244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文学家之莫言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演示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"/>
          <p:cNvPicPr/>
          <p:nvPr/>
        </p:nvPicPr>
        <p:blipFill>
          <a:blip r:embed="rId1"/>
          <a:stretch/>
        </p:blipFill>
        <p:spPr>
          <a:xfrm>
            <a:off x="-3240" y="-14400"/>
            <a:ext cx="121888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3"/>
          <p:cNvPicPr/>
          <p:nvPr/>
        </p:nvPicPr>
        <p:blipFill>
          <a:blip r:embed="rId1"/>
          <a:stretch/>
        </p:blipFill>
        <p:spPr>
          <a:xfrm>
            <a:off x="4680" y="4680"/>
            <a:ext cx="1219356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"/>
          <p:cNvPicPr/>
          <p:nvPr/>
        </p:nvPicPr>
        <p:blipFill>
          <a:blip r:embed="rId1"/>
          <a:stretch/>
        </p:blipFill>
        <p:spPr>
          <a:xfrm>
            <a:off x="0" y="-4680"/>
            <a:ext cx="12206160" cy="686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5"/>
          <p:cNvPicPr/>
          <p:nvPr/>
        </p:nvPicPr>
        <p:blipFill>
          <a:blip r:embed="rId1"/>
          <a:stretch/>
        </p:blipFill>
        <p:spPr>
          <a:xfrm>
            <a:off x="3240" y="4680"/>
            <a:ext cx="122140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6"/>
          <p:cNvPicPr/>
          <p:nvPr/>
        </p:nvPicPr>
        <p:blipFill>
          <a:blip r:embed="rId1"/>
          <a:stretch/>
        </p:blipFill>
        <p:spPr>
          <a:xfrm>
            <a:off x="-1440" y="-12600"/>
            <a:ext cx="122094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7"/>
          <p:cNvPicPr/>
          <p:nvPr/>
        </p:nvPicPr>
        <p:blipFill>
          <a:blip r:embed="rId1"/>
          <a:stretch/>
        </p:blipFill>
        <p:spPr>
          <a:xfrm>
            <a:off x="3240" y="-12600"/>
            <a:ext cx="12196800" cy="68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909-1815-40C1-BBA7-221E6AE703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7-20T08:57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