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B28-F49E-44E0-AFD2-D09F989D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E94-A6CC-4A9A-813E-631DEBF6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792-AAE6-49C9-BAE4-8C3FE9ED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2AA-7CEB-452A-AA98-30B189B6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F42-3349-4EB7-A92E-DF0A39C1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052-F6FD-478C-89E5-A844D71E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2C6-CD7A-4C54-B259-5CE9E584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8D8-1F4E-4478-9718-EA866447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DBF-DA02-499F-867D-906182ED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007-B462-42D7-B875-F501134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D06-8212-4AAA-B88A-5D84D267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E0F-2B2C-4DB1-9F59-D6B046E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6A48-6AB0-4C07-8FFB-CD87909AAF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9B50-3916-44F9-9679-7D74126C39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2575" r="0" b="145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1"/>
          <p:cNvSpPr/>
          <p:nvPr/>
        </p:nvSpPr>
        <p:spPr>
          <a:xfrm>
            <a:off x="7981920" y="48355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914"/>
                </a:solidFill>
                <a:latin typeface="微软雅黑"/>
                <a:ea typeface="微软雅黑"/>
              </a:rPr>
              <a:t>zzplovezz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rcRect l="0" t="7879" r="0" b="863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-9360" y="-30240"/>
            <a:ext cx="9144000" cy="514368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19080" y="19080"/>
            <a:ext cx="9144000" cy="5143320"/>
          </a:xfrm>
          <a:prstGeom prst="rect">
            <a:avLst/>
          </a:prstGeom>
          <a:solidFill>
            <a:srgbClr val="b3612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950760"/>
            <a:ext cx="9144000" cy="1800360"/>
          </a:xfrm>
          <a:prstGeom prst="rect">
            <a:avLst/>
          </a:prstGeom>
          <a:solidFill>
            <a:srgbClr val="e8e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rcRect l="0" t="22221" r="-86" b="51462"/>
          <a:stretch/>
        </p:blipFill>
        <p:spPr>
          <a:xfrm>
            <a:off x="0" y="104148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0" y="1103400"/>
            <a:ext cx="9144000" cy="1493640"/>
          </a:xfrm>
          <a:prstGeom prst="rect">
            <a:avLst/>
          </a:prstGeom>
          <a:solidFill>
            <a:srgbClr val="b3612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1401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0" y="273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6480" y="4800600"/>
            <a:ext cx="460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66720" y="554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西部牛仔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00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01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11"/>
          <p:cNvGrpSpPr/>
          <p:nvPr/>
        </p:nvGrpSpPr>
        <p:grpSpPr>
          <a:xfrm>
            <a:off x="431640" y="1987560"/>
            <a:ext cx="8280720" cy="847440"/>
            <a:chOff x="431640" y="1987560"/>
            <a:chExt cx="8280720" cy="847440"/>
          </a:xfrm>
        </p:grpSpPr>
        <p:grpSp>
          <p:nvGrpSpPr>
            <p:cNvPr id="307" name="Group 12"/>
            <p:cNvGrpSpPr/>
            <p:nvPr/>
          </p:nvGrpSpPr>
          <p:grpSpPr>
            <a:xfrm>
              <a:off x="431640" y="1987560"/>
              <a:ext cx="8280720" cy="847440"/>
              <a:chOff x="431640" y="1987560"/>
              <a:chExt cx="8280720" cy="847440"/>
            </a:xfrm>
          </p:grpSpPr>
          <p:sp>
            <p:nvSpPr>
              <p:cNvPr id="308" name="矩形 7"/>
              <p:cNvSpPr/>
              <p:nvPr/>
            </p:nvSpPr>
            <p:spPr>
              <a:xfrm>
                <a:off x="431640" y="19875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8"/>
              <p:cNvSpPr/>
              <p:nvPr/>
            </p:nvSpPr>
            <p:spPr>
              <a:xfrm>
                <a:off x="1331640" y="20692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9"/>
              <p:cNvSpPr/>
              <p:nvPr/>
            </p:nvSpPr>
            <p:spPr>
              <a:xfrm>
                <a:off x="635760" y="20098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同心圆 10"/>
              <p:cNvSpPr/>
              <p:nvPr/>
            </p:nvSpPr>
            <p:spPr>
              <a:xfrm>
                <a:off x="511920" y="198756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15560" y="203148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14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1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21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2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0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5" dur="75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60" dur="75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328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31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32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338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339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45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46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0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52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53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7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59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35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61" name="圆角矩形 66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圆角矩形 67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圆角矩形 68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圆角矩形 69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圆角矩形 70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圆角矩形 71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圆角矩形 72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圆角矩形 73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Box 78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79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80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4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1.23457E-006 L -0.00086 -0.50802 E">
                                      <p:cBhvr>
                                        <p:cTn id="178" dur="25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87" dur="75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77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79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Group 20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395" name="Group 21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396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0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02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4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404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0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20" name="Group 21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21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5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722 L -0.00208 0.02253 E">
                                      <p:cBhvr>
                                        <p:cTn id="193" dur="5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29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30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36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3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18"/>
          <p:cNvGrpSpPr/>
          <p:nvPr/>
        </p:nvGrpSpPr>
        <p:grpSpPr>
          <a:xfrm>
            <a:off x="431640" y="2932200"/>
            <a:ext cx="8280720" cy="847440"/>
            <a:chOff x="431640" y="2932200"/>
            <a:chExt cx="8280720" cy="847440"/>
          </a:xfrm>
        </p:grpSpPr>
        <p:grpSp>
          <p:nvGrpSpPr>
            <p:cNvPr id="443" name="Group 19"/>
            <p:cNvGrpSpPr/>
            <p:nvPr/>
          </p:nvGrpSpPr>
          <p:grpSpPr>
            <a:xfrm>
              <a:off x="431640" y="2932200"/>
              <a:ext cx="8280720" cy="847440"/>
              <a:chOff x="431640" y="2932200"/>
              <a:chExt cx="8280720" cy="847440"/>
            </a:xfrm>
          </p:grpSpPr>
          <p:sp>
            <p:nvSpPr>
              <p:cNvPr id="444" name="矩形 12"/>
              <p:cNvSpPr/>
              <p:nvPr/>
            </p:nvSpPr>
            <p:spPr>
              <a:xfrm>
                <a:off x="431640" y="2932200"/>
                <a:ext cx="828072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Box 13"/>
              <p:cNvSpPr/>
              <p:nvPr/>
            </p:nvSpPr>
            <p:spPr>
              <a:xfrm>
                <a:off x="1331640" y="301392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Box 14"/>
              <p:cNvSpPr/>
              <p:nvPr/>
            </p:nvSpPr>
            <p:spPr>
              <a:xfrm>
                <a:off x="592200" y="29545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同心圆 15"/>
              <p:cNvSpPr/>
              <p:nvPr/>
            </p:nvSpPr>
            <p:spPr>
              <a:xfrm>
                <a:off x="511920" y="2932200"/>
                <a:ext cx="819360" cy="81900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15560" y="2980800"/>
              <a:ext cx="495036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50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5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4" dur="75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9" dur="75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4" dur="75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457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60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61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67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68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474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47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81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8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88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5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图片 66" descr=""/>
            <p:cNvPicPr/>
            <p:nvPr/>
          </p:nvPicPr>
          <p:blipFill>
            <a:blip r:embed="rId9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sp>
        <p:nvSpPr>
          <p:cNvPr id="49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4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7037E-007 L -0.00017 -0.69167 E">
                                      <p:cBhvr>
                                        <p:cTn id="238" dur="25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4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251" dur="75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93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图片 3" descr=""/>
            <p:cNvPicPr/>
            <p:nvPr/>
          </p:nvPicPr>
          <p:blipFill>
            <a:blip r:embed="rId1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96" name="Group 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97" name="Group 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98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2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50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图片 3" descr=""/>
            <p:cNvPicPr/>
            <p:nvPr/>
          </p:nvPicPr>
          <p:blipFill>
            <a:blip r:embed="rId1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507" name="Group 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508" name="Group 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509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3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68438 L -0.00278 0.01946 E">
                                      <p:cBhvr>
                                        <p:cTn id="257" dur="75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2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17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1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3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524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52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531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53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25"/>
          <p:cNvGrpSpPr/>
          <p:nvPr/>
        </p:nvGrpSpPr>
        <p:grpSpPr>
          <a:xfrm>
            <a:off x="431640" y="3921120"/>
            <a:ext cx="8280720" cy="847440"/>
            <a:chOff x="431640" y="3921120"/>
            <a:chExt cx="8280720" cy="847440"/>
          </a:xfrm>
        </p:grpSpPr>
        <p:grpSp>
          <p:nvGrpSpPr>
            <p:cNvPr id="538" name="Group 26"/>
            <p:cNvGrpSpPr/>
            <p:nvPr/>
          </p:nvGrpSpPr>
          <p:grpSpPr>
            <a:xfrm>
              <a:off x="431640" y="3921120"/>
              <a:ext cx="8280720" cy="847440"/>
              <a:chOff x="431640" y="3921120"/>
              <a:chExt cx="8280720" cy="847440"/>
            </a:xfrm>
          </p:grpSpPr>
          <p:sp>
            <p:nvSpPr>
              <p:cNvPr id="539" name="矩形 17"/>
              <p:cNvSpPr/>
              <p:nvPr/>
            </p:nvSpPr>
            <p:spPr>
              <a:xfrm>
                <a:off x="431640" y="392112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Box 18"/>
              <p:cNvSpPr/>
              <p:nvPr/>
            </p:nvSpPr>
            <p:spPr>
              <a:xfrm>
                <a:off x="1331640" y="400284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Box 19"/>
              <p:cNvSpPr/>
              <p:nvPr/>
            </p:nvSpPr>
            <p:spPr>
              <a:xfrm>
                <a:off x="621360" y="394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同心圆 20"/>
              <p:cNvSpPr/>
              <p:nvPr/>
            </p:nvSpPr>
            <p:spPr>
              <a:xfrm>
                <a:off x="511920" y="392112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15560" y="396972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8" dur="75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3" dur="75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8" dur="75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478-EA0C-4C61-8B4B-155BAC9AA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7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64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6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71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7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78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79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7" dur="7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" dur="7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" dur="75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32" dur="75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85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88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89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95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96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02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03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09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10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16" name="矩形 40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4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4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0.01111 L -4.72222E-006 -0.13488 E">
                                      <p:cBhvr>
                                        <p:cTn id="54" dur="25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59" dur="75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19" name="Group 3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20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9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26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29" name="Group 3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30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9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36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2716 L -0.0007 0.01111 E">
                                      <p:cBhvr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431640" y="1041480"/>
            <a:ext cx="8280720" cy="826920"/>
            <a:chOff x="431640" y="1041480"/>
            <a:chExt cx="8280720" cy="826920"/>
          </a:xfrm>
        </p:grpSpPr>
        <p:grpSp>
          <p:nvGrpSpPr>
            <p:cNvPr id="141" name="Group 5"/>
            <p:cNvGrpSpPr/>
            <p:nvPr/>
          </p:nvGrpSpPr>
          <p:grpSpPr>
            <a:xfrm>
              <a:off x="431640" y="1041480"/>
              <a:ext cx="8280720" cy="826920"/>
              <a:chOff x="431640" y="1041480"/>
              <a:chExt cx="8280720" cy="826920"/>
            </a:xfrm>
          </p:grpSpPr>
          <p:sp>
            <p:nvSpPr>
              <p:cNvPr id="142" name="矩形 2"/>
              <p:cNvSpPr/>
              <p:nvPr/>
            </p:nvSpPr>
            <p:spPr>
              <a:xfrm>
                <a:off x="431640" y="10479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Box 3"/>
              <p:cNvSpPr/>
              <p:nvPr/>
            </p:nvSpPr>
            <p:spPr>
              <a:xfrm>
                <a:off x="1331640" y="11296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Box 4"/>
              <p:cNvSpPr/>
              <p:nvPr/>
            </p:nvSpPr>
            <p:spPr>
              <a:xfrm>
                <a:off x="606600" y="10414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同心圆 5"/>
              <p:cNvSpPr/>
              <p:nvPr/>
            </p:nvSpPr>
            <p:spPr>
              <a:xfrm>
                <a:off x="511920" y="104796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6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15560" y="108396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48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49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3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55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56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62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63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6" dur="75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1" dur="75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6" dur="75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169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172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173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79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80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86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87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93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94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00" name="矩形 37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35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02" name="直接连接符 42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43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44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45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46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47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48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49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0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517040" y="4384080"/>
                <a:ext cx="6483240" cy="720"/>
                <a:chOff x="1517040" y="4384080"/>
                <a:chExt cx="6483240" cy="720"/>
              </a:xfrm>
            </p:grpSpPr>
            <p:cxnSp>
              <p:nvCxnSpPr>
                <p:cNvPr id="212" name="直接箭头连接符 51"/>
                <p:cNvCxnSpPr/>
                <p:nvPr/>
              </p:nvCxnSpPr>
              <p:spPr>
                <a:xfrm>
                  <a:off x="1517040" y="4384080"/>
                  <a:ext cx="6483600" cy="1080"/>
                </a:xfrm>
                <a:prstGeom prst="straightConnector1">
                  <a:avLst/>
                </a:prstGeom>
                <a:ln w="25560">
                  <a:solidFill>
                    <a:srgbClr val="723e1e"/>
                  </a:solidFill>
                  <a:miter/>
                  <a:tailEnd len="med" type="arrow" w="med"/>
                </a:ln>
              </p:spPr>
            </p:cxnSp>
            <p:sp>
              <p:nvSpPr>
                <p:cNvPr id="213" name=""/>
                <p:cNvSpPr txBox="1"/>
                <p:nvPr/>
              </p:nvSpPr>
              <p:spPr>
                <a:xfrm>
                  <a:off x="1517040" y="4384080"/>
                  <a:ext cx="6482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516320" y="1578240"/>
                <a:ext cx="1080" cy="2805840"/>
                <a:chOff x="1516320" y="1578240"/>
                <a:chExt cx="1080" cy="2805840"/>
              </a:xfrm>
            </p:grpSpPr>
            <p:cxnSp>
              <p:nvCxnSpPr>
                <p:cNvPr id="215" name="直接箭头连接符 52"/>
                <p:cNvCxnSpPr/>
                <p:nvPr/>
              </p:nvCxnSpPr>
              <p:spPr>
                <a:xfrm flipV="1">
                  <a:off x="1516680" y="1578240"/>
                  <a:ext cx="1080" cy="2806200"/>
                </a:xfrm>
                <a:prstGeom prst="straightConnector1">
                  <a:avLst/>
                </a:prstGeom>
                <a:ln w="25560">
                  <a:solidFill>
                    <a:srgbClr val="723e1e"/>
                  </a:solidFill>
                  <a:miter/>
                  <a:tailEnd len="med" type="arrow" w="med"/>
                </a:ln>
              </p:spPr>
            </p:cxnSp>
            <p:sp>
              <p:nvSpPr>
                <p:cNvPr id="216" name=""/>
                <p:cNvSpPr txBox="1"/>
                <p:nvPr/>
              </p:nvSpPr>
              <p:spPr>
                <a:xfrm rot="10800000">
                  <a:off x="1516320" y="1578240"/>
                  <a:ext cx="360" cy="280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Box 53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54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55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56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57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58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59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60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Box 61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62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3.7037E-007 L -4.72222E-006 -0.32037 E">
                                      <p:cBhvr>
                                        <p:cTn id="114" dur="25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19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28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4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30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1517040" y="4384080"/>
                <a:ext cx="6483240" cy="720"/>
                <a:chOff x="1517040" y="4384080"/>
                <a:chExt cx="6483240" cy="720"/>
              </a:xfrm>
            </p:grpSpPr>
            <p:cxnSp>
              <p:nvCxnSpPr>
                <p:cNvPr id="240" name="直接箭头连接符 17"/>
                <p:cNvCxnSpPr/>
                <p:nvPr/>
              </p:nvCxnSpPr>
              <p:spPr>
                <a:xfrm>
                  <a:off x="1517040" y="4384080"/>
                  <a:ext cx="6483600" cy="1080"/>
                </a:xfrm>
                <a:prstGeom prst="straightConnector1">
                  <a:avLst/>
                </a:prstGeom>
                <a:ln w="25560">
                  <a:solidFill>
                    <a:srgbClr val="723e1e"/>
                  </a:solidFill>
                  <a:miter/>
                  <a:tailEnd len="med" type="arrow" w="med"/>
                </a:ln>
              </p:spPr>
            </p:cxnSp>
            <p:sp>
              <p:nvSpPr>
                <p:cNvPr id="241" name=""/>
                <p:cNvSpPr txBox="1"/>
                <p:nvPr/>
              </p:nvSpPr>
              <p:spPr>
                <a:xfrm>
                  <a:off x="1517040" y="4384080"/>
                  <a:ext cx="6482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516320" y="1578240"/>
                <a:ext cx="1080" cy="2805840"/>
                <a:chOff x="1516320" y="1578240"/>
                <a:chExt cx="1080" cy="2805840"/>
              </a:xfrm>
            </p:grpSpPr>
            <p:cxnSp>
              <p:nvCxnSpPr>
                <p:cNvPr id="243" name="直接箭头连接符 18"/>
                <p:cNvCxnSpPr/>
                <p:nvPr/>
              </p:nvCxnSpPr>
              <p:spPr>
                <a:xfrm flipV="1">
                  <a:off x="1516680" y="1578240"/>
                  <a:ext cx="1080" cy="2806200"/>
                </a:xfrm>
                <a:prstGeom prst="straightConnector1">
                  <a:avLst/>
                </a:prstGeom>
                <a:ln w="25560">
                  <a:solidFill>
                    <a:srgbClr val="723e1e"/>
                  </a:solidFill>
                  <a:miter/>
                  <a:tailEnd len="med" type="arrow" w="med"/>
                </a:ln>
              </p:spPr>
            </p:cxnSp>
            <p:sp>
              <p:nvSpPr>
                <p:cNvPr id="244" name=""/>
                <p:cNvSpPr txBox="1"/>
                <p:nvPr/>
              </p:nvSpPr>
              <p:spPr>
                <a:xfrm rot="10800000">
                  <a:off x="1516320" y="1578240"/>
                  <a:ext cx="360" cy="280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2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56" name="Group 2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57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1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6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65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1517040" y="4384080"/>
                <a:ext cx="6483240" cy="720"/>
                <a:chOff x="1517040" y="4384080"/>
                <a:chExt cx="6483240" cy="720"/>
              </a:xfrm>
            </p:grpSpPr>
            <p:cxnSp>
              <p:nvCxnSpPr>
                <p:cNvPr id="275" name="直接箭头连接符 17"/>
                <p:cNvCxnSpPr/>
                <p:nvPr/>
              </p:nvCxnSpPr>
              <p:spPr>
                <a:xfrm>
                  <a:off x="1517040" y="4384080"/>
                  <a:ext cx="6483600" cy="1080"/>
                </a:xfrm>
                <a:prstGeom prst="straightConnector1">
                  <a:avLst/>
                </a:prstGeom>
                <a:ln w="25560">
                  <a:solidFill>
                    <a:srgbClr val="723e1e"/>
                  </a:solidFill>
                  <a:miter/>
                  <a:tailEnd len="med" type="arrow" w="med"/>
                </a:ln>
              </p:spPr>
            </p:cxnSp>
            <p:sp>
              <p:nvSpPr>
                <p:cNvPr id="276" name=""/>
                <p:cNvSpPr txBox="1"/>
                <p:nvPr/>
              </p:nvSpPr>
              <p:spPr>
                <a:xfrm>
                  <a:off x="1517040" y="4384080"/>
                  <a:ext cx="6482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1516320" y="1578240"/>
                <a:ext cx="1080" cy="2805840"/>
                <a:chOff x="1516320" y="1578240"/>
                <a:chExt cx="1080" cy="2805840"/>
              </a:xfrm>
            </p:grpSpPr>
            <p:cxnSp>
              <p:nvCxnSpPr>
                <p:cNvPr id="278" name="直接箭头连接符 18"/>
                <p:cNvCxnSpPr/>
                <p:nvPr/>
              </p:nvCxnSpPr>
              <p:spPr>
                <a:xfrm flipV="1">
                  <a:off x="1516680" y="1578240"/>
                  <a:ext cx="1080" cy="2806200"/>
                </a:xfrm>
                <a:prstGeom prst="straightConnector1">
                  <a:avLst/>
                </a:prstGeom>
                <a:ln w="25560">
                  <a:solidFill>
                    <a:srgbClr val="723e1e"/>
                  </a:solidFill>
                  <a:miter/>
                  <a:tailEnd len="med" type="arrow" w="med"/>
                </a:ln>
              </p:spPr>
            </p:cxnSp>
            <p:sp>
              <p:nvSpPr>
                <p:cNvPr id="279" name=""/>
                <p:cNvSpPr txBox="1"/>
                <p:nvPr/>
              </p:nvSpPr>
              <p:spPr>
                <a:xfrm rot="10800000">
                  <a:off x="1516320" y="1578240"/>
                  <a:ext cx="360" cy="280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2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91" name="Group 2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92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6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3108 L -0.00139 0.01975 E">
                                      <p:cBhvr>
                                        <p:cTn id="129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3:57Z</dcterms:created>
  <dc:creator>An</dc:creator>
  <dc:description/>
  <dc:language>en-US</dc:language>
  <cp:lastModifiedBy>a</cp:lastModifiedBy>
  <dcterms:modified xsi:type="dcterms:W3CDTF">2015-07-20T09:03:3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