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680-9B8D-43CB-81BC-0812E45F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8C3-64BF-4710-BE10-DF35335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EA3EF-B4AE-4801-B111-DA81DAB9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5ECB-8D7F-4228-95FB-2E91AA9E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AAEF-63D4-4E6B-9092-C08EF5D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D4ACE-2B71-483B-BEEF-2B434D6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86D0D-86C2-4DB4-BA8B-2551751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CFBF4-CAFB-40A1-A150-909A9C3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0CE54-FB0B-4861-A04F-7873272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39C3F-508A-4092-899D-98956A28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54CA6-C400-4672-ABAC-746A3E64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82F95-E7CD-4943-87A7-610A77B0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323-F164-4D74-AD48-F6DF1C4A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EF308-F619-4057-8865-AF91869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C446-4964-4DB1-9AA6-373A617B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6F4B2-6F5A-4E4D-8E03-77D8668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487B-E99B-4E6B-B3EA-7FA7259A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4F95F-2815-4269-B606-B4D291E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3AAE6-3A9A-416E-AAE5-A48E69C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FC241-A411-4820-A5D8-F383FD6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E9CFA-CA70-49F8-B34A-31EB6B0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7B7C3-13E5-40AE-B5D9-037D94D1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4ABE9-4D97-4F89-8518-550A7181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138-3C31-4CE6-9029-F90B0189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DE0BC-F244-4433-9B26-7FB97058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0DA34-E0BB-4CC4-BCD4-8642754E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05BF9-886F-4733-910F-32C3477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9728A-76F5-46B4-8E66-C10A91A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7433F-6C2C-4D66-9063-4C3DEC5E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7308-2E9B-49CC-ADE5-2D3C212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7AB9F-60A4-455D-858B-ED7FF4A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B6CE6-8CE8-4890-A3EC-0E135C2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337B-73E9-4402-94CF-D437FC1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A9C40-9CEB-461E-8363-4D7E769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6707-1605-4105-B4A4-E4B48FF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C0BB-93D7-44E6-8FE9-16BEAA2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538A5-952A-4A79-9468-A2F8D10E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C7740-CEBC-44C9-8FAD-C89B341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E3F8D-C0AB-48EF-B525-98BDD6AF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B0DA-A787-4EA5-A42F-3FC887CB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DD243-7DBC-4E11-A4F4-C1BD5CC7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3A703-B6F3-43A6-8A89-135D5E7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46B41-9DF7-44B1-ABDF-3C865E1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06FE2-1CCE-4432-B828-57264CB9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725F6-9A59-46C9-8E74-42CF6FE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009-F5D2-4222-97F9-4236076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6BDA0-B92E-44B7-8D42-F190C74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BC54-BA2B-4AE7-853C-6988685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3B664-93A4-4082-B261-57941F7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EF103-7C27-47D9-827F-A4454CB9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07A07-38CA-4128-8924-F7697CD2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C4810-FE61-41D1-B1B3-ADAA1433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C7577-A0F4-455C-8E8E-E380F48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623FC-0B85-4D44-B260-59C6F47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AA308-6670-4085-B40A-F2E79475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103AF-08E5-46EB-B44A-2EB913F0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8B97-F81B-413B-A261-628EDEB4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6A831-1B8F-4E81-9F0E-C4612A0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36770-0A82-4D7F-9DD5-3FEFCB5B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FC7CA-57FE-4B3D-8488-85F4EB1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5379B-ECDE-4A53-B073-775EDDF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DC83E-D050-4A11-9E84-2A616992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56C2A-3C21-4670-91D5-B8F88EC3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A1400-3C81-47C3-BD35-9B59BBE9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38F2-6DBA-4218-BB5E-0926EADE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0DA-009A-4D94-AAE9-477FDFC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200-76DD-44AE-841F-545C465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5DF-B48A-4C1A-9CDD-4CB39630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BCF-7B69-4BBE-9599-9390176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C3DC-BDDC-4D97-9EC1-7A09592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98B-51FF-4326-A3CF-DED460D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6381-EF1E-4241-97F0-2C1C480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35ED-6CC2-478D-8BF8-C8C36054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4D1-0768-42A8-8A69-774AEDD4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C295-5586-4A91-A883-632E15E1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0F833-3A12-49EC-A2F1-9C5A2E73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F121-EA22-4D51-84CB-ABB4566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01E0-1EB2-49A8-A916-4964ADA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5620-1B96-4C10-BE25-E688B3DF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861-4434-487C-8326-D185D517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FBBC-23D8-4492-AC6B-A6400B5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1F13-3366-48A6-BB21-FAEDF28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3D84-A794-4D08-A7F7-837736C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00AF-5815-4F5C-AE49-3A1319E5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7605-0173-4FE0-9813-72EF515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54EA-F5EE-463A-ABD1-4A15F5B3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1D24-5F2E-4442-ADB4-E9A5F2DB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19C4-B5CA-478A-B4F8-7F220160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B757-22CE-4188-8722-7F541E8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DF98-36DB-462D-90D5-A08DE643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733-08B2-4517-A31B-1A1B783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7B9B-3F0F-44CE-9DA3-3D6E7C8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BAAD-CDA6-4EB1-8760-E10ABB0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322C-7D9F-4BD9-BCFE-81D4F72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919A-CD05-4511-ACBF-6C985D4E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9AED-8F2C-408E-A6A7-BC4E70D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DAF0-E510-465A-90A9-99B6476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53AD-2018-478C-808A-6675A52E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8A75-E3BB-4B17-893F-1A88C6A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7D32-5885-4FE8-A697-991C3373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4D06-C2EC-40E1-AF3F-E2E6EFD8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1BF-9DD4-43F3-968A-7CBED1A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2E47-085B-4C6C-89E2-AF67DB3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5633-3401-4128-8363-356CE7D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E6D9-0B79-40AF-AD1A-A990D2F3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E0AD-32D0-4331-9C3C-67F17D9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3D11-5B00-47C9-87DE-F75D2B23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049C-031B-4F18-9AE8-984C3BD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441B-9893-4DAC-BFD1-26F7F8E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C17C-950B-482B-8841-16773FB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B3D1-03D5-484B-B429-A9776592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FE03-5031-4900-A552-42570186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D34-9295-4C71-A148-DAAD527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109B-0081-4F54-BC2B-DF916049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34F0-C698-4816-B281-92973053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FF55-D04A-4589-ABD8-7839CE0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7D1E-D87C-4388-926D-2F999160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8E62-AFE7-4007-8385-64C9470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3A8C-7E0D-455D-A207-7647704F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83A4-2D64-41F7-9686-1FD28E9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73E8-E851-4746-B1BD-4FB3EBF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BD80-3942-46ED-877F-E459DA4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7F199-F03E-4B5F-B3ED-99D0C44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D73-CE5F-4918-AC6F-318C903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2047-0899-4A05-87A2-375EEED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962DD-6C46-4484-9037-E9E25BCC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4299-4CA9-4AD9-B0DF-4C121601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A9E79-19E5-4456-9997-D20A96CE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11AF-260E-4E41-8DE3-F244FA9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3820-FC4A-4388-92A6-F09113A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EF42-2D76-4342-AD0A-FBDB225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347C-4044-4796-AC5F-9EF05AE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6141-086B-44E6-B125-B8ED039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DFDE-01BC-403C-8B3F-171FA09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4DE-8B3E-4E3F-A3EE-B3C4F64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756E-D1E4-4781-B8F6-E721794A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ADF4-DEB5-4446-AE7B-17E7F86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A1E1C-6D6E-4723-8576-941F683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0EF3-474C-4C75-94A9-42CCE14D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4A10E-EDE4-4555-91F7-54E9C900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6E65-F53D-4540-A084-3DC27308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F52B-3888-4B5A-84BF-D8288D6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0EF4-89B8-4423-B443-632E006F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DE80-F8EA-487D-B2B9-6E9E8104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FF4B-E39E-41E1-94DD-97B70A5C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2BD-BEFC-4FAC-A0EF-BB1DA89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B850-19EC-4A6B-AB0C-A6EF603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288DE-04C7-434F-8BE1-FB2FCEE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F9F52-27BE-48B8-94D1-8077ACF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F5DCF-4A77-4B63-8D58-06255B7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99847-DD95-46B1-9C2F-8A1BBB66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35BB-DA6A-404C-87AA-DC6CEC11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1532-885C-490E-A4BC-4500AF51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50C16-27E7-42D1-BE67-3ED70B46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03FD7-7B51-4647-B6A5-C868723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7CAE9-3B41-4156-8783-5A629CF0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B8DE-2D36-47DA-9DD2-B3DB499717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E7C-8BFD-4EBC-B3E6-C511A93E1E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05D8-8891-424B-A730-7BE1ADCC32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139-973E-44AB-9B4A-7A559E58E5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C34-6CE8-4B92-A637-AED00A8E69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1AA-D3A8-4D95-9B34-2EB9AE1FAF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C576-EB1A-499D-8549-900EB001BC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20F-739D-4CCC-9FA0-5F7E183C6D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74E-B418-4E37-946C-AE9B2ED7BD2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F283-E7EE-48FA-ABC3-62E7FF9505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2AE7-6661-49CC-8DC6-3A152D6A54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64C3-E094-4948-B42E-DB99C9C6CC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46C7-A84D-40EF-A1ED-415BE64D8C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BC5-BAA2-4EDD-9045-67D15FE226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24E-CE94-4842-B64F-5383516B01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8C4-D805-459A-BB0F-EF9388074C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6B91-6717-4DAC-A2D8-674D7823F70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534-B315-461B-8AAD-50DCC1260F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18F-4A78-4D26-BA96-040425D3AC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68E-1E82-4D01-B92A-9079FB7A02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4CA-1984-4242-82F0-BC38C50B35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DA6F-77F2-4EEE-91C2-8C4354D6B2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7845-BF15-40BD-87FD-CD51181EA8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7741-7E8B-43CF-AD7C-B643C87EC0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4AB4-1271-4DF7-B662-8E647FE185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DA4B-943A-4C1E-A2C5-FD2B574934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sucai/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9"/>
          <p:cNvSpPr/>
          <p:nvPr/>
        </p:nvSpPr>
        <p:spPr>
          <a:xfrm>
            <a:off x="4911840" y="2152800"/>
            <a:ext cx="1908000" cy="1908000"/>
          </a:xfrm>
          <a:prstGeom prst="ellipse">
            <a:avLst/>
          </a:prstGeom>
          <a:solidFill>
            <a:srgbClr val="ffffff">
              <a:alpha val="25000"/>
            </a:srgbClr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0"/>
          <p:cNvSpPr/>
          <p:nvPr/>
        </p:nvSpPr>
        <p:spPr>
          <a:xfrm>
            <a:off x="5127480" y="2368440"/>
            <a:ext cx="1474920" cy="1474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1"/>
          <p:cNvSpPr/>
          <p:nvPr/>
        </p:nvSpPr>
        <p:spPr>
          <a:xfrm>
            <a:off x="2349360" y="2152800"/>
            <a:ext cx="1908360" cy="1908000"/>
          </a:xfrm>
          <a:prstGeom prst="ellipse">
            <a:avLst/>
          </a:prstGeom>
          <a:solidFill>
            <a:srgbClr val="ffffff">
              <a:alpha val="25000"/>
            </a:srgbClr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2"/>
          <p:cNvSpPr/>
          <p:nvPr/>
        </p:nvSpPr>
        <p:spPr>
          <a:xfrm>
            <a:off x="2565360" y="2368440"/>
            <a:ext cx="1476360" cy="1474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同心圆 33"/>
          <p:cNvSpPr/>
          <p:nvPr/>
        </p:nvSpPr>
        <p:spPr>
          <a:xfrm>
            <a:off x="4352760" y="1593720"/>
            <a:ext cx="3024360" cy="3024360"/>
          </a:xfrm>
          <a:custGeom>
            <a:avLst/>
            <a:gdLst>
              <a:gd name="textAreaLeft" fmla="*/ 442800 w 3024360"/>
              <a:gd name="textAreaRight" fmla="*/ 2581560 w 3024360"/>
              <a:gd name="textAreaTop" fmla="*/ 442800 h 3024360"/>
              <a:gd name="textAreaBottom" fmla="*/ 258156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6" y="10800"/>
                </a:moveTo>
                <a:cubicBezTo>
                  <a:pt x="3126" y="15038"/>
                  <a:pt x="6562" y="18474"/>
                  <a:pt x="10800" y="18474"/>
                </a:cubicBezTo>
                <a:cubicBezTo>
                  <a:pt x="15038" y="18474"/>
                  <a:pt x="18474" y="15038"/>
                  <a:pt x="18474" y="10800"/>
                </a:cubicBezTo>
                <a:cubicBezTo>
                  <a:pt x="18474" y="6562"/>
                  <a:pt x="15038" y="3126"/>
                  <a:pt x="10800" y="3126"/>
                </a:cubicBezTo>
                <a:cubicBezTo>
                  <a:pt x="6562" y="3126"/>
                  <a:pt x="3126" y="6562"/>
                  <a:pt x="3126" y="10800"/>
                </a:cubicBezTo>
                <a:close/>
              </a:path>
            </a:pathLst>
          </a:custGeom>
          <a:gradFill rotWithShape="0">
            <a:gsLst>
              <a:gs pos="0">
                <a:srgbClr val="6eff01"/>
              </a:gs>
              <a:gs pos="100000">
                <a:srgbClr val="0f5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6"/>
          <p:cNvSpPr/>
          <p:nvPr/>
        </p:nvSpPr>
        <p:spPr>
          <a:xfrm>
            <a:off x="2498760" y="27208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46"/>
          <p:cNvSpPr/>
          <p:nvPr/>
        </p:nvSpPr>
        <p:spPr>
          <a:xfrm>
            <a:off x="4998960" y="27208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5000"/>
                </a:solidFill>
                <a:latin typeface="微软雅黑"/>
                <a:ea typeface="微软雅黑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36"/>
          <p:cNvSpPr/>
          <p:nvPr/>
        </p:nvSpPr>
        <p:spPr>
          <a:xfrm>
            <a:off x="803160" y="4832280"/>
            <a:ext cx="3060720" cy="900360"/>
          </a:xfrm>
          <a:prstGeom prst="wedgeRectCallout">
            <a:avLst>
              <a:gd name="adj1" fmla="val 35018"/>
              <a:gd name="adj2" fmla="val -69337"/>
            </a:avLst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标注 37"/>
          <p:cNvSpPr/>
          <p:nvPr/>
        </p:nvSpPr>
        <p:spPr>
          <a:xfrm>
            <a:off x="5256360" y="4832280"/>
            <a:ext cx="3060720" cy="900360"/>
          </a:xfrm>
          <a:prstGeom prst="wedgeRectCallout">
            <a:avLst>
              <a:gd name="adj1" fmla="val -34708"/>
              <a:gd name="adj2" fmla="val -68125"/>
            </a:avLst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46"/>
          <p:cNvSpPr/>
          <p:nvPr/>
        </p:nvSpPr>
        <p:spPr>
          <a:xfrm>
            <a:off x="1058760" y="5111640"/>
            <a:ext cx="27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3"/>
          <p:cNvSpPr/>
          <p:nvPr/>
        </p:nvSpPr>
        <p:spPr>
          <a:xfrm>
            <a:off x="2085840" y="4842000"/>
            <a:ext cx="16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46"/>
          <p:cNvSpPr/>
          <p:nvPr/>
        </p:nvSpPr>
        <p:spPr>
          <a:xfrm>
            <a:off x="5315040" y="511164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3"/>
          <p:cNvSpPr/>
          <p:nvPr/>
        </p:nvSpPr>
        <p:spPr>
          <a:xfrm>
            <a:off x="5315040" y="4842000"/>
            <a:ext cx="16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f5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"/>
          <p:cNvSpPr/>
          <p:nvPr/>
        </p:nvSpPr>
        <p:spPr>
          <a:xfrm>
            <a:off x="1778040" y="1506600"/>
            <a:ext cx="4933800" cy="3095640"/>
          </a:xfrm>
          <a:custGeom>
            <a:avLst/>
            <a:gdLst>
              <a:gd name="textAreaLeft" fmla="*/ 0 w 4933800"/>
              <a:gd name="textAreaRight" fmla="*/ 4934160 w 49338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518" h="325">
                <a:moveTo>
                  <a:pt x="470" y="16"/>
                </a:moveTo>
                <a:cubicBezTo>
                  <a:pt x="456" y="12"/>
                  <a:pt x="440" y="10"/>
                  <a:pt x="425" y="10"/>
                </a:cubicBezTo>
                <a:cubicBezTo>
                  <a:pt x="368" y="10"/>
                  <a:pt x="319" y="40"/>
                  <a:pt x="291" y="84"/>
                </a:cubicBezTo>
                <a:cubicBezTo>
                  <a:pt x="263" y="40"/>
                  <a:pt x="214" y="10"/>
                  <a:pt x="157" y="10"/>
                </a:cubicBezTo>
                <a:cubicBezTo>
                  <a:pt x="70" y="10"/>
                  <a:pt x="0" y="81"/>
                  <a:pt x="0" y="168"/>
                </a:cubicBezTo>
                <a:cubicBezTo>
                  <a:pt x="0" y="255"/>
                  <a:pt x="70" y="325"/>
                  <a:pt x="157" y="325"/>
                </a:cubicBezTo>
                <a:cubicBezTo>
                  <a:pt x="214" y="325"/>
                  <a:pt x="263" y="296"/>
                  <a:pt x="291" y="251"/>
                </a:cubicBezTo>
                <a:cubicBezTo>
                  <a:pt x="306" y="227"/>
                  <a:pt x="315" y="199"/>
                  <a:pt x="315" y="168"/>
                </a:cubicBezTo>
                <a:cubicBezTo>
                  <a:pt x="315" y="161"/>
                  <a:pt x="314" y="155"/>
                  <a:pt x="314" y="148"/>
                </a:cubicBezTo>
                <a:cubicBezTo>
                  <a:pt x="323" y="95"/>
                  <a:pt x="369" y="54"/>
                  <a:pt x="426" y="54"/>
                </a:cubicBezTo>
                <a:cubicBezTo>
                  <a:pt x="437" y="54"/>
                  <a:pt x="449" y="56"/>
                  <a:pt x="457" y="58"/>
                </a:cubicBezTo>
                <a:lnTo>
                  <a:pt x="451" y="76"/>
                </a:lnTo>
                <a:lnTo>
                  <a:pt x="518" y="55"/>
                </a:lnTo>
                <a:lnTo>
                  <a:pt x="474" y="0"/>
                </a:lnTo>
                <a:lnTo>
                  <a:pt x="470" y="16"/>
                </a:lnTo>
                <a:close/>
                <a:moveTo>
                  <a:pt x="157" y="54"/>
                </a:moveTo>
                <a:cubicBezTo>
                  <a:pt x="220" y="54"/>
                  <a:pt x="271" y="105"/>
                  <a:pt x="271" y="168"/>
                </a:cubicBezTo>
                <a:cubicBezTo>
                  <a:pt x="271" y="231"/>
                  <a:pt x="220" y="282"/>
                  <a:pt x="157" y="282"/>
                </a:cubicBezTo>
                <a:cubicBezTo>
                  <a:pt x="94" y="282"/>
                  <a:pt x="43" y="231"/>
                  <a:pt x="43" y="168"/>
                </a:cubicBezTo>
                <a:cubicBezTo>
                  <a:pt x="43" y="105"/>
                  <a:pt x="94" y="54"/>
                  <a:pt x="157" y="54"/>
                </a:cubicBezTo>
                <a:close/>
              </a:path>
            </a:pathLst>
          </a:custGeom>
          <a:gradFill rotWithShape="0">
            <a:gsLst>
              <a:gs pos="0">
                <a:srgbClr val="00dff6"/>
              </a:gs>
              <a:gs pos="100000">
                <a:srgbClr val="00277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2342880" y="-82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循环箭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2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Presentation">
    <vt:lpwstr>锐普图表</vt:lpwstr>
  </property>
</Properties>
</file>