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FD5-5B00-4B1C-A9CF-5B4D21CF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718-8FC5-40AB-8B7D-D78A340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EB2-4448-447D-9387-FE5406E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D58-992F-4839-80B6-B64CB45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9AB-5C74-4F57-8FF6-A4F9DB33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895-1711-41E8-9CF6-293CBDFC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671-9089-4F81-9222-A65DFB68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592-3619-4C28-9B07-764C1F6D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710-F824-46A9-A5D0-CB9A6D60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63D-2659-40E9-9840-C737E52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1C9-41F4-4856-9A2A-584C271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8DF-9690-41AB-9625-710A0E9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E4289-159F-4DB8-90AD-97E7E31E9D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A1DBF-BB1C-4950-BDFE-601F8A13D1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380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7156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新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4" descr=""/>
          <p:cNvPicPr/>
          <p:nvPr/>
        </p:nvPicPr>
        <p:blipFill>
          <a:blip r:embed="rId1"/>
          <a:stretch/>
        </p:blipFill>
        <p:spPr>
          <a:xfrm rot="10800000">
            <a:off x="-11160" y="-54360"/>
            <a:ext cx="91728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B46-336B-452E-B051-9257A3FB7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46:00Z</dcterms:created>
  <dc:creator>outline</dc:creator>
  <dc:description/>
  <dc:language>en-US</dc:language>
  <cp:lastModifiedBy>lenovo</cp:lastModifiedBy>
  <dcterms:modified xsi:type="dcterms:W3CDTF">2015-07-20T11:34:56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