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39.jpeg" ContentType="image/jpeg"/>
  <Override PartName="/ppt/media/image33.jpeg" ContentType="image/jpeg"/>
  <Override PartName="/ppt/media/applause.wav" ContentType="audio/x-wav"/>
  <Override PartName="/ppt/media/image13.wmf" ContentType="image/x-wmf"/>
  <Override PartName="/ppt/media/image27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camera.wav" ContentType="audio/x-wav"/>
  <Override PartName="/ppt/media/image7.jpeg" ContentType="image/jpeg"/>
  <Override PartName="/ppt/media/image38.jpeg" ContentType="image/jpeg"/>
  <Override PartName="/ppt/media/image32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5.jpeg" ContentType="image/jpeg"/>
  <Override PartName="/ppt/media/image11.wmf" ContentType="image/x-wmf"/>
  <Override PartName="/ppt/media/image17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33C-24AA-4F8C-AC44-E0D720DA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3FB-BEF8-43C8-B7D5-9CE47A16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DCF-061D-4CDE-AFD3-9142DED1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3CF-D675-4933-AF8F-5D556F8B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F5FA-62CE-4477-A83C-A8CE795B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84AA-8356-424E-BB81-CD41347A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EBCB-7A79-4863-9A72-323CE97F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7EA8-119C-4F37-8345-F2E29F30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180A-072A-4DA2-AA0B-2DC1738E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6848-96C7-47D6-8E6D-672DDB47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8EDD-5582-462A-A0B6-C8DFC4C1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5B34-3C72-47B7-82EB-A0E8A4CC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A2D1-A99B-4C66-B2FA-9B0E4297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9700-3685-479A-A6EA-12D1DF42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739A-6191-4BAE-A0CA-9FC0F614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121E-59C6-4A9D-9ABB-20B1CB12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C40B-0370-43E1-8915-DB566C3D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571-C7B3-4E4F-98F4-40100212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20C-ABEB-4F55-9959-1F912A7B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4ED-1B4B-4653-99DB-389F1D3C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1C5-C8FD-4A72-9FB3-635E5414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D9C-6085-4F8D-ACA6-2840998B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AF3-D1BC-44C9-AD74-05158C37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664-0240-4418-807F-1D20B942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0A12-037D-4C74-B6AD-D4B3936F29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3FCE-AFF6-46F1-92DC-2C526E24C2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wmf"/><Relationship Id="rId3" Type="http://schemas.openxmlformats.org/officeDocument/2006/relationships/hyperlink" Target="http://image.baidu.com/i?ct=503316480&amp;z=432652&amp;tn=baiduimagedetail&amp;word=&#21160;&#28459;%20&#22836;&#20687;&amp;in=70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hyperlink" Target="http://image.baidu.com/i?ct=503316480&amp;z=296379650&amp;tn=baiduimagedetail&amp;word=QQ&#34920;&#24773;&amp;in=361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hyperlink" Target="http://image.baidu.com/i?ct=503316480&amp;z=60424352&amp;tn=baiduimagedetail&amp;word=&#21160;&#28459;%20&#22836;&#20687;&amp;in=716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.xml"/><Relationship Id="rId3" Type="http://schemas.openxmlformats.org/officeDocument/2006/relationships/hyperlink" Target="http://image.baidu.com/i?ct=503316480&amp;z=640357850&amp;tn=baiduimagedetail&amp;word=&#19968;&#20241;&amp;in=473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hyperlink" Target="http://image.baidu.com/i?ct=503316480&amp;z=46599900&amp;tn=baiduimagedetail&amp;word=&#21160;&#28459;%20&#22836;&#20687;&amp;in=601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.xml"/><Relationship Id="rId5" Type="http://schemas.openxmlformats.org/officeDocument/2006/relationships/image" Target="../media/image23.wm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hyperlink" Target="http://xiaoma.friendtest.cn/dispbbs.asp?boardID=545&amp;ID=16722&amp;star=4&amp;page=1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033548953&amp;tn=baiduimagedetail&amp;word=&#34763;&#34752;&amp;in=110" TargetMode="External"/><Relationship Id="rId2" Type="http://schemas.openxmlformats.org/officeDocument/2006/relationships/image" Target="../media/image25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32652&amp;tn=baiduimagedetail&amp;word=&#21160;&#28459;%20&#22836;&#20687;&amp;in=70" TargetMode="External"/><Relationship Id="rId2" Type="http://schemas.openxmlformats.org/officeDocument/2006/relationships/slide" Target="slide18.xml"/><Relationship Id="rId3" Type="http://schemas.openxmlformats.org/officeDocument/2006/relationships/hyperlink" Target="http://image.baidu.com/i?ct=503316480&amp;z=379459703&amp;tn=baiduimagedetail&amp;word=QQ&#34920;&#24773;&amp;in=442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hyperlink" Target="http://image.baidu.com/i?ct=503316480&amp;z=165364451&amp;tn=baiduimagedetail&amp;word=&#34763;&#34752;&amp;in=951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801009601&amp;tn=baiduimagedetail&amp;word=&#34763;&#34752;&amp;in=57" TargetMode="External"/><Relationship Id="rId2" Type="http://schemas.openxmlformats.org/officeDocument/2006/relationships/image" Target="../media/image28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10424503&amp;tn=baiduimagedetail&amp;word=&#34763;&#34752;&amp;in=94" TargetMode="External"/><Relationship Id="rId2" Type="http://schemas.openxmlformats.org/officeDocument/2006/relationships/image" Target="../media/image29.jpeg"/><Relationship Id="rId3" Type="http://schemas.openxmlformats.org/officeDocument/2006/relationships/slide" Target="slide22.xml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95952100&amp;tn=baiduimagedetail&amp;word=&#34763;&#34752;&amp;in=8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.baidu.com/i?ct=503316480&amp;z=530033950&amp;tn=baiduimagedetail&amp;word=&#34763;&#34752;&amp;in=29" TargetMode="Externa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hyperlink" Target="http://image.baidu.com/i?ct=503316480&amp;z=36344202&amp;tn=baiduimagedetail&amp;word=&#34763;&#34752;&amp;in=147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hyperlink" Target="http://image.baidu.com/i?ct=503316480&amp;z=1052176452&amp;tn=baiduimagedetail&amp;word=&#34763;&#34752;&amp;in=3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100723350&amp;tn=baiduimagedetail&amp;word=&#34763;&#34752;&amp;in=800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hyperlink" Target="http://image.baidu.com/i?ct=503316480&amp;z=15514100&amp;tn=baiduimagedetail&amp;word=&#21160;&#28459;%20&#22836;&#20687;&amp;in=262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wmf"/><Relationship Id="rId3" Type="http://schemas.openxmlformats.org/officeDocument/2006/relationships/hyperlink" Target="http://image.baidu.com/i?ct=503316480&amp;z=129186100&amp;tn=baiduimagedetail&amp;word=&#34763;&#34752;&amp;in=1014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rcRect l="3031" t="498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3" descr=""/>
          <p:cNvPicPr/>
          <p:nvPr/>
        </p:nvPicPr>
        <p:blipFill>
          <a:blip r:embed="rId2"/>
          <a:stretch/>
        </p:blipFill>
        <p:spPr>
          <a:xfrm>
            <a:off x="6340320" y="109440"/>
            <a:ext cx="1097280" cy="665640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533520" y="45720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03650"/>
                </a:solidFill>
                <a:latin typeface="Times New Roman"/>
                <a:ea typeface="隶书"/>
              </a:rPr>
              <a:t>生字练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914400" y="1965240"/>
            <a:ext cx="7391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蛐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弃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慎            责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址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掘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隧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耙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糙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假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371600" y="5257800"/>
            <a:ext cx="6324480" cy="914400"/>
          </a:xfrm>
          <a:custGeom>
            <a:avLst/>
            <a:gdLst>
              <a:gd name="textAreaLeft" fmla="*/ 0 w 6324480"/>
              <a:gd name="textAreaRight" fmla="*/ 6324840 w 632448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819520" y="54100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生分组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BS00559_"/>
          <p:cNvPicPr/>
          <p:nvPr/>
        </p:nvPicPr>
        <p:blipFill>
          <a:blip r:embed="rId1"/>
          <a:stretch/>
        </p:blipFill>
        <p:spPr>
          <a:xfrm>
            <a:off x="4419720" y="536400"/>
            <a:ext cx="373356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04920" y="302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03650"/>
                </a:solidFill>
                <a:latin typeface="Times New Roman"/>
                <a:ea typeface="隶书"/>
              </a:rPr>
              <a:t>跟我学词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26920" y="1690560"/>
            <a:ext cx="6697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住宅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住址    洞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搜索   扒土   挖掘   选择    抛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蔽   倾斜   平坦  宽敞   柔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不可惜        随遇而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79280" y="4753080"/>
            <a:ext cx="59436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词语的学习与运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般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重点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>
            <a:hlinkClick r:id="rId1" action="ppaction://hlinksldjump"/>
          </p:cNvPr>
          <p:cNvSpPr/>
          <p:nvPr/>
        </p:nvSpPr>
        <p:spPr>
          <a:xfrm>
            <a:off x="8001000" y="61722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BS00554_"/>
          <p:cNvPicPr/>
          <p:nvPr/>
        </p:nvPicPr>
        <p:blipFill>
          <a:blip r:embed="rId2"/>
          <a:stretch/>
        </p:blipFill>
        <p:spPr>
          <a:xfrm>
            <a:off x="5105520" y="4267080"/>
            <a:ext cx="2444760" cy="2132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u=3326649888,2751736622&amp;gp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23240" y="0"/>
            <a:ext cx="91764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28600"/>
            <a:ext cx="93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重点的词语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能够灵活运用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371600"/>
            <a:ext cx="8001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遇而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适应各种环境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任何环境中都能满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随遇而安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慎重：十分地认真。   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慎重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挑选。    如：选择对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弱。    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性柔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骤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急速猛烈的雨 。     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暴风骤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0574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708440" y="6019920"/>
            <a:ext cx="54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1371600" y="5715000"/>
            <a:ext cx="6324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2767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生分组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3">
            <a:hlinkClick r:id="rId1" action="ppaction://hlinksldjump"/>
          </p:cNvPr>
          <p:cNvSpPr/>
          <p:nvPr/>
        </p:nvSpPr>
        <p:spPr>
          <a:xfrm>
            <a:off x="8077320" y="64008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6" descr="u=127930797,1469258783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2057400"/>
            <a:ext cx="16002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609480"/>
            <a:ext cx="83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一般的词语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会读会写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03120" y="1828800"/>
            <a:ext cx="8839440" cy="48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指规模较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     如： 住宅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居住的地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城镇、乡村、街道的名称和门牌号          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 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家庭住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毫不可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点也不觉得可惜。    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毫不可惜地扔废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挖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掘。    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挖掘生产潜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钳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来夹住或夹断东西的器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把钳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1219320" y="5943600"/>
            <a:ext cx="6705360" cy="609480"/>
          </a:xfrm>
          <a:custGeom>
            <a:avLst/>
            <a:gdLst>
              <a:gd name="textAreaLeft" fmla="*/ 0 w 6705360"/>
              <a:gd name="textAreaRight" fmla="*/ 6705720 w 6705360"/>
              <a:gd name="textAreaTop" fmla="*/ 78840 h 609480"/>
              <a:gd name="textAreaBottom" fmla="*/ 530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895480" y="5943600"/>
            <a:ext cx="358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生分组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>
            <a:hlinkClick r:id="rId1" action="ppaction://hlinksldjump"/>
          </p:cNvPr>
          <p:cNvSpPr/>
          <p:nvPr/>
        </p:nvSpPr>
        <p:spPr>
          <a:xfrm>
            <a:off x="8381880" y="6400800"/>
            <a:ext cx="684360" cy="380880"/>
          </a:xfrm>
          <a:custGeom>
            <a:avLst/>
            <a:gdLst>
              <a:gd name="textAreaLeft" fmla="*/ 24480 w 684360"/>
              <a:gd name="textAreaRight" fmla="*/ 659880 w 684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794" h="21600">
                <a:moveTo>
                  <a:pt x="0" y="0"/>
                </a:moveTo>
                <a:lnTo>
                  <a:pt x="38794" y="0"/>
                </a:lnTo>
                <a:lnTo>
                  <a:pt x="38794" y="21600"/>
                </a:lnTo>
                <a:lnTo>
                  <a:pt x="0" y="21600"/>
                </a:lnTo>
                <a:close/>
              </a:path>
              <a:path fill="lightenLess" w="38794" h="21600">
                <a:moveTo>
                  <a:pt x="0" y="0"/>
                </a:moveTo>
                <a:lnTo>
                  <a:pt x="38794" y="0"/>
                </a:lnTo>
                <a:lnTo>
                  <a:pt x="37394" y="1400"/>
                </a:lnTo>
                <a:lnTo>
                  <a:pt x="1400" y="1400"/>
                </a:lnTo>
                <a:close/>
              </a:path>
              <a:path fill="darken" w="38794" h="21600">
                <a:moveTo>
                  <a:pt x="38794" y="0"/>
                </a:moveTo>
                <a:lnTo>
                  <a:pt x="38794" y="21600"/>
                </a:lnTo>
                <a:lnTo>
                  <a:pt x="37394" y="20200"/>
                </a:lnTo>
                <a:lnTo>
                  <a:pt x="37394" y="1400"/>
                </a:lnTo>
                <a:close/>
              </a:path>
              <a:path fill="darkenLess" w="38794" h="21600">
                <a:moveTo>
                  <a:pt x="3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94" y="20200"/>
                </a:lnTo>
                <a:close/>
              </a:path>
              <a:path fill="lighten" w="3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u=1559567618,1599528318&amp;gp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114800"/>
            <a:ext cx="2057400" cy="150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57200" y="763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03650"/>
                </a:solidFill>
                <a:latin typeface="Times New Roman"/>
                <a:ea typeface="隶书"/>
              </a:rPr>
              <a:t>跟我学语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57200" y="1447920"/>
            <a:ext cx="84567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的出名不光由于它的唱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由于它的住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联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口的地方总有一丛草半掩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像一座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蟋蟀在这平台上弹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拟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蟋蟀钻到土底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感到疲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就在这未完工的家门口休息一会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联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>
            <a:hlinkClick r:id="rId1" action="ppaction://hlinksldjump"/>
          </p:cNvPr>
          <p:cNvSpPr/>
          <p:nvPr/>
        </p:nvSpPr>
        <p:spPr>
          <a:xfrm>
            <a:off x="533520" y="5181480"/>
            <a:ext cx="3200400" cy="533520"/>
          </a:xfrm>
          <a:prstGeom prst="flowChartTerminator">
            <a:avLst/>
          </a:prstGeom>
          <a:solidFill>
            <a:srgbClr val="bbe0e3"/>
          </a:solidFill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1676520" y="6019920"/>
            <a:ext cx="5715000" cy="60948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371600" y="5181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学会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048120" y="6019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生分组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>
            <a:hlinkClick r:id="rId2" action="ppaction://hlinksldjump"/>
          </p:cNvPr>
          <p:cNvSpPr/>
          <p:nvPr/>
        </p:nvSpPr>
        <p:spPr>
          <a:xfrm>
            <a:off x="8001000" y="61722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3" descr="u=619455822,2036859658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304920"/>
            <a:ext cx="1905120" cy="922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533520" y="838080"/>
            <a:ext cx="82296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光……还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明不光会唱歌还会跳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空的彩虹像一弯拱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鱼儿在水里欢快地跳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……就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明天转晴了就去公园放风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>
            <a:hlinkClick r:id="rId1" action="ppaction://hlinksldjump"/>
          </p:cNvPr>
          <p:cNvSpPr/>
          <p:nvPr/>
        </p:nvSpPr>
        <p:spPr>
          <a:xfrm>
            <a:off x="7924680" y="617220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u=509437688,3349836184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2133720"/>
            <a:ext cx="30477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蟋蟀和它们不同，不肯</a:t>
            </a:r>
            <a:r>
              <a:rPr b="1" lang="zh-CN" sz="3600" spc="-1" strike="noStrike">
                <a:solidFill>
                  <a:srgbClr val="fea082"/>
                </a:solidFill>
                <a:latin typeface="Arial"/>
              </a:rPr>
              <a:t>随遇而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它</a:t>
            </a:r>
            <a:r>
              <a:rPr b="0" lang="zh-CN" sz="3600" spc="-1" strike="noStrike">
                <a:solidFill>
                  <a:srgbClr val="fea082"/>
                </a:solidFill>
                <a:latin typeface="Arial"/>
              </a:rPr>
              <a:t>常常慎重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选择住址，一定要排水优良，并且有温和的阳光。它不利用现成的洞穴，它的舒服的住宅是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自己一点一点挖掘的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从大厅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一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到卧室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0" y="304920"/>
            <a:ext cx="784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课文理解及难点剖析</a:t>
            </a: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80880" y="12952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关于蟋蟀住宅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3520" y="2209680"/>
            <a:ext cx="7391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出课文中描写蟋蟀住宅的段落                                                并熟读归纳出它的特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文的五至七段主要写了蟋蟀的住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读边想象蟋蟀住宅的样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在头脑中形成画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>
            <a:hlinkClick r:id="rId1" action="ppaction://hlinksldjump"/>
          </p:cNvPr>
          <p:cNvSpPr/>
          <p:nvPr/>
        </p:nvSpPr>
        <p:spPr>
          <a:xfrm>
            <a:off x="533520" y="4267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老师画的蟋蟀住宅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同学加以补充完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>
            <a:hlinkClick r:id="rId2" action="ppaction://hlinksldjump"/>
          </p:cNvPr>
          <p:cNvSpPr/>
          <p:nvPr/>
        </p:nvSpPr>
        <p:spPr>
          <a:xfrm>
            <a:off x="533520" y="4876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图结合课文并请同学概括蟋蟀住宅的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>
            <a:hlinkClick r:id="rId3" action="ppaction://hlinksldjump"/>
          </p:cNvPr>
          <p:cNvSpPr/>
          <p:nvPr/>
        </p:nvSpPr>
        <p:spPr>
          <a:xfrm>
            <a:off x="5335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>
            <a:hlinkClick r:id="rId4" action="ppaction://hlinksldjump"/>
          </p:cNvPr>
          <p:cNvSpPr/>
          <p:nvPr/>
        </p:nvSpPr>
        <p:spPr>
          <a:xfrm>
            <a:off x="8001000" y="609588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1" descr="BD06639_"/>
          <p:cNvPicPr/>
          <p:nvPr/>
        </p:nvPicPr>
        <p:blipFill>
          <a:blip r:embed="rId5"/>
          <a:stretch/>
        </p:blipFill>
        <p:spPr>
          <a:xfrm>
            <a:off x="6477120" y="1447920"/>
            <a:ext cx="2133360" cy="2038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BD21303_"/>
          <p:cNvPicPr/>
          <p:nvPr/>
        </p:nvPicPr>
        <p:blipFill>
          <a:blip r:embed="rId6"/>
          <a:stretch/>
        </p:blipFill>
        <p:spPr>
          <a:xfrm>
            <a:off x="304920" y="6172200"/>
            <a:ext cx="7543800" cy="3319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1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在朝着阳光的堤岸上，青草丛中隐藏着一条倾斜的隧道，即使有骤雨，这里也立刻就会干的。隧道顺着地势弯弯曲曲，最多不过九寸深，一指宽，这便是蟋蟀的住宅。出口的地方总有一丛草半掩着，就像一座门。蟋蟀出来吃周围的嫩草，决不去碰这一丛草。那微斜的门口，经过仔细耙扫，收拾得很平坦。这就是蟋蟀的平台。当四周很安静的时候，蟋蟀就在这平台上弹琴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屋子的内部没什么布置，但是墙壁很光滑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主人有的是时间，把粗糙的地方修理平整。大体上讲，住所是很简朴的，清洁、干燥，很卫生。假使我们想到蟋蟀用来挖掘的工具是那样简单，这座住宅真可以算是伟大的工程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600200" y="20574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猜谜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7200" y="6094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03650"/>
                </a:solidFill>
                <a:latin typeface="Times New Roman"/>
                <a:ea typeface="华文行楷"/>
              </a:rPr>
              <a:t>课前活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>
            <a:hlinkClick r:id="rId1" action="ppaction://hlinksldjump"/>
          </p:cNvPr>
          <p:cNvSpPr/>
          <p:nvPr/>
        </p:nvSpPr>
        <p:spPr>
          <a:xfrm>
            <a:off x="380880" y="327672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学们喜欢猜谜语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咱们一起做个猜谜语的游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看谁猜得又对又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下面有三则关于昆虫的谜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200362731610114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228600"/>
            <a:ext cx="236196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BD21313_"/>
          <p:cNvPicPr/>
          <p:nvPr/>
        </p:nvPicPr>
        <p:blipFill>
          <a:blip r:embed="rId4"/>
          <a:stretch/>
        </p:blipFill>
        <p:spPr>
          <a:xfrm>
            <a:off x="228600" y="5761080"/>
            <a:ext cx="8761320" cy="79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52280" y="45720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03650"/>
                </a:solidFill>
                <a:latin typeface="Times New Roman"/>
                <a:ea typeface="华文行楷"/>
              </a:rPr>
              <a:t>蟋蟀住宅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62120" y="4419720"/>
            <a:ext cx="701028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03650"/>
                </a:solidFill>
                <a:latin typeface="Times New Roman"/>
                <a:ea typeface="隶书"/>
              </a:rPr>
              <a:t>住宅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朝阳     干燥     隐蔽     弯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光滑     清洁     简朴     平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u=4282426013,1054173668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495680"/>
            <a:ext cx="2590560" cy="213372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6">
            <a:hlinkClick r:id="rId3" action="ppaction://hlinksldjump"/>
          </p:cNvPr>
          <p:cNvSpPr/>
          <p:nvPr/>
        </p:nvSpPr>
        <p:spPr>
          <a:xfrm>
            <a:off x="8381880" y="6400800"/>
            <a:ext cx="608040" cy="304920"/>
          </a:xfrm>
          <a:custGeom>
            <a:avLst/>
            <a:gdLst>
              <a:gd name="textAreaLeft" fmla="*/ 19440 w 608040"/>
              <a:gd name="textAreaRight" fmla="*/ 588600 w 6080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047" h="21600">
                <a:moveTo>
                  <a:pt x="0" y="0"/>
                </a:moveTo>
                <a:lnTo>
                  <a:pt x="43047" y="0"/>
                </a:lnTo>
                <a:lnTo>
                  <a:pt x="43047" y="21600"/>
                </a:lnTo>
                <a:lnTo>
                  <a:pt x="0" y="21600"/>
                </a:lnTo>
                <a:close/>
              </a:path>
              <a:path fill="lightenLess" w="43047" h="21600">
                <a:moveTo>
                  <a:pt x="0" y="0"/>
                </a:moveTo>
                <a:lnTo>
                  <a:pt x="43047" y="0"/>
                </a:lnTo>
                <a:lnTo>
                  <a:pt x="41647" y="1400"/>
                </a:lnTo>
                <a:lnTo>
                  <a:pt x="1400" y="1400"/>
                </a:lnTo>
                <a:close/>
              </a:path>
              <a:path fill="darken" w="43047" h="21600">
                <a:moveTo>
                  <a:pt x="43047" y="0"/>
                </a:moveTo>
                <a:lnTo>
                  <a:pt x="43047" y="21600"/>
                </a:lnTo>
                <a:lnTo>
                  <a:pt x="41647" y="20200"/>
                </a:lnTo>
                <a:lnTo>
                  <a:pt x="41647" y="1400"/>
                </a:lnTo>
                <a:close/>
              </a:path>
              <a:path fill="darkenLess" w="43047" h="21600">
                <a:moveTo>
                  <a:pt x="43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47" y="20200"/>
                </a:lnTo>
                <a:close/>
              </a:path>
              <a:path fill="lighten" w="43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066680" y="1676520"/>
            <a:ext cx="2362320" cy="23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2"/>
          <p:cNvSpPr/>
          <p:nvPr/>
        </p:nvSpPr>
        <p:spPr>
          <a:xfrm>
            <a:off x="1371600" y="2971800"/>
            <a:ext cx="426960" cy="655560"/>
          </a:xfrm>
          <a:custGeom>
            <a:avLst/>
            <a:gdLst/>
            <a:ahLst/>
            <a:rect l="l" t="t" r="r" b="b"/>
            <a:pathLst>
              <a:path w="269" h="413">
                <a:moveTo>
                  <a:pt x="0" y="413"/>
                </a:moveTo>
                <a:cubicBezTo>
                  <a:pt x="48" y="381"/>
                  <a:pt x="66" y="328"/>
                  <a:pt x="106" y="288"/>
                </a:cubicBezTo>
                <a:cubicBezTo>
                  <a:pt x="114" y="280"/>
                  <a:pt x="126" y="276"/>
                  <a:pt x="135" y="269"/>
                </a:cubicBezTo>
                <a:cubicBezTo>
                  <a:pt x="145" y="260"/>
                  <a:pt x="154" y="250"/>
                  <a:pt x="163" y="240"/>
                </a:cubicBezTo>
                <a:cubicBezTo>
                  <a:pt x="181" y="188"/>
                  <a:pt x="161" y="232"/>
                  <a:pt x="202" y="183"/>
                </a:cubicBezTo>
                <a:cubicBezTo>
                  <a:pt x="224" y="157"/>
                  <a:pt x="231" y="124"/>
                  <a:pt x="250" y="96"/>
                </a:cubicBezTo>
                <a:cubicBezTo>
                  <a:pt x="259" y="5"/>
                  <a:pt x="239" y="30"/>
                  <a:pt x="26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4"/>
          <p:cNvSpPr/>
          <p:nvPr/>
        </p:nvSpPr>
        <p:spPr>
          <a:xfrm>
            <a:off x="1905120" y="2590920"/>
            <a:ext cx="715680" cy="210960"/>
          </a:xfrm>
          <a:custGeom>
            <a:avLst/>
            <a:gdLst/>
            <a:ahLst/>
            <a:rect l="l" t="t" r="r" b="b"/>
            <a:pathLst>
              <a:path w="451" h="133">
                <a:moveTo>
                  <a:pt x="0" y="118"/>
                </a:moveTo>
                <a:cubicBezTo>
                  <a:pt x="123" y="110"/>
                  <a:pt x="136" y="133"/>
                  <a:pt x="202" y="70"/>
                </a:cubicBezTo>
                <a:cubicBezTo>
                  <a:pt x="224" y="0"/>
                  <a:pt x="264" y="24"/>
                  <a:pt x="336" y="31"/>
                </a:cubicBezTo>
                <a:cubicBezTo>
                  <a:pt x="346" y="34"/>
                  <a:pt x="355" y="43"/>
                  <a:pt x="365" y="41"/>
                </a:cubicBezTo>
                <a:cubicBezTo>
                  <a:pt x="376" y="39"/>
                  <a:pt x="384" y="27"/>
                  <a:pt x="394" y="22"/>
                </a:cubicBezTo>
                <a:cubicBezTo>
                  <a:pt x="420" y="9"/>
                  <a:pt x="423" y="12"/>
                  <a:pt x="451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>
            <a:off x="1752480" y="2819520"/>
            <a:ext cx="808200" cy="185760"/>
          </a:xfrm>
          <a:custGeom>
            <a:avLst/>
            <a:gdLst/>
            <a:ahLst/>
            <a:rect l="l" t="t" r="r" b="b"/>
            <a:pathLst>
              <a:path w="509" h="117">
                <a:moveTo>
                  <a:pt x="0" y="115"/>
                </a:moveTo>
                <a:cubicBezTo>
                  <a:pt x="74" y="112"/>
                  <a:pt x="148" y="117"/>
                  <a:pt x="221" y="105"/>
                </a:cubicBezTo>
                <a:cubicBezTo>
                  <a:pt x="243" y="101"/>
                  <a:pt x="249" y="67"/>
                  <a:pt x="269" y="57"/>
                </a:cubicBezTo>
                <a:cubicBezTo>
                  <a:pt x="305" y="39"/>
                  <a:pt x="403" y="39"/>
                  <a:pt x="413" y="38"/>
                </a:cubicBezTo>
                <a:cubicBezTo>
                  <a:pt x="447" y="27"/>
                  <a:pt x="472" y="0"/>
                  <a:pt x="5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7"/>
          <p:cNvSpPr/>
          <p:nvPr/>
        </p:nvSpPr>
        <p:spPr>
          <a:xfrm>
            <a:off x="1828800" y="2286000"/>
            <a:ext cx="1512720" cy="1397160"/>
          </a:xfrm>
          <a:custGeom>
            <a:avLst/>
            <a:gdLst/>
            <a:ahLst/>
            <a:rect l="l" t="t" r="r" b="b"/>
            <a:pathLst>
              <a:path w="953" h="880">
                <a:moveTo>
                  <a:pt x="0" y="323"/>
                </a:moveTo>
                <a:cubicBezTo>
                  <a:pt x="29" y="279"/>
                  <a:pt x="34" y="300"/>
                  <a:pt x="67" y="265"/>
                </a:cubicBezTo>
                <a:cubicBezTo>
                  <a:pt x="70" y="256"/>
                  <a:pt x="70" y="244"/>
                  <a:pt x="77" y="237"/>
                </a:cubicBezTo>
                <a:cubicBezTo>
                  <a:pt x="84" y="230"/>
                  <a:pt x="100" y="235"/>
                  <a:pt x="106" y="227"/>
                </a:cubicBezTo>
                <a:cubicBezTo>
                  <a:pt x="144" y="174"/>
                  <a:pt x="118" y="71"/>
                  <a:pt x="182" y="35"/>
                </a:cubicBezTo>
                <a:cubicBezTo>
                  <a:pt x="200" y="25"/>
                  <a:pt x="221" y="22"/>
                  <a:pt x="240" y="16"/>
                </a:cubicBezTo>
                <a:cubicBezTo>
                  <a:pt x="283" y="2"/>
                  <a:pt x="329" y="9"/>
                  <a:pt x="374" y="6"/>
                </a:cubicBezTo>
                <a:cubicBezTo>
                  <a:pt x="455" y="20"/>
                  <a:pt x="420" y="0"/>
                  <a:pt x="470" y="73"/>
                </a:cubicBezTo>
                <a:cubicBezTo>
                  <a:pt x="477" y="83"/>
                  <a:pt x="483" y="92"/>
                  <a:pt x="490" y="102"/>
                </a:cubicBezTo>
                <a:cubicBezTo>
                  <a:pt x="496" y="112"/>
                  <a:pt x="509" y="131"/>
                  <a:pt x="509" y="131"/>
                </a:cubicBezTo>
                <a:cubicBezTo>
                  <a:pt x="523" y="175"/>
                  <a:pt x="562" y="204"/>
                  <a:pt x="576" y="246"/>
                </a:cubicBezTo>
                <a:cubicBezTo>
                  <a:pt x="588" y="281"/>
                  <a:pt x="593" y="311"/>
                  <a:pt x="614" y="342"/>
                </a:cubicBezTo>
                <a:cubicBezTo>
                  <a:pt x="630" y="403"/>
                  <a:pt x="615" y="372"/>
                  <a:pt x="672" y="429"/>
                </a:cubicBezTo>
                <a:cubicBezTo>
                  <a:pt x="716" y="473"/>
                  <a:pt x="669" y="439"/>
                  <a:pt x="701" y="486"/>
                </a:cubicBezTo>
                <a:cubicBezTo>
                  <a:pt x="720" y="514"/>
                  <a:pt x="750" y="544"/>
                  <a:pt x="778" y="563"/>
                </a:cubicBezTo>
                <a:cubicBezTo>
                  <a:pt x="792" y="607"/>
                  <a:pt x="820" y="631"/>
                  <a:pt x="845" y="669"/>
                </a:cubicBezTo>
                <a:cubicBezTo>
                  <a:pt x="848" y="682"/>
                  <a:pt x="855" y="694"/>
                  <a:pt x="854" y="707"/>
                </a:cubicBezTo>
                <a:cubicBezTo>
                  <a:pt x="852" y="727"/>
                  <a:pt x="835" y="765"/>
                  <a:pt x="835" y="765"/>
                </a:cubicBezTo>
                <a:cubicBezTo>
                  <a:pt x="861" y="803"/>
                  <a:pt x="882" y="837"/>
                  <a:pt x="922" y="861"/>
                </a:cubicBezTo>
                <a:cubicBezTo>
                  <a:pt x="953" y="880"/>
                  <a:pt x="950" y="857"/>
                  <a:pt x="950" y="8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4"/>
          <p:cNvSpPr/>
          <p:nvPr/>
        </p:nvSpPr>
        <p:spPr>
          <a:xfrm>
            <a:off x="4495680" y="1676520"/>
            <a:ext cx="2362320" cy="23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0"/>
          <p:cNvSpPr/>
          <p:nvPr/>
        </p:nvSpPr>
        <p:spPr>
          <a:xfrm>
            <a:off x="5181480" y="2438280"/>
            <a:ext cx="1355760" cy="1468440"/>
          </a:xfrm>
          <a:custGeom>
            <a:avLst/>
            <a:gdLst/>
            <a:ahLst/>
            <a:rect l="l" t="t" r="r" b="b"/>
            <a:pathLst>
              <a:path w="854" h="925">
                <a:moveTo>
                  <a:pt x="0" y="244"/>
                </a:moveTo>
                <a:cubicBezTo>
                  <a:pt x="50" y="211"/>
                  <a:pt x="21" y="204"/>
                  <a:pt x="58" y="167"/>
                </a:cubicBezTo>
                <a:cubicBezTo>
                  <a:pt x="83" y="142"/>
                  <a:pt x="120" y="110"/>
                  <a:pt x="154" y="100"/>
                </a:cubicBezTo>
                <a:cubicBezTo>
                  <a:pt x="182" y="81"/>
                  <a:pt x="198" y="62"/>
                  <a:pt x="230" y="52"/>
                </a:cubicBezTo>
                <a:cubicBezTo>
                  <a:pt x="254" y="30"/>
                  <a:pt x="280" y="22"/>
                  <a:pt x="307" y="4"/>
                </a:cubicBezTo>
                <a:cubicBezTo>
                  <a:pt x="371" y="7"/>
                  <a:pt x="436" y="0"/>
                  <a:pt x="499" y="13"/>
                </a:cubicBezTo>
                <a:cubicBezTo>
                  <a:pt x="517" y="17"/>
                  <a:pt x="538" y="52"/>
                  <a:pt x="538" y="52"/>
                </a:cubicBezTo>
                <a:cubicBezTo>
                  <a:pt x="570" y="155"/>
                  <a:pt x="595" y="290"/>
                  <a:pt x="653" y="378"/>
                </a:cubicBezTo>
                <a:cubicBezTo>
                  <a:pt x="658" y="404"/>
                  <a:pt x="668" y="429"/>
                  <a:pt x="672" y="455"/>
                </a:cubicBezTo>
                <a:cubicBezTo>
                  <a:pt x="680" y="509"/>
                  <a:pt x="691" y="618"/>
                  <a:pt x="691" y="618"/>
                </a:cubicBezTo>
                <a:cubicBezTo>
                  <a:pt x="678" y="661"/>
                  <a:pt x="697" y="692"/>
                  <a:pt x="710" y="733"/>
                </a:cubicBezTo>
                <a:cubicBezTo>
                  <a:pt x="717" y="755"/>
                  <a:pt x="742" y="765"/>
                  <a:pt x="758" y="781"/>
                </a:cubicBezTo>
                <a:cubicBezTo>
                  <a:pt x="768" y="791"/>
                  <a:pt x="787" y="810"/>
                  <a:pt x="787" y="810"/>
                </a:cubicBezTo>
                <a:cubicBezTo>
                  <a:pt x="795" y="832"/>
                  <a:pt x="796" y="856"/>
                  <a:pt x="806" y="877"/>
                </a:cubicBezTo>
                <a:cubicBezTo>
                  <a:pt x="817" y="899"/>
                  <a:pt x="854" y="901"/>
                  <a:pt x="854" y="9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1"/>
          <p:cNvSpPr/>
          <p:nvPr/>
        </p:nvSpPr>
        <p:spPr>
          <a:xfrm>
            <a:off x="4694400" y="3108240"/>
            <a:ext cx="411120" cy="655560"/>
          </a:xfrm>
          <a:custGeom>
            <a:avLst/>
            <a:gdLst/>
            <a:ahLst/>
            <a:rect l="l" t="t" r="r" b="b"/>
            <a:pathLst>
              <a:path w="259" h="413">
                <a:moveTo>
                  <a:pt x="259" y="0"/>
                </a:moveTo>
                <a:cubicBezTo>
                  <a:pt x="233" y="76"/>
                  <a:pt x="178" y="137"/>
                  <a:pt x="134" y="202"/>
                </a:cubicBezTo>
                <a:cubicBezTo>
                  <a:pt x="121" y="221"/>
                  <a:pt x="109" y="241"/>
                  <a:pt x="96" y="260"/>
                </a:cubicBezTo>
                <a:cubicBezTo>
                  <a:pt x="90" y="269"/>
                  <a:pt x="77" y="288"/>
                  <a:pt x="77" y="288"/>
                </a:cubicBezTo>
                <a:cubicBezTo>
                  <a:pt x="74" y="314"/>
                  <a:pt x="76" y="341"/>
                  <a:pt x="67" y="365"/>
                </a:cubicBezTo>
                <a:cubicBezTo>
                  <a:pt x="54" y="400"/>
                  <a:pt x="21" y="392"/>
                  <a:pt x="0" y="4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2"/>
          <p:cNvSpPr/>
          <p:nvPr/>
        </p:nvSpPr>
        <p:spPr>
          <a:xfrm>
            <a:off x="4419720" y="2819520"/>
            <a:ext cx="914400" cy="457200"/>
          </a:xfrm>
          <a:prstGeom prst="irregularSeal1">
            <a:avLst/>
          </a:prstGeom>
          <a:solidFill>
            <a:srgbClr val="637e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3"/>
          <p:cNvSpPr/>
          <p:nvPr/>
        </p:nvSpPr>
        <p:spPr>
          <a:xfrm>
            <a:off x="4724280" y="2057400"/>
            <a:ext cx="381240" cy="380880"/>
          </a:xfrm>
          <a:prstGeom prst="flowChartConnector">
            <a:avLst/>
          </a:prstGeom>
          <a:solidFill>
            <a:srgbClr val="d036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4"/>
          <p:cNvSpPr/>
          <p:nvPr/>
        </p:nvSpPr>
        <p:spPr>
          <a:xfrm>
            <a:off x="34290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380880" y="-763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小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609480" y="1066680"/>
            <a:ext cx="80010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这些都是蟋蟀住宅的特点。这么多的特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能不能用一句话加以概括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把这些特点介绍出来呢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自己试一试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28600" y="4114800"/>
            <a:ext cx="1676520" cy="533520"/>
          </a:xfrm>
          <a:prstGeom prst="wedgeRoundRectCallout">
            <a:avLst>
              <a:gd name="adj1" fmla="val -33805"/>
              <a:gd name="adj2" fmla="val -244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80880" y="4114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引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762120" y="480060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加入关联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蟋蟀住宅的特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仅朝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干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隐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弯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而且平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光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清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简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另一种说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蟋蟀住宅的特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既朝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干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隐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弯曲又平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光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清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简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>
            <a:hlinkClick r:id="rId2" action="ppaction://hlinksldjump"/>
          </p:cNvPr>
          <p:cNvSpPr/>
          <p:nvPr/>
        </p:nvSpPr>
        <p:spPr>
          <a:xfrm>
            <a:off x="8077320" y="632448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u=2381632730,2360512693&amp;gp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152280"/>
            <a:ext cx="1066680" cy="838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228600" y="2286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课文理解及难点剖析</a:t>
            </a:r>
            <a:r>
              <a:rPr b="1" lang="zh-CN" sz="48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33520" y="126216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理解蟋蟀修建住宅的过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体会蟋蟀吃苦耐劳的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685800" y="2590920"/>
            <a:ext cx="424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62120" y="272880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熟读课文第八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找出蟋蟀建造住宅所用的工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914400" y="396252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>
            <a:hlinkClick r:id="rId1" action="ppaction://hlinksldjump"/>
          </p:cNvPr>
          <p:cNvSpPr/>
          <p:nvPr/>
        </p:nvSpPr>
        <p:spPr>
          <a:xfrm>
            <a:off x="762120" y="3276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图把工具与蟋蟀的身体部位连接起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762120" y="38098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合图形给大家介绍一下蟋蟀是如何使用这些工具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7756560" y="57913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>
            <a:hlinkClick r:id="rId2" action="ppaction://hlinksldjump"/>
          </p:cNvPr>
          <p:cNvSpPr/>
          <p:nvPr/>
        </p:nvSpPr>
        <p:spPr>
          <a:xfrm>
            <a:off x="762120" y="44355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自己想象成一只可爱的小蟋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合图形简单介绍建造住宅的情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898560" y="604044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762120" y="54100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蟋蟀的精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吃苦耐劳的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762120" y="59436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赞美的情感朗读课文八至十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>
            <a:hlinkClick r:id="rId3" action="ppaction://hlinksldjump"/>
          </p:cNvPr>
          <p:cNvSpPr/>
          <p:nvPr/>
        </p:nvSpPr>
        <p:spPr>
          <a:xfrm>
            <a:off x="8001000" y="61722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7" descr="u=2339365379,579923874&amp;gp=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5181480"/>
            <a:ext cx="1905120" cy="102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蟋蟀盖房子大多是在十月。秋天初寒的时候。它用前足扒土，还用钳子搬掉较大的土块。它用强有力的后足踏地。后腿上有两排锯，用它将泥土推到后面，倾斜地铺开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3"/>
          <p:cNvSpPr/>
          <p:nvPr/>
        </p:nvSpPr>
        <p:spPr>
          <a:xfrm>
            <a:off x="304920" y="3049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行楷"/>
              </a:rPr>
              <a:t>看图结合课文连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638680" y="1709640"/>
            <a:ext cx="2210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前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钳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286000" y="43736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蟋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295280" y="5486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用工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前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钳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9" descr="u=2900834488,1292793597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523880"/>
            <a:ext cx="1828800" cy="2590920"/>
          </a:xfrm>
          <a:prstGeom prst="rect">
            <a:avLst/>
          </a:prstGeom>
          <a:ln w="0">
            <a:noFill/>
          </a:ln>
        </p:spPr>
      </p:pic>
      <p:sp>
        <p:nvSpPr>
          <p:cNvPr id="246" name="Line 21"/>
          <p:cNvSpPr/>
          <p:nvPr/>
        </p:nvSpPr>
        <p:spPr>
          <a:xfrm>
            <a:off x="3581280" y="2438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2"/>
          <p:cNvSpPr/>
          <p:nvPr/>
        </p:nvSpPr>
        <p:spPr>
          <a:xfrm flipV="1">
            <a:off x="3733920" y="1980720"/>
            <a:ext cx="1904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3"/>
          <p:cNvSpPr/>
          <p:nvPr/>
        </p:nvSpPr>
        <p:spPr>
          <a:xfrm>
            <a:off x="3048120" y="35812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7"/>
          <p:cNvSpPr/>
          <p:nvPr/>
        </p:nvSpPr>
        <p:spPr>
          <a:xfrm flipV="1">
            <a:off x="3352680" y="29718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8">
            <a:hlinkClick r:id="rId3" action="ppaction://hlinksldjump"/>
          </p:cNvPr>
          <p:cNvSpPr/>
          <p:nvPr/>
        </p:nvSpPr>
        <p:spPr>
          <a:xfrm>
            <a:off x="8001000" y="61722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457200" y="6094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琥珀"/>
              </a:rPr>
              <a:t>小活动：</a:t>
            </a:r>
            <a:r>
              <a:rPr b="0" lang="zh-CN" sz="2400" spc="-1" strike="noStrike">
                <a:solidFill>
                  <a:srgbClr val="d0365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d03650"/>
                </a:solidFill>
                <a:latin typeface="Times New Roman"/>
                <a:ea typeface="华文隶书"/>
              </a:rPr>
              <a:t>转动脑袋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762120" y="1828800"/>
            <a:ext cx="72388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请两位同学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教师感情渲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是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这些小蟋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就是用这样柔弱的工具建造我们的住宅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不停地挖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有时一连工作两三个小时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就连昆虫爱好者法布尔先生都看得有些不耐烦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可是我们还在不停地挖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=788341544,3346515067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981080"/>
            <a:ext cx="3124080" cy="93024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7">
            <a:hlinkClick r:id="rId3" action="ppaction://hlinksldjump"/>
          </p:cNvPr>
          <p:cNvSpPr/>
          <p:nvPr/>
        </p:nvSpPr>
        <p:spPr>
          <a:xfrm>
            <a:off x="8153280" y="6324480"/>
            <a:ext cx="838440" cy="38124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79" h="21600">
                <a:moveTo>
                  <a:pt x="0" y="0"/>
                </a:moveTo>
                <a:lnTo>
                  <a:pt x="47479" y="0"/>
                </a:lnTo>
                <a:lnTo>
                  <a:pt x="47479" y="21600"/>
                </a:lnTo>
                <a:lnTo>
                  <a:pt x="0" y="21600"/>
                </a:lnTo>
                <a:close/>
              </a:path>
              <a:path fill="lightenLess" w="47479" h="21600">
                <a:moveTo>
                  <a:pt x="0" y="0"/>
                </a:moveTo>
                <a:lnTo>
                  <a:pt x="47479" y="0"/>
                </a:lnTo>
                <a:lnTo>
                  <a:pt x="46079" y="1400"/>
                </a:lnTo>
                <a:lnTo>
                  <a:pt x="1400" y="1400"/>
                </a:lnTo>
                <a:close/>
              </a:path>
              <a:path fill="darken" w="47479" h="21600">
                <a:moveTo>
                  <a:pt x="47479" y="0"/>
                </a:moveTo>
                <a:lnTo>
                  <a:pt x="47479" y="21600"/>
                </a:lnTo>
                <a:lnTo>
                  <a:pt x="46079" y="20200"/>
                </a:lnTo>
                <a:lnTo>
                  <a:pt x="46079" y="1400"/>
                </a:lnTo>
                <a:close/>
              </a:path>
              <a:path fill="darkenLess" w="47479" h="21600">
                <a:moveTo>
                  <a:pt x="47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79" y="20200"/>
                </a:lnTo>
                <a:close/>
              </a:path>
              <a:path fill="lighten" w="47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0" descr="BD15034_"/>
          <p:cNvPicPr/>
          <p:nvPr/>
        </p:nvPicPr>
        <p:blipFill>
          <a:blip r:embed="rId4"/>
          <a:stretch/>
        </p:blipFill>
        <p:spPr>
          <a:xfrm>
            <a:off x="304920" y="5867280"/>
            <a:ext cx="8305560" cy="138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BD14711_"/>
          <p:cNvPicPr/>
          <p:nvPr/>
        </p:nvPicPr>
        <p:blipFill>
          <a:blip r:embed="rId5"/>
          <a:stretch/>
        </p:blipFill>
        <p:spPr>
          <a:xfrm>
            <a:off x="1143000" y="5715000"/>
            <a:ext cx="6858000" cy="228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8"/>
          <p:cNvSpPr/>
          <p:nvPr/>
        </p:nvSpPr>
        <p:spPr>
          <a:xfrm>
            <a:off x="7410240" y="1600200"/>
            <a:ext cx="1521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564b2"/>
                </a:solidFill>
                <a:latin typeface="Times New Roman"/>
                <a:ea typeface="华文行楷"/>
              </a:rPr>
              <a:t>关于蟋蟀的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u=3812733218,3241291494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733920"/>
            <a:ext cx="2438280" cy="2492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" descr="u=4223706826,2635199380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2952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4" descr="u=3872061383,2591474950&amp;gp=1"/>
          <p:cNvPicPr/>
          <p:nvPr/>
        </p:nvPicPr>
        <p:blipFill>
          <a:blip r:embed="rId5"/>
          <a:stretch/>
        </p:blipFill>
        <p:spPr>
          <a:xfrm>
            <a:off x="2895480" y="129528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6" descr="u=3377930512,2702016307&amp;gp=2"/>
          <p:cNvPicPr/>
          <p:nvPr/>
        </p:nvPicPr>
        <p:blipFill>
          <a:blip r:embed="rId6"/>
          <a:stretch/>
        </p:blipFill>
        <p:spPr>
          <a:xfrm>
            <a:off x="5638680" y="3733920"/>
            <a:ext cx="2286000" cy="249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0" descr="u=897708136,4169621804&amp;gp=3"/>
          <p:cNvPicPr/>
          <p:nvPr/>
        </p:nvPicPr>
        <p:blipFill>
          <a:blip r:embed="rId7"/>
          <a:stretch/>
        </p:blipFill>
        <p:spPr>
          <a:xfrm>
            <a:off x="457200" y="1295280"/>
            <a:ext cx="2286000" cy="1981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1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5" descr="u=1236010026,414480098&amp;gp=3"/>
          <p:cNvPicPr/>
          <p:nvPr/>
        </p:nvPicPr>
        <p:blipFill>
          <a:blip r:embed="rId8"/>
          <a:stretch/>
        </p:blipFill>
        <p:spPr>
          <a:xfrm>
            <a:off x="380880" y="3733920"/>
            <a:ext cx="2286000" cy="250956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36"/>
          <p:cNvSpPr/>
          <p:nvPr/>
        </p:nvSpPr>
        <p:spPr>
          <a:xfrm>
            <a:off x="228600" y="304920"/>
            <a:ext cx="2209680" cy="609480"/>
          </a:xfrm>
          <a:prstGeom prst="wedgeEllipseCallout">
            <a:avLst>
              <a:gd name="adj1" fmla="val -47412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8"/>
          <p:cNvSpPr/>
          <p:nvPr/>
        </p:nvSpPr>
        <p:spPr>
          <a:xfrm>
            <a:off x="609480" y="304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14ce8"/>
                </a:solidFill>
                <a:latin typeface="Times New Roman"/>
                <a:ea typeface="隶书"/>
              </a:rPr>
              <a:t>图片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9"/>
          <p:cNvSpPr/>
          <p:nvPr/>
        </p:nvSpPr>
        <p:spPr>
          <a:xfrm>
            <a:off x="8153280" y="640080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27" descr="u=3133509111,3577670771&amp;gp=0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028"/>
          <p:cNvSpPr/>
          <p:nvPr/>
        </p:nvSpPr>
        <p:spPr>
          <a:xfrm>
            <a:off x="1432440" y="60948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课后练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29"/>
          <p:cNvSpPr/>
          <p:nvPr/>
        </p:nvSpPr>
        <p:spPr>
          <a:xfrm>
            <a:off x="762120" y="27432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07bf"/>
                </a:solidFill>
                <a:latin typeface="Times New Roman"/>
              </a:rPr>
              <a:t>课文后的思考练习的第</a:t>
            </a:r>
            <a:r>
              <a:rPr b="1" lang="zh-CN" sz="4800" spc="-1" strike="noStrike">
                <a:solidFill>
                  <a:srgbClr val="2607b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2607bf"/>
                </a:solidFill>
                <a:latin typeface="Times New Roman"/>
              </a:rPr>
              <a:t>题和第</a:t>
            </a:r>
            <a:r>
              <a:rPr b="1" lang="zh-CN" sz="4800" spc="-1" strike="noStrike">
                <a:solidFill>
                  <a:srgbClr val="2607bf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2607bf"/>
                </a:solidFill>
                <a:latin typeface="Times New Roman"/>
              </a:rPr>
              <a:t>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035" descr="u=1835052590,268658674&amp;gp=1"/>
          <p:cNvPicPr/>
          <p:nvPr/>
        </p:nvPicPr>
        <p:blipFill>
          <a:blip r:embed="rId2"/>
          <a:stretch/>
        </p:blipFill>
        <p:spPr>
          <a:xfrm>
            <a:off x="1371600" y="4724280"/>
            <a:ext cx="73897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83200" y="1981080"/>
            <a:ext cx="54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133720" y="1295280"/>
            <a:ext cx="746748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外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水优良，向阳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隐蔽，干燥，遂道弯曲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平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905120" y="38098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内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光滑，平整，简朴，清洁，干燥，卫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-609480" y="1371600"/>
            <a:ext cx="281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583200" y="1981080"/>
            <a:ext cx="54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2133720" y="1295280"/>
            <a:ext cx="746748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外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水优良，向阳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隐蔽，干燥，遂道弯曲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平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905120" y="38098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内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光滑，平整，简朴，清洁，干燥，卫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-609480" y="1371600"/>
            <a:ext cx="281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0"/>
          <p:cNvSpPr/>
          <p:nvPr/>
        </p:nvSpPr>
        <p:spPr>
          <a:xfrm>
            <a:off x="8047080" y="5141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1143000" y="38088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2e078f"/>
                </a:solidFill>
                <a:latin typeface="Times New Roman"/>
                <a:ea typeface="华文行楷"/>
              </a:rPr>
              <a:t>导入新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150804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蟋蟀又叫蛐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你可能见过或者逮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读读这篇课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它会告诉你蟋蟀不仅会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好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而且有高超的建造住宅的本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这节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将一起去参观它的住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并从中体会蟋蟀有哪些值得我们学习的精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>
            <a:hlinkClick r:id="rId1" action="ppaction://hlinksldjump"/>
          </p:cNvPr>
          <p:cNvSpPr/>
          <p:nvPr/>
        </p:nvSpPr>
        <p:spPr>
          <a:xfrm>
            <a:off x="457200" y="5562720"/>
            <a:ext cx="7848720" cy="609480"/>
          </a:xfrm>
          <a:prstGeom prst="cloudCallout">
            <a:avLst>
              <a:gd name="adj1" fmla="val -58009"/>
              <a:gd name="adj2" fmla="val 4575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362320" y="56386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图片欣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关于蟋蟀的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u=3378410332,2431854425&amp;gp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70880" y="4876920"/>
            <a:ext cx="1320840" cy="1904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BD21300_"/>
          <p:cNvPicPr/>
          <p:nvPr/>
        </p:nvPicPr>
        <p:blipFill>
          <a:blip r:embed="rId4"/>
          <a:stretch/>
        </p:blipFill>
        <p:spPr>
          <a:xfrm>
            <a:off x="5105520" y="533520"/>
            <a:ext cx="3124080" cy="690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462240" y="1143000"/>
            <a:ext cx="637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828800" y="990720"/>
            <a:ext cx="69343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时间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十月，秋天初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挖掘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前足，扒    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后足，踏    推   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整修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长时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7000" y="99072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蟋蟀的简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蟋蟀也叫蛐蛐。身体较小，呈黑褐色，触角很长，善于跳跃。雄性好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翅摩擦发声。生活在土穴、砖瓦碎石的下面或杂草中，主要在夜间活动。吃植物的根、茎、叶及种子，对农作物有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04920" y="2286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课文学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43000" y="16765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汇报预习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>
            <a:hlinkClick r:id="rId1" action="ppaction://hlinksldjump"/>
          </p:cNvPr>
          <p:cNvSpPr/>
          <p:nvPr/>
        </p:nvSpPr>
        <p:spPr>
          <a:xfrm>
            <a:off x="1143000" y="26668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二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生字的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>
            <a:hlinkClick r:id="rId2" action="ppaction://hlinksldjump"/>
          </p:cNvPr>
          <p:cNvSpPr/>
          <p:nvPr/>
        </p:nvSpPr>
        <p:spPr>
          <a:xfrm>
            <a:off x="1143000" y="3624120"/>
            <a:ext cx="655308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词语的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一般的词语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会读会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重点的词语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能灵活运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u=2082901019,2062968461&amp;gp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762120"/>
            <a:ext cx="236232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《蟋蟀的住宅》插图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105" name="WordArt 3"/>
          <p:cNvSpPr txBox="1"/>
          <p:nvPr/>
        </p:nvSpPr>
        <p:spPr>
          <a:xfrm rot="5400000">
            <a:off x="5758920" y="3009960"/>
            <a:ext cx="5095800" cy="1057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蟋蟀的住宅</a:t>
            </a:r>
            <a:endParaRPr b="1" lang="en-US" sz="8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p:transition spd="med">
    <p:blinds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4572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总结课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09480" y="1828800"/>
            <a:ext cx="76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通过今天的学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不仅了解了蟋蟀住宅的特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而且了解了它是如何建造住宅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它的这种吃苦耐劳的精神是值得我们学习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篇课文选自法国著名昆虫学家法布尔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&lt;&l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昆虫的故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&gt;&g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课后有兴趣的同学可以借来读一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相信大家一定会有更多的收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u=3282447652,395860429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380880"/>
            <a:ext cx="2362320" cy="1298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BD21332_"/>
          <p:cNvPicPr/>
          <p:nvPr/>
        </p:nvPicPr>
        <p:blipFill>
          <a:blip r:embed="rId3"/>
          <a:stretch/>
        </p:blipFill>
        <p:spPr>
          <a:xfrm>
            <a:off x="533520" y="6095880"/>
            <a:ext cx="8229600" cy="34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1031"/>
          <p:cNvSpPr/>
          <p:nvPr/>
        </p:nvSpPr>
        <p:spPr>
          <a:xfrm>
            <a:off x="1371600" y="228600"/>
            <a:ext cx="4495680" cy="1066680"/>
          </a:xfrm>
          <a:prstGeom prst="cloudCallout">
            <a:avLst>
              <a:gd name="adj1" fmla="val -69069"/>
              <a:gd name="adj2" fmla="val 90027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32"/>
          <p:cNvSpPr/>
          <p:nvPr/>
        </p:nvSpPr>
        <p:spPr>
          <a:xfrm>
            <a:off x="1676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  <a:ea typeface="华文琥珀"/>
              </a:rPr>
              <a:t>猜一猜</a:t>
            </a:r>
            <a:r>
              <a:rPr b="0" lang="zh-CN" sz="2800" spc="-1" strike="noStrike">
                <a:solidFill>
                  <a:srgbClr val="6666ff"/>
                </a:solidFill>
                <a:latin typeface="Times New Roman"/>
                <a:ea typeface="华文琥珀"/>
              </a:rPr>
              <a:t>(</a:t>
            </a:r>
            <a:r>
              <a:rPr b="0" lang="zh-CN" sz="2800" spc="-1" strike="noStrike">
                <a:solidFill>
                  <a:srgbClr val="6666ff"/>
                </a:solidFill>
                <a:latin typeface="Times New Roman"/>
                <a:ea typeface="华文琥珀"/>
              </a:rPr>
              <a:t>打三种昆虫</a:t>
            </a:r>
            <a:r>
              <a:rPr b="0" lang="zh-CN" sz="2800" spc="-1" strike="noStrike">
                <a:solidFill>
                  <a:srgbClr val="6666ff"/>
                </a:solidFill>
                <a:latin typeface="Times New Roman"/>
                <a:ea typeface="华文琥珀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34"/>
          <p:cNvSpPr/>
          <p:nvPr/>
        </p:nvSpPr>
        <p:spPr>
          <a:xfrm>
            <a:off x="457200" y="5181480"/>
            <a:ext cx="1143000" cy="990720"/>
          </a:xfrm>
          <a:prstGeom prst="smileyFace">
            <a:avLst>
              <a:gd name="adj" fmla="val 9282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35"/>
          <p:cNvSpPr/>
          <p:nvPr/>
        </p:nvSpPr>
        <p:spPr>
          <a:xfrm>
            <a:off x="533520" y="5334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14ce8"/>
                </a:solidFill>
                <a:latin typeface="Times New Roman"/>
                <a:ea typeface="华文琥珀"/>
              </a:rPr>
              <a:t>谜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36" descr="BD00028_"/>
          <p:cNvPicPr/>
          <p:nvPr/>
        </p:nvPicPr>
        <p:blipFill>
          <a:blip r:embed="rId1"/>
          <a:stretch/>
        </p:blipFill>
        <p:spPr>
          <a:xfrm>
            <a:off x="228600" y="152280"/>
            <a:ext cx="1447920" cy="11430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15" name="AutoShape 1037">
            <a:hlinkClick r:id="rId2" action="ppaction://hlinksldjump"/>
          </p:cNvPr>
          <p:cNvSpPr/>
          <p:nvPr/>
        </p:nvSpPr>
        <p:spPr>
          <a:xfrm>
            <a:off x="8077320" y="586728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40"/>
          <p:cNvSpPr/>
          <p:nvPr/>
        </p:nvSpPr>
        <p:spPr>
          <a:xfrm>
            <a:off x="914400" y="1752480"/>
            <a:ext cx="6781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小小飞贼，武器是针，抽别人血，养自己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一条小小虫，自己做灯笼，躲在灯笼里，变个飞仙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小小诸葛亮，独坐军中帐，摆成八卦阵，专抓飞来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41"/>
          <p:cNvSpPr/>
          <p:nvPr/>
        </p:nvSpPr>
        <p:spPr>
          <a:xfrm>
            <a:off x="17524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2e98"/>
                </a:solidFill>
                <a:latin typeface="Times New Roman"/>
                <a:ea typeface="隶书"/>
              </a:rPr>
              <a:t>蚊子      蚕          蜘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42" descr="u=343206145,2392802900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3808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4572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03650"/>
                </a:solidFill>
                <a:latin typeface="Times New Roman"/>
                <a:ea typeface="隶书"/>
              </a:rPr>
              <a:t>跟我学生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09480" y="2133720"/>
            <a:ext cx="78472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)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弃</a:t>
            </a:r>
            <a:r>
              <a:rPr b="0" lang="zh-CN" sz="2800" spc="-1" strike="noStrike">
                <a:solidFill>
                  <a:srgbClr val="d0365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d0365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d03650"/>
                </a:solidFill>
                <a:latin typeface="Times New Roman"/>
              </a:rPr>
              <a:t>qi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慎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n)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责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址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( 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Zhi</a:t>
            </a:r>
            <a:r>
              <a:rPr b="0" lang="en-US" sz="2800" spc="-1" strike="noStrike">
                <a:solidFill>
                  <a:srgbClr val="d03650"/>
                </a:solidFill>
                <a:latin typeface="Times New Roman"/>
              </a:rPr>
              <a:t>)      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掘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( 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jue</a:t>
            </a:r>
            <a:r>
              <a:rPr b="0" lang="en-US" sz="2800" spc="-1" strike="noStrike">
                <a:solidFill>
                  <a:srgbClr val="d0365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隧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)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h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耙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 )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糙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o)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假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a)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钳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a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宅（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zhai)</a:t>
            </a:r>
            <a:r>
              <a:rPr b="0" lang="en-US" sz="2800" spc="-1" strike="noStrike">
                <a:solidFill>
                  <a:srgbClr val="d0365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蔽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bi )      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穴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xue)  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倾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qing)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扒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ba)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抛 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pao)    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毫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hao)  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遇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yu)   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搜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sou)    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择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47636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581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114800" y="1676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33526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556272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78487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67652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581280" y="2819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55627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74674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1476360" y="3357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ˊ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638680" y="3429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76960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250920" y="522936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生字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2">
            <a:hlinkClick r:id="rId1" action="ppaction://hlinksldjump"/>
          </p:cNvPr>
          <p:cNvSpPr/>
          <p:nvPr/>
        </p:nvSpPr>
        <p:spPr>
          <a:xfrm>
            <a:off x="7848720" y="60199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" descr="PE03166_"/>
          <p:cNvPicPr/>
          <p:nvPr/>
        </p:nvPicPr>
        <p:blipFill>
          <a:blip r:embed="rId2"/>
          <a:stretch/>
        </p:blipFill>
        <p:spPr>
          <a:xfrm>
            <a:off x="4284720" y="5181480"/>
            <a:ext cx="335268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4" descr="u=3527458971,151664776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685800"/>
            <a:ext cx="2514600" cy="1036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7"/>
          <p:cNvSpPr/>
          <p:nvPr/>
        </p:nvSpPr>
        <p:spPr>
          <a:xfrm>
            <a:off x="1619280" y="400536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ˊ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 flipV="1">
            <a:off x="7596360" y="3997080"/>
            <a:ext cx="6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ˊ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003640" y="407664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ˊ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2987640" y="450864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ˊ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2"/>
          <p:cNvSpPr/>
          <p:nvPr/>
        </p:nvSpPr>
        <p:spPr>
          <a:xfrm>
            <a:off x="4500720" y="4437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3"/>
          <p:cNvSpPr/>
          <p:nvPr/>
        </p:nvSpPr>
        <p:spPr>
          <a:xfrm>
            <a:off x="2987640" y="4076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5940360" y="4508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5"/>
          <p:cNvSpPr/>
          <p:nvPr/>
        </p:nvSpPr>
        <p:spPr>
          <a:xfrm>
            <a:off x="6372360" y="4005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4229280" y="4076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1332000" y="450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8"/>
          <p:cNvSpPr/>
          <p:nvPr/>
        </p:nvSpPr>
        <p:spPr>
          <a:xfrm>
            <a:off x="7812000" y="4076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6:31:37Z</dcterms:created>
  <dc:creator/>
  <dc:description/>
  <cp:keywords>幻灯片之家 http:/www.eeppt.com</cp:keywords>
  <dc:language>en-US</dc:language>
  <cp:lastModifiedBy/>
  <dcterms:modified xsi:type="dcterms:W3CDTF">2015-07-20T04:13:3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