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949-FBD1-459A-A1D1-15DED11E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0F8-FCD2-4BE6-B2A5-ACFB960B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F4B-ECE3-4AC4-BDA7-3B59914E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B8FB-C404-479D-9E04-B1246D5A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E95-C4D7-4D1E-A517-620C8E36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D98-D553-40E9-9B14-09B783FC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B96-F02F-4192-B891-FC7E2282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91B-DCA1-4B60-BE2D-C7BD6FF0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038-D733-47A6-857E-E1C6EDEA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141D-43BE-4AD9-BDED-138689FF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C76-988D-4456-A069-203ED282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1A1-3807-48E4-AAD6-3F29F10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819C-1149-44FD-89B0-CC81379D23A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6C1E-BB73-476C-9238-81E665BCCD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dongtai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22"/>
          <p:cNvSpPr/>
          <p:nvPr/>
        </p:nvSpPr>
        <p:spPr>
          <a:xfrm>
            <a:off x="-307800" y="2894040"/>
            <a:ext cx="8978760" cy="2628720"/>
          </a:xfrm>
          <a:custGeom>
            <a:avLst/>
            <a:gdLst>
              <a:gd name="textAreaLeft" fmla="*/ 0 w 8978760"/>
              <a:gd name="textAreaRight" fmla="*/ 8979120 w 8978760"/>
              <a:gd name="textAreaTop" fmla="*/ 0 h 2628720"/>
              <a:gd name="textAreaBottom" fmla="*/ 2629080 h 2628720"/>
            </a:gdLst>
            <a:ahLst/>
            <a:rect l="textAreaLeft" t="textAreaTop" r="textAreaRight" b="textAreaBottom"/>
            <a:pathLst>
              <a:path w="8981778" h="2628754">
                <a:moveTo>
                  <a:pt x="227489" y="289367"/>
                </a:moveTo>
                <a:lnTo>
                  <a:pt x="1037717" y="254643"/>
                </a:lnTo>
                <a:lnTo>
                  <a:pt x="2021565" y="196769"/>
                </a:lnTo>
                <a:cubicBezTo>
                  <a:pt x="2372664" y="175549"/>
                  <a:pt x="2795140" y="136966"/>
                  <a:pt x="3144310" y="127321"/>
                </a:cubicBezTo>
                <a:cubicBezTo>
                  <a:pt x="3493480" y="117676"/>
                  <a:pt x="3860011" y="131179"/>
                  <a:pt x="4116583" y="138896"/>
                </a:cubicBezTo>
                <a:cubicBezTo>
                  <a:pt x="4373155" y="146612"/>
                  <a:pt x="4496618" y="146613"/>
                  <a:pt x="4683742" y="173620"/>
                </a:cubicBezTo>
                <a:cubicBezTo>
                  <a:pt x="4870866" y="200627"/>
                  <a:pt x="5042558" y="233422"/>
                  <a:pt x="5239327" y="300941"/>
                </a:cubicBezTo>
                <a:cubicBezTo>
                  <a:pt x="5436096" y="368460"/>
                  <a:pt x="5665661" y="470704"/>
                  <a:pt x="5864360" y="578734"/>
                </a:cubicBezTo>
                <a:cubicBezTo>
                  <a:pt x="6063059" y="686765"/>
                  <a:pt x="6174948" y="765858"/>
                  <a:pt x="6431520" y="949124"/>
                </a:cubicBezTo>
                <a:cubicBezTo>
                  <a:pt x="6688092" y="1132390"/>
                  <a:pt x="7137575" y="1469985"/>
                  <a:pt x="7403793" y="1678329"/>
                </a:cubicBezTo>
                <a:cubicBezTo>
                  <a:pt x="7670011" y="1886673"/>
                  <a:pt x="7855206" y="2062222"/>
                  <a:pt x="8028826" y="2199189"/>
                </a:cubicBezTo>
                <a:cubicBezTo>
                  <a:pt x="8202446" y="2336156"/>
                  <a:pt x="8289257" y="2428754"/>
                  <a:pt x="8445515" y="2500131"/>
                </a:cubicBezTo>
                <a:cubicBezTo>
                  <a:pt x="8601773" y="2571508"/>
                  <a:pt x="8904643" y="2639028"/>
                  <a:pt x="8966375" y="2627453"/>
                </a:cubicBezTo>
                <a:cubicBezTo>
                  <a:pt x="9028107" y="2615878"/>
                  <a:pt x="8889211" y="2490486"/>
                  <a:pt x="8815905" y="2430683"/>
                </a:cubicBezTo>
                <a:cubicBezTo>
                  <a:pt x="8742599" y="2370881"/>
                  <a:pt x="8686654" y="2367023"/>
                  <a:pt x="8526537" y="2268638"/>
                </a:cubicBezTo>
                <a:cubicBezTo>
                  <a:pt x="8366420" y="2170253"/>
                  <a:pt x="8113707" y="2021711"/>
                  <a:pt x="7855206" y="1840374"/>
                </a:cubicBezTo>
                <a:cubicBezTo>
                  <a:pt x="7596705" y="1659037"/>
                  <a:pt x="7239819" y="1371599"/>
                  <a:pt x="6975530" y="1180617"/>
                </a:cubicBezTo>
                <a:cubicBezTo>
                  <a:pt x="6711241" y="989635"/>
                  <a:pt x="6497109" y="835306"/>
                  <a:pt x="6269474" y="694481"/>
                </a:cubicBezTo>
                <a:cubicBezTo>
                  <a:pt x="6041839" y="553656"/>
                  <a:pt x="5829637" y="424404"/>
                  <a:pt x="5609717" y="335665"/>
                </a:cubicBezTo>
                <a:cubicBezTo>
                  <a:pt x="5389797" y="246926"/>
                  <a:pt x="5297200" y="208344"/>
                  <a:pt x="5088856" y="162045"/>
                </a:cubicBezTo>
                <a:cubicBezTo>
                  <a:pt x="4880512" y="115746"/>
                  <a:pt x="4637443" y="84880"/>
                  <a:pt x="4359651" y="57873"/>
                </a:cubicBezTo>
                <a:cubicBezTo>
                  <a:pt x="4081859" y="30866"/>
                  <a:pt x="3422102" y="0"/>
                  <a:pt x="3422102" y="0"/>
                </a:cubicBezTo>
                <a:lnTo>
                  <a:pt x="1975267" y="23149"/>
                </a:lnTo>
                <a:lnTo>
                  <a:pt x="979844" y="46298"/>
                </a:lnTo>
                <a:cubicBezTo>
                  <a:pt x="657682" y="55943"/>
                  <a:pt x="163828" y="40511"/>
                  <a:pt x="42294" y="81022"/>
                </a:cubicBezTo>
                <a:cubicBezTo>
                  <a:pt x="-79240" y="121533"/>
                  <a:pt x="85699" y="205450"/>
                  <a:pt x="227489" y="289367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24"/>
          <p:cNvSpPr/>
          <p:nvPr/>
        </p:nvSpPr>
        <p:spPr>
          <a:xfrm>
            <a:off x="-225360" y="2511360"/>
            <a:ext cx="9426600" cy="1319400"/>
          </a:xfrm>
          <a:custGeom>
            <a:avLst/>
            <a:gdLst>
              <a:gd name="textAreaLeft" fmla="*/ 0 w 9426600"/>
              <a:gd name="textAreaRight" fmla="*/ 9426960 w 9426600"/>
              <a:gd name="textAreaTop" fmla="*/ 0 h 1319400"/>
              <a:gd name="textAreaBottom" fmla="*/ 1319760 h 1319400"/>
            </a:gdLst>
            <a:ahLst/>
            <a:rect l="textAreaLeft" t="textAreaTop" r="textAreaRight" b="textAreaBottom"/>
            <a:pathLst>
              <a:path w="9429069" h="1319514">
                <a:moveTo>
                  <a:pt x="62578" y="0"/>
                </a:moveTo>
                <a:lnTo>
                  <a:pt x="919105" y="277793"/>
                </a:lnTo>
                <a:lnTo>
                  <a:pt x="2099722" y="682906"/>
                </a:lnTo>
                <a:cubicBezTo>
                  <a:pt x="2450821" y="802511"/>
                  <a:pt x="2666882" y="902825"/>
                  <a:pt x="3025697" y="995423"/>
                </a:cubicBezTo>
                <a:cubicBezTo>
                  <a:pt x="3384512" y="1088021"/>
                  <a:pt x="3787698" y="1196051"/>
                  <a:pt x="4252614" y="1238491"/>
                </a:cubicBezTo>
                <a:cubicBezTo>
                  <a:pt x="4717531" y="1280932"/>
                  <a:pt x="5319414" y="1275144"/>
                  <a:pt x="5815196" y="1250066"/>
                </a:cubicBezTo>
                <a:cubicBezTo>
                  <a:pt x="6310978" y="1224988"/>
                  <a:pt x="7227307" y="1088021"/>
                  <a:pt x="7227307" y="1088021"/>
                </a:cubicBezTo>
                <a:lnTo>
                  <a:pt x="9056107" y="879676"/>
                </a:lnTo>
                <a:cubicBezTo>
                  <a:pt x="9418780" y="843023"/>
                  <a:pt x="9345475" y="806370"/>
                  <a:pt x="9403348" y="868102"/>
                </a:cubicBezTo>
                <a:cubicBezTo>
                  <a:pt x="9461221" y="929834"/>
                  <a:pt x="9403348" y="1197980"/>
                  <a:pt x="9403348" y="1250066"/>
                </a:cubicBezTo>
                <a:lnTo>
                  <a:pt x="9403348" y="1180618"/>
                </a:lnTo>
                <a:cubicBezTo>
                  <a:pt x="9276027" y="1176760"/>
                  <a:pt x="8928786" y="1209555"/>
                  <a:pt x="8639419" y="1226917"/>
                </a:cubicBezTo>
                <a:cubicBezTo>
                  <a:pt x="8350052" y="1244279"/>
                  <a:pt x="8099266" y="1269357"/>
                  <a:pt x="7667145" y="1284790"/>
                </a:cubicBezTo>
                <a:cubicBezTo>
                  <a:pt x="7235024" y="1300223"/>
                  <a:pt x="6046690" y="1319514"/>
                  <a:pt x="6046690" y="1319514"/>
                </a:cubicBezTo>
                <a:lnTo>
                  <a:pt x="5062842" y="1307940"/>
                </a:lnTo>
                <a:cubicBezTo>
                  <a:pt x="4744538" y="1294436"/>
                  <a:pt x="4516902" y="1296364"/>
                  <a:pt x="4136867" y="1238491"/>
                </a:cubicBezTo>
                <a:cubicBezTo>
                  <a:pt x="3756832" y="1180618"/>
                  <a:pt x="3154948" y="1045580"/>
                  <a:pt x="2782629" y="960699"/>
                </a:cubicBezTo>
                <a:cubicBezTo>
                  <a:pt x="2410310" y="875818"/>
                  <a:pt x="1902953" y="729205"/>
                  <a:pt x="1902953" y="729205"/>
                </a:cubicBezTo>
                <a:lnTo>
                  <a:pt x="548715" y="393540"/>
                </a:lnTo>
                <a:cubicBezTo>
                  <a:pt x="238128" y="312517"/>
                  <a:pt x="118523" y="310588"/>
                  <a:pt x="39429" y="243069"/>
                </a:cubicBezTo>
                <a:cubicBezTo>
                  <a:pt x="-39665" y="175550"/>
                  <a:pt x="17244" y="81988"/>
                  <a:pt x="6257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>
            <a:off x="-320760" y="3273480"/>
            <a:ext cx="9642600" cy="1870200"/>
          </a:xfrm>
          <a:custGeom>
            <a:avLst/>
            <a:gdLst>
              <a:gd name="textAreaLeft" fmla="*/ 0 w 9642600"/>
              <a:gd name="textAreaRight" fmla="*/ 9642960 w 9642600"/>
              <a:gd name="textAreaTop" fmla="*/ 0 h 1870200"/>
              <a:gd name="textAreaBottom" fmla="*/ 1870560 h 1870200"/>
            </a:gdLst>
            <a:ahLst/>
            <a:rect l="textAreaLeft" t="textAreaTop" r="textAreaRight" b="textAreaBottom"/>
            <a:pathLst>
              <a:path w="9646735" h="1869420">
                <a:moveTo>
                  <a:pt x="31952" y="1239487"/>
                </a:moveTo>
                <a:cubicBezTo>
                  <a:pt x="126479" y="1146890"/>
                  <a:pt x="481435" y="1090944"/>
                  <a:pt x="784306" y="984843"/>
                </a:cubicBezTo>
                <a:cubicBezTo>
                  <a:pt x="1087177" y="878742"/>
                  <a:pt x="1453709" y="735988"/>
                  <a:pt x="1849177" y="602879"/>
                </a:cubicBezTo>
                <a:cubicBezTo>
                  <a:pt x="2244645" y="469770"/>
                  <a:pt x="2734640" y="286504"/>
                  <a:pt x="3157116" y="186190"/>
                </a:cubicBezTo>
                <a:cubicBezTo>
                  <a:pt x="3579592" y="85876"/>
                  <a:pt x="4025217" y="10641"/>
                  <a:pt x="4384032" y="996"/>
                </a:cubicBezTo>
                <a:cubicBezTo>
                  <a:pt x="4742847" y="-8649"/>
                  <a:pt x="4968554" y="53082"/>
                  <a:pt x="5310007" y="128317"/>
                </a:cubicBezTo>
                <a:cubicBezTo>
                  <a:pt x="5651460" y="203552"/>
                  <a:pt x="6081653" y="342448"/>
                  <a:pt x="6432752" y="452407"/>
                </a:cubicBezTo>
                <a:cubicBezTo>
                  <a:pt x="6783851" y="562366"/>
                  <a:pt x="7071288" y="658823"/>
                  <a:pt x="7416599" y="788074"/>
                </a:cubicBezTo>
                <a:cubicBezTo>
                  <a:pt x="7761910" y="917325"/>
                  <a:pt x="8161238" y="1098661"/>
                  <a:pt x="8504620" y="1227912"/>
                </a:cubicBezTo>
                <a:cubicBezTo>
                  <a:pt x="8848002" y="1357163"/>
                  <a:pt x="9287840" y="1461335"/>
                  <a:pt x="9476893" y="1563578"/>
                </a:cubicBezTo>
                <a:cubicBezTo>
                  <a:pt x="9665946" y="1665821"/>
                  <a:pt x="9654372" y="1797000"/>
                  <a:pt x="9638939" y="1841370"/>
                </a:cubicBezTo>
                <a:cubicBezTo>
                  <a:pt x="9623506" y="1885740"/>
                  <a:pt x="9538625" y="1874166"/>
                  <a:pt x="9384296" y="1829796"/>
                </a:cubicBezTo>
                <a:cubicBezTo>
                  <a:pt x="9229967" y="1785426"/>
                  <a:pt x="9154731" y="1781567"/>
                  <a:pt x="8712964" y="1575152"/>
                </a:cubicBezTo>
                <a:cubicBezTo>
                  <a:pt x="8271197" y="1368737"/>
                  <a:pt x="7181247" y="791932"/>
                  <a:pt x="6733693" y="591304"/>
                </a:cubicBezTo>
                <a:cubicBezTo>
                  <a:pt x="6286139" y="390676"/>
                  <a:pt x="6278422" y="450479"/>
                  <a:pt x="6027638" y="371385"/>
                </a:cubicBezTo>
                <a:cubicBezTo>
                  <a:pt x="5776854" y="292291"/>
                  <a:pt x="5585870" y="230559"/>
                  <a:pt x="5298432" y="186190"/>
                </a:cubicBezTo>
                <a:cubicBezTo>
                  <a:pt x="5010994" y="141821"/>
                  <a:pt x="4630959" y="87806"/>
                  <a:pt x="4303010" y="105168"/>
                </a:cubicBezTo>
                <a:cubicBezTo>
                  <a:pt x="3975061" y="122530"/>
                  <a:pt x="3745496" y="164971"/>
                  <a:pt x="3330736" y="290363"/>
                </a:cubicBezTo>
                <a:cubicBezTo>
                  <a:pt x="2915977" y="415755"/>
                  <a:pt x="2215709" y="693547"/>
                  <a:pt x="1814453" y="857522"/>
                </a:cubicBezTo>
                <a:cubicBezTo>
                  <a:pt x="1413197" y="1021497"/>
                  <a:pt x="1189420" y="1160393"/>
                  <a:pt x="923202" y="1274211"/>
                </a:cubicBezTo>
                <a:cubicBezTo>
                  <a:pt x="656984" y="1388029"/>
                  <a:pt x="365688" y="1546215"/>
                  <a:pt x="217146" y="1540428"/>
                </a:cubicBezTo>
                <a:cubicBezTo>
                  <a:pt x="68604" y="1534641"/>
                  <a:pt x="-62575" y="1332084"/>
                  <a:pt x="31952" y="1239487"/>
                </a:cubicBezTo>
                <a:close/>
              </a:path>
            </a:pathLst>
          </a:custGeom>
          <a:solidFill>
            <a:srgbClr val="e36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0"/>
          <p:cNvSpPr/>
          <p:nvPr/>
        </p:nvSpPr>
        <p:spPr>
          <a:xfrm>
            <a:off x="-344520" y="2274840"/>
            <a:ext cx="9648720" cy="1500120"/>
          </a:xfrm>
          <a:custGeom>
            <a:avLst/>
            <a:gdLst>
              <a:gd name="textAreaLeft" fmla="*/ 0 w 9648720"/>
              <a:gd name="textAreaRight" fmla="*/ 9649080 w 96487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9653111" h="1501335">
                <a:moveTo>
                  <a:pt x="177665" y="0"/>
                </a:moveTo>
                <a:lnTo>
                  <a:pt x="756399" y="231494"/>
                </a:lnTo>
                <a:lnTo>
                  <a:pt x="1659225" y="578735"/>
                </a:lnTo>
                <a:lnTo>
                  <a:pt x="2619924" y="937550"/>
                </a:lnTo>
                <a:cubicBezTo>
                  <a:pt x="2897716" y="1035935"/>
                  <a:pt x="3040470" y="1097666"/>
                  <a:pt x="3325979" y="1169043"/>
                </a:cubicBezTo>
                <a:cubicBezTo>
                  <a:pt x="3611488" y="1240420"/>
                  <a:pt x="4020461" y="1325302"/>
                  <a:pt x="4332977" y="1365813"/>
                </a:cubicBezTo>
                <a:cubicBezTo>
                  <a:pt x="4645493" y="1406324"/>
                  <a:pt x="4959939" y="1410183"/>
                  <a:pt x="5201078" y="1412112"/>
                </a:cubicBezTo>
                <a:cubicBezTo>
                  <a:pt x="5442217" y="1414041"/>
                  <a:pt x="5523240" y="1400537"/>
                  <a:pt x="5779812" y="1377388"/>
                </a:cubicBezTo>
                <a:cubicBezTo>
                  <a:pt x="6036384" y="1354239"/>
                  <a:pt x="6345043" y="1334948"/>
                  <a:pt x="6740511" y="1273216"/>
                </a:cubicBezTo>
                <a:cubicBezTo>
                  <a:pt x="7135979" y="1211484"/>
                  <a:pt x="8152622" y="1006998"/>
                  <a:pt x="8152622" y="1006998"/>
                </a:cubicBezTo>
                <a:cubicBezTo>
                  <a:pt x="8573169" y="929833"/>
                  <a:pt x="9018794" y="841094"/>
                  <a:pt x="9263792" y="810228"/>
                </a:cubicBezTo>
                <a:cubicBezTo>
                  <a:pt x="9508790" y="779362"/>
                  <a:pt x="9566663" y="771646"/>
                  <a:pt x="9622607" y="821803"/>
                </a:cubicBezTo>
                <a:cubicBezTo>
                  <a:pt x="9678551" y="871960"/>
                  <a:pt x="9649615" y="1059084"/>
                  <a:pt x="9599458" y="1111170"/>
                </a:cubicBezTo>
                <a:cubicBezTo>
                  <a:pt x="9549301" y="1163256"/>
                  <a:pt x="9321665" y="1134319"/>
                  <a:pt x="9321665" y="1134319"/>
                </a:cubicBezTo>
                <a:lnTo>
                  <a:pt x="8337817" y="1226917"/>
                </a:lnTo>
                <a:lnTo>
                  <a:pt x="6752086" y="1412112"/>
                </a:lnTo>
                <a:cubicBezTo>
                  <a:pt x="6279453" y="1456482"/>
                  <a:pt x="5856977" y="1481560"/>
                  <a:pt x="5502020" y="1493135"/>
                </a:cubicBezTo>
                <a:cubicBezTo>
                  <a:pt x="5147063" y="1504710"/>
                  <a:pt x="4931002" y="1506638"/>
                  <a:pt x="4622344" y="1481560"/>
                </a:cubicBezTo>
                <a:cubicBezTo>
                  <a:pt x="4313686" y="1456482"/>
                  <a:pt x="4032035" y="1425616"/>
                  <a:pt x="3650070" y="1342664"/>
                </a:cubicBezTo>
                <a:cubicBezTo>
                  <a:pt x="3268105" y="1259712"/>
                  <a:pt x="2687442" y="1086091"/>
                  <a:pt x="2330556" y="983848"/>
                </a:cubicBezTo>
                <a:cubicBezTo>
                  <a:pt x="1973670" y="881605"/>
                  <a:pt x="1863711" y="846881"/>
                  <a:pt x="1508754" y="729205"/>
                </a:cubicBezTo>
                <a:cubicBezTo>
                  <a:pt x="1153797" y="611529"/>
                  <a:pt x="451600" y="374249"/>
                  <a:pt x="200815" y="277793"/>
                </a:cubicBezTo>
                <a:cubicBezTo>
                  <a:pt x="-49970" y="181337"/>
                  <a:pt x="5974" y="196770"/>
                  <a:pt x="4045" y="150471"/>
                </a:cubicBezTo>
                <a:cubicBezTo>
                  <a:pt x="2116" y="104172"/>
                  <a:pt x="95678" y="52086"/>
                  <a:pt x="1776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23"/>
          <p:cNvSpPr/>
          <p:nvPr/>
        </p:nvSpPr>
        <p:spPr>
          <a:xfrm>
            <a:off x="-68400" y="3203640"/>
            <a:ext cx="9466560" cy="1727280"/>
          </a:xfrm>
          <a:custGeom>
            <a:avLst/>
            <a:gdLst>
              <a:gd name="textAreaLeft" fmla="*/ 0 w 9466560"/>
              <a:gd name="textAreaRight" fmla="*/ 9466920 w 946656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9468819" h="1726952">
                <a:moveTo>
                  <a:pt x="0" y="188625"/>
                </a:moveTo>
                <a:lnTo>
                  <a:pt x="613458" y="153901"/>
                </a:lnTo>
                <a:lnTo>
                  <a:pt x="2048719" y="38154"/>
                </a:lnTo>
                <a:cubicBezTo>
                  <a:pt x="2394030" y="13076"/>
                  <a:pt x="2490487" y="9217"/>
                  <a:pt x="2685327" y="3430"/>
                </a:cubicBezTo>
                <a:cubicBezTo>
                  <a:pt x="2880167" y="-2357"/>
                  <a:pt x="3007489" y="3430"/>
                  <a:pt x="3217762" y="3430"/>
                </a:cubicBezTo>
                <a:cubicBezTo>
                  <a:pt x="3428035" y="3430"/>
                  <a:pt x="3696182" y="-4286"/>
                  <a:pt x="3946967" y="3430"/>
                </a:cubicBezTo>
                <a:cubicBezTo>
                  <a:pt x="4197752" y="11146"/>
                  <a:pt x="4490977" y="22721"/>
                  <a:pt x="4722471" y="49729"/>
                </a:cubicBezTo>
                <a:cubicBezTo>
                  <a:pt x="4953965" y="76737"/>
                  <a:pt x="5094790" y="113390"/>
                  <a:pt x="5335929" y="165476"/>
                </a:cubicBezTo>
                <a:cubicBezTo>
                  <a:pt x="5577068" y="217562"/>
                  <a:pt x="5742972" y="238783"/>
                  <a:pt x="6169306" y="362246"/>
                </a:cubicBezTo>
                <a:cubicBezTo>
                  <a:pt x="6595640" y="485709"/>
                  <a:pt x="7893934" y="906256"/>
                  <a:pt x="7893934" y="906256"/>
                </a:cubicBezTo>
                <a:lnTo>
                  <a:pt x="9132425" y="1299795"/>
                </a:lnTo>
                <a:cubicBezTo>
                  <a:pt x="9388997" y="1382747"/>
                  <a:pt x="9381281" y="1334519"/>
                  <a:pt x="9433367" y="1403967"/>
                </a:cubicBezTo>
                <a:cubicBezTo>
                  <a:pt x="9485453" y="1473415"/>
                  <a:pt x="9471950" y="1674044"/>
                  <a:pt x="9444942" y="1716484"/>
                </a:cubicBezTo>
                <a:cubicBezTo>
                  <a:pt x="9417935" y="1758925"/>
                  <a:pt x="9271322" y="1658610"/>
                  <a:pt x="9271322" y="1658610"/>
                </a:cubicBezTo>
                <a:lnTo>
                  <a:pt x="8796760" y="1484990"/>
                </a:lnTo>
                <a:lnTo>
                  <a:pt x="7708739" y="1056727"/>
                </a:lnTo>
                <a:cubicBezTo>
                  <a:pt x="7361499" y="923618"/>
                  <a:pt x="7114573" y="819446"/>
                  <a:pt x="6713317" y="686337"/>
                </a:cubicBezTo>
                <a:cubicBezTo>
                  <a:pt x="6312061" y="553228"/>
                  <a:pt x="5675453" y="350671"/>
                  <a:pt x="5301205" y="258073"/>
                </a:cubicBezTo>
                <a:cubicBezTo>
                  <a:pt x="4926957" y="165475"/>
                  <a:pt x="4766841" y="157759"/>
                  <a:pt x="4467828" y="130752"/>
                </a:cubicBezTo>
                <a:cubicBezTo>
                  <a:pt x="4168815" y="103744"/>
                  <a:pt x="3842795" y="92170"/>
                  <a:pt x="3507129" y="96028"/>
                </a:cubicBezTo>
                <a:cubicBezTo>
                  <a:pt x="3171463" y="99886"/>
                  <a:pt x="2804932" y="121106"/>
                  <a:pt x="2453833" y="153901"/>
                </a:cubicBezTo>
                <a:cubicBezTo>
                  <a:pt x="2102734" y="186696"/>
                  <a:pt x="1400537" y="292797"/>
                  <a:pt x="1400537" y="292797"/>
                </a:cubicBezTo>
                <a:lnTo>
                  <a:pt x="243068" y="443268"/>
                </a:lnTo>
                <a:cubicBezTo>
                  <a:pt x="17362" y="470276"/>
                  <a:pt x="84881" y="497284"/>
                  <a:pt x="46299" y="454843"/>
                </a:cubicBezTo>
                <a:cubicBezTo>
                  <a:pt x="7717" y="412402"/>
                  <a:pt x="9646" y="300513"/>
                  <a:pt x="0" y="1886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5"/>
          <p:cNvSpPr/>
          <p:nvPr/>
        </p:nvSpPr>
        <p:spPr>
          <a:xfrm>
            <a:off x="900000" y="903240"/>
            <a:ext cx="2163960" cy="827280"/>
          </a:xfrm>
          <a:custGeom>
            <a:avLst/>
            <a:gdLst>
              <a:gd name="textAreaLeft" fmla="*/ 0 w 2163960"/>
              <a:gd name="textAreaRight" fmla="*/ 2164320 w 2163960"/>
              <a:gd name="textAreaTop" fmla="*/ 0 h 827280"/>
              <a:gd name="textAreaBottom" fmla="*/ 827640 h 827280"/>
            </a:gdLst>
            <a:ahLst/>
            <a:rect l="textAreaLeft" t="textAreaTop" r="textAreaRight" b="textAreaBottom"/>
            <a:pathLst>
              <a:path w="1690777" h="828137">
                <a:moveTo>
                  <a:pt x="86264" y="189782"/>
                </a:moveTo>
                <a:lnTo>
                  <a:pt x="1570008" y="0"/>
                </a:lnTo>
                <a:lnTo>
                  <a:pt x="1690777" y="345058"/>
                </a:lnTo>
                <a:lnTo>
                  <a:pt x="0" y="828137"/>
                </a:lnTo>
                <a:lnTo>
                  <a:pt x="86264" y="189782"/>
                </a:lnTo>
                <a:close/>
              </a:path>
            </a:pathLst>
          </a:custGeom>
          <a:solidFill>
            <a:srgbClr val="e36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8"/>
          <p:cNvSpPr/>
          <p:nvPr/>
        </p:nvSpPr>
        <p:spPr>
          <a:xfrm>
            <a:off x="2982960" y="1209600"/>
            <a:ext cx="5057640" cy="1800"/>
          </a:xfrm>
          <a:prstGeom prst="line">
            <a:avLst/>
          </a:prstGeom>
          <a:ln w="127080">
            <a:solidFill>
              <a:srgbClr val="e36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71920" y="1492200"/>
            <a:ext cx="356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线条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2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8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7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2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任意多边形 5"/>
          <p:cNvSpPr/>
          <p:nvPr/>
        </p:nvSpPr>
        <p:spPr>
          <a:xfrm rot="7767600">
            <a:off x="-2148840" y="1537200"/>
            <a:ext cx="8053560" cy="1190520"/>
          </a:xfrm>
          <a:custGeom>
            <a:avLst/>
            <a:gdLst>
              <a:gd name="textAreaLeft" fmla="*/ 0 w 8053560"/>
              <a:gd name="textAreaRight" fmla="*/ 8053920 w 80535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9653111" h="1501335">
                <a:moveTo>
                  <a:pt x="177665" y="0"/>
                </a:moveTo>
                <a:lnTo>
                  <a:pt x="756399" y="231494"/>
                </a:lnTo>
                <a:lnTo>
                  <a:pt x="1659225" y="578735"/>
                </a:lnTo>
                <a:lnTo>
                  <a:pt x="2619924" y="937550"/>
                </a:lnTo>
                <a:cubicBezTo>
                  <a:pt x="2897716" y="1035935"/>
                  <a:pt x="3040470" y="1097666"/>
                  <a:pt x="3325979" y="1169043"/>
                </a:cubicBezTo>
                <a:cubicBezTo>
                  <a:pt x="3611488" y="1240420"/>
                  <a:pt x="4020461" y="1325302"/>
                  <a:pt x="4332977" y="1365813"/>
                </a:cubicBezTo>
                <a:cubicBezTo>
                  <a:pt x="4645493" y="1406324"/>
                  <a:pt x="4959939" y="1410183"/>
                  <a:pt x="5201078" y="1412112"/>
                </a:cubicBezTo>
                <a:cubicBezTo>
                  <a:pt x="5442217" y="1414041"/>
                  <a:pt x="5523240" y="1400537"/>
                  <a:pt x="5779812" y="1377388"/>
                </a:cubicBezTo>
                <a:cubicBezTo>
                  <a:pt x="6036384" y="1354239"/>
                  <a:pt x="6345043" y="1334948"/>
                  <a:pt x="6740511" y="1273216"/>
                </a:cubicBezTo>
                <a:cubicBezTo>
                  <a:pt x="7135979" y="1211484"/>
                  <a:pt x="8152622" y="1006998"/>
                  <a:pt x="8152622" y="1006998"/>
                </a:cubicBezTo>
                <a:cubicBezTo>
                  <a:pt x="8573169" y="929833"/>
                  <a:pt x="9018794" y="841094"/>
                  <a:pt x="9263792" y="810228"/>
                </a:cubicBezTo>
                <a:cubicBezTo>
                  <a:pt x="9508790" y="779362"/>
                  <a:pt x="9566663" y="771646"/>
                  <a:pt x="9622607" y="821803"/>
                </a:cubicBezTo>
                <a:cubicBezTo>
                  <a:pt x="9678551" y="871960"/>
                  <a:pt x="9649615" y="1059084"/>
                  <a:pt x="9599458" y="1111170"/>
                </a:cubicBezTo>
                <a:cubicBezTo>
                  <a:pt x="9549301" y="1163256"/>
                  <a:pt x="9321665" y="1134319"/>
                  <a:pt x="9321665" y="1134319"/>
                </a:cubicBezTo>
                <a:lnTo>
                  <a:pt x="8337817" y="1226917"/>
                </a:lnTo>
                <a:lnTo>
                  <a:pt x="6752086" y="1412112"/>
                </a:lnTo>
                <a:cubicBezTo>
                  <a:pt x="6279453" y="1456482"/>
                  <a:pt x="5856977" y="1481560"/>
                  <a:pt x="5502020" y="1493135"/>
                </a:cubicBezTo>
                <a:cubicBezTo>
                  <a:pt x="5147063" y="1504710"/>
                  <a:pt x="4931002" y="1506638"/>
                  <a:pt x="4622344" y="1481560"/>
                </a:cubicBezTo>
                <a:cubicBezTo>
                  <a:pt x="4313686" y="1456482"/>
                  <a:pt x="4032035" y="1425616"/>
                  <a:pt x="3650070" y="1342664"/>
                </a:cubicBezTo>
                <a:cubicBezTo>
                  <a:pt x="3268105" y="1259712"/>
                  <a:pt x="2687442" y="1086091"/>
                  <a:pt x="2330556" y="983848"/>
                </a:cubicBezTo>
                <a:cubicBezTo>
                  <a:pt x="1973670" y="881605"/>
                  <a:pt x="1863711" y="846881"/>
                  <a:pt x="1508754" y="729205"/>
                </a:cubicBezTo>
                <a:cubicBezTo>
                  <a:pt x="1153797" y="611529"/>
                  <a:pt x="451600" y="374249"/>
                  <a:pt x="200815" y="277793"/>
                </a:cubicBezTo>
                <a:cubicBezTo>
                  <a:pt x="-49970" y="181337"/>
                  <a:pt x="5974" y="196770"/>
                  <a:pt x="4045" y="150471"/>
                </a:cubicBezTo>
                <a:cubicBezTo>
                  <a:pt x="2116" y="104172"/>
                  <a:pt x="95678" y="52086"/>
                  <a:pt x="17766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任意多边形 6"/>
          <p:cNvSpPr/>
          <p:nvPr/>
        </p:nvSpPr>
        <p:spPr>
          <a:xfrm rot="7767600">
            <a:off x="-2262600" y="806040"/>
            <a:ext cx="8286840" cy="1381320"/>
          </a:xfrm>
          <a:custGeom>
            <a:avLst/>
            <a:gdLst>
              <a:gd name="textAreaLeft" fmla="*/ 0 w 8286840"/>
              <a:gd name="textAreaRight" fmla="*/ 8287200 w 828684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9684950" h="1584172">
                <a:moveTo>
                  <a:pt x="246299" y="26113"/>
                </a:moveTo>
                <a:cubicBezTo>
                  <a:pt x="409331" y="13708"/>
                  <a:pt x="708815" y="8392"/>
                  <a:pt x="990578" y="4848"/>
                </a:cubicBezTo>
                <a:cubicBezTo>
                  <a:pt x="1272341" y="1304"/>
                  <a:pt x="1653341" y="-4012"/>
                  <a:pt x="1936876" y="4848"/>
                </a:cubicBezTo>
                <a:cubicBezTo>
                  <a:pt x="2220411" y="13708"/>
                  <a:pt x="2404708" y="22569"/>
                  <a:pt x="2691787" y="58011"/>
                </a:cubicBezTo>
                <a:cubicBezTo>
                  <a:pt x="2978866" y="93453"/>
                  <a:pt x="3351098" y="143900"/>
                  <a:pt x="3659350" y="217499"/>
                </a:cubicBezTo>
                <a:cubicBezTo>
                  <a:pt x="3967602" y="291098"/>
                  <a:pt x="4255993" y="391508"/>
                  <a:pt x="4541300" y="499606"/>
                </a:cubicBezTo>
                <a:cubicBezTo>
                  <a:pt x="4826607" y="607704"/>
                  <a:pt x="5034402" y="750070"/>
                  <a:pt x="5371192" y="866085"/>
                </a:cubicBezTo>
                <a:cubicBezTo>
                  <a:pt x="5707982" y="982100"/>
                  <a:pt x="6120788" y="1115950"/>
                  <a:pt x="6562039" y="1195694"/>
                </a:cubicBezTo>
                <a:cubicBezTo>
                  <a:pt x="7003290" y="1275438"/>
                  <a:pt x="7547322" y="1335690"/>
                  <a:pt x="8018699" y="1344550"/>
                </a:cubicBezTo>
                <a:cubicBezTo>
                  <a:pt x="8490076" y="1353410"/>
                  <a:pt x="9117397" y="1252401"/>
                  <a:pt x="9390299" y="1248857"/>
                </a:cubicBezTo>
                <a:cubicBezTo>
                  <a:pt x="9663201" y="1245313"/>
                  <a:pt x="9613583" y="1289615"/>
                  <a:pt x="9656113" y="1323285"/>
                </a:cubicBezTo>
                <a:cubicBezTo>
                  <a:pt x="9698643" y="1356955"/>
                  <a:pt x="9693326" y="1411890"/>
                  <a:pt x="9645480" y="1450876"/>
                </a:cubicBezTo>
                <a:cubicBezTo>
                  <a:pt x="9597634" y="1489862"/>
                  <a:pt x="9576369" y="1535936"/>
                  <a:pt x="9369034" y="1557201"/>
                </a:cubicBezTo>
                <a:cubicBezTo>
                  <a:pt x="9161699" y="1578466"/>
                  <a:pt x="8754117" y="1592643"/>
                  <a:pt x="8401471" y="1578466"/>
                </a:cubicBezTo>
                <a:cubicBezTo>
                  <a:pt x="8048825" y="1564289"/>
                  <a:pt x="7676685" y="1550113"/>
                  <a:pt x="7253155" y="1472141"/>
                </a:cubicBezTo>
                <a:cubicBezTo>
                  <a:pt x="6829625" y="1394169"/>
                  <a:pt x="6249161" y="1231758"/>
                  <a:pt x="5860290" y="1110634"/>
                </a:cubicBezTo>
                <a:cubicBezTo>
                  <a:pt x="5471419" y="989510"/>
                  <a:pt x="5192625" y="881989"/>
                  <a:pt x="4919930" y="745399"/>
                </a:cubicBezTo>
                <a:cubicBezTo>
                  <a:pt x="4647235" y="608809"/>
                  <a:pt x="4472832" y="525129"/>
                  <a:pt x="4152866" y="433602"/>
                </a:cubicBezTo>
                <a:cubicBezTo>
                  <a:pt x="3832900" y="342075"/>
                  <a:pt x="3422626" y="239339"/>
                  <a:pt x="3000132" y="196234"/>
                </a:cubicBezTo>
                <a:cubicBezTo>
                  <a:pt x="2577638" y="153129"/>
                  <a:pt x="2083959" y="157248"/>
                  <a:pt x="1617899" y="174969"/>
                </a:cubicBezTo>
                <a:cubicBezTo>
                  <a:pt x="1151839" y="192690"/>
                  <a:pt x="471355" y="318508"/>
                  <a:pt x="203769" y="302559"/>
                </a:cubicBezTo>
                <a:cubicBezTo>
                  <a:pt x="-63817" y="286610"/>
                  <a:pt x="7067" y="125350"/>
                  <a:pt x="12383" y="79276"/>
                </a:cubicBezTo>
                <a:cubicBezTo>
                  <a:pt x="17699" y="33202"/>
                  <a:pt x="83267" y="38518"/>
                  <a:pt x="246299" y="261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任意多边形 4"/>
          <p:cNvSpPr/>
          <p:nvPr/>
        </p:nvSpPr>
        <p:spPr>
          <a:xfrm rot="7767600">
            <a:off x="-2006640" y="1171440"/>
            <a:ext cx="6821640" cy="976320"/>
          </a:xfrm>
          <a:custGeom>
            <a:avLst/>
            <a:gdLst>
              <a:gd name="textAreaLeft" fmla="*/ 0 w 6821640"/>
              <a:gd name="textAreaRight" fmla="*/ 6822000 w 682164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646735" h="1869420">
                <a:moveTo>
                  <a:pt x="31952" y="1239487"/>
                </a:moveTo>
                <a:cubicBezTo>
                  <a:pt x="126479" y="1146890"/>
                  <a:pt x="481435" y="1090944"/>
                  <a:pt x="784306" y="984843"/>
                </a:cubicBezTo>
                <a:cubicBezTo>
                  <a:pt x="1087177" y="878742"/>
                  <a:pt x="1453709" y="735988"/>
                  <a:pt x="1849177" y="602879"/>
                </a:cubicBezTo>
                <a:cubicBezTo>
                  <a:pt x="2244645" y="469770"/>
                  <a:pt x="2734640" y="286504"/>
                  <a:pt x="3157116" y="186190"/>
                </a:cubicBezTo>
                <a:cubicBezTo>
                  <a:pt x="3579592" y="85876"/>
                  <a:pt x="4025217" y="10641"/>
                  <a:pt x="4384032" y="996"/>
                </a:cubicBezTo>
                <a:cubicBezTo>
                  <a:pt x="4742847" y="-8649"/>
                  <a:pt x="4968554" y="53082"/>
                  <a:pt x="5310007" y="128317"/>
                </a:cubicBezTo>
                <a:cubicBezTo>
                  <a:pt x="5651460" y="203552"/>
                  <a:pt x="6081653" y="342448"/>
                  <a:pt x="6432752" y="452407"/>
                </a:cubicBezTo>
                <a:cubicBezTo>
                  <a:pt x="6783851" y="562366"/>
                  <a:pt x="7071288" y="658823"/>
                  <a:pt x="7416599" y="788074"/>
                </a:cubicBezTo>
                <a:cubicBezTo>
                  <a:pt x="7761910" y="917325"/>
                  <a:pt x="8161238" y="1098661"/>
                  <a:pt x="8504620" y="1227912"/>
                </a:cubicBezTo>
                <a:cubicBezTo>
                  <a:pt x="8848002" y="1357163"/>
                  <a:pt x="9287840" y="1461335"/>
                  <a:pt x="9476893" y="1563578"/>
                </a:cubicBezTo>
                <a:cubicBezTo>
                  <a:pt x="9665946" y="1665821"/>
                  <a:pt x="9654372" y="1797000"/>
                  <a:pt x="9638939" y="1841370"/>
                </a:cubicBezTo>
                <a:cubicBezTo>
                  <a:pt x="9623506" y="1885740"/>
                  <a:pt x="9538625" y="1874166"/>
                  <a:pt x="9384296" y="1829796"/>
                </a:cubicBezTo>
                <a:cubicBezTo>
                  <a:pt x="9229967" y="1785426"/>
                  <a:pt x="9154731" y="1781567"/>
                  <a:pt x="8712964" y="1575152"/>
                </a:cubicBezTo>
                <a:cubicBezTo>
                  <a:pt x="8271197" y="1368737"/>
                  <a:pt x="7181247" y="791932"/>
                  <a:pt x="6733693" y="591304"/>
                </a:cubicBezTo>
                <a:cubicBezTo>
                  <a:pt x="6286139" y="390676"/>
                  <a:pt x="6278422" y="450479"/>
                  <a:pt x="6027638" y="371385"/>
                </a:cubicBezTo>
                <a:cubicBezTo>
                  <a:pt x="5776854" y="292291"/>
                  <a:pt x="5585870" y="230559"/>
                  <a:pt x="5298432" y="186190"/>
                </a:cubicBezTo>
                <a:cubicBezTo>
                  <a:pt x="5010994" y="141821"/>
                  <a:pt x="4630959" y="87806"/>
                  <a:pt x="4303010" y="105168"/>
                </a:cubicBezTo>
                <a:cubicBezTo>
                  <a:pt x="3975061" y="122530"/>
                  <a:pt x="3745496" y="164971"/>
                  <a:pt x="3330736" y="290363"/>
                </a:cubicBezTo>
                <a:cubicBezTo>
                  <a:pt x="2915977" y="415755"/>
                  <a:pt x="2215709" y="693547"/>
                  <a:pt x="1814453" y="857522"/>
                </a:cubicBezTo>
                <a:cubicBezTo>
                  <a:pt x="1413197" y="1021497"/>
                  <a:pt x="1189420" y="1160393"/>
                  <a:pt x="923202" y="1274211"/>
                </a:cubicBezTo>
                <a:cubicBezTo>
                  <a:pt x="656984" y="1388029"/>
                  <a:pt x="365688" y="1546215"/>
                  <a:pt x="217146" y="1540428"/>
                </a:cubicBezTo>
                <a:cubicBezTo>
                  <a:pt x="68604" y="1534641"/>
                  <a:pt x="-62575" y="1332084"/>
                  <a:pt x="31952" y="123948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214200"/>
            <a:ext cx="2000160" cy="2000520"/>
          </a:xfrm>
          <a:prstGeom prst="rect">
            <a:avLst/>
          </a:prstGeom>
          <a:ln w="0">
            <a:noFill/>
          </a:ln>
        </p:spPr>
      </p:pic>
      <p:sp>
        <p:nvSpPr>
          <p:cNvPr id="53" name="矩形 12"/>
          <p:cNvSpPr/>
          <p:nvPr/>
        </p:nvSpPr>
        <p:spPr>
          <a:xfrm>
            <a:off x="0" y="500040"/>
            <a:ext cx="20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857840" y="0"/>
            <a:ext cx="3790800" cy="1719360"/>
            <a:chOff x="4857840" y="0"/>
            <a:chExt cx="3790800" cy="1719360"/>
          </a:xfrm>
        </p:grpSpPr>
        <p:sp>
          <p:nvSpPr>
            <p:cNvPr id="55" name="TextBox 14"/>
            <p:cNvSpPr/>
            <p:nvPr/>
          </p:nvSpPr>
          <p:spPr>
            <a:xfrm>
              <a:off x="4857840" y="214200"/>
              <a:ext cx="2000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图片 15" descr=""/>
            <p:cNvPicPr/>
            <p:nvPr/>
          </p:nvPicPr>
          <p:blipFill>
            <a:blip r:embed="rId2"/>
            <a:stretch/>
          </p:blipFill>
          <p:spPr>
            <a:xfrm>
              <a:off x="6929640" y="0"/>
              <a:ext cx="1719000" cy="171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圆角矩形 16"/>
          <p:cNvSpPr/>
          <p:nvPr/>
        </p:nvSpPr>
        <p:spPr>
          <a:xfrm>
            <a:off x="1330200" y="2284560"/>
            <a:ext cx="7500960" cy="2643120"/>
          </a:xfrm>
          <a:prstGeom prst="roundRect">
            <a:avLst>
              <a:gd name="adj" fmla="val 16667"/>
            </a:avLst>
          </a:prstGeom>
          <a:solidFill>
            <a:srgbClr val="f4e7ed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文字文字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文字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文字文字文字文字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7"/>
          <p:cNvSpPr/>
          <p:nvPr/>
        </p:nvSpPr>
        <p:spPr>
          <a:xfrm>
            <a:off x="3714840" y="1714680"/>
            <a:ext cx="5214960" cy="500040"/>
          </a:xfrm>
          <a:custGeom>
            <a:avLst/>
            <a:gdLst>
              <a:gd name="textAreaLeft" fmla="*/ 0 w 5214960"/>
              <a:gd name="textAreaRight" fmla="*/ 5215320 w 521496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4979894" h="806823">
                <a:moveTo>
                  <a:pt x="0" y="806823"/>
                </a:moveTo>
                <a:lnTo>
                  <a:pt x="4979894" y="138952"/>
                </a:lnTo>
                <a:lnTo>
                  <a:pt x="4961964" y="0"/>
                </a:lnTo>
                <a:lnTo>
                  <a:pt x="58271" y="448236"/>
                </a:lnTo>
                <a:lnTo>
                  <a:pt x="0" y="80682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765000"/>
            <a:ext cx="63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de66"/>
                </a:solidFill>
                <a:uFillTx/>
                <a:latin typeface="Arial"/>
                <a:hlinkClick r:id="rId3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750"/>
                            </p:stCondLst>
                            <p:childTnLst>
                              <p:par>
                                <p:cTn id="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250"/>
                            </p:stCondLst>
                            <p:childTnLst>
                              <p:par>
                                <p:cTn id="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7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任意多边形 1"/>
          <p:cNvSpPr/>
          <p:nvPr/>
        </p:nvSpPr>
        <p:spPr>
          <a:xfrm flipH="1">
            <a:off x="7093080" y="-69840"/>
            <a:ext cx="1568160" cy="5543640"/>
          </a:xfrm>
          <a:custGeom>
            <a:avLst/>
            <a:gdLst>
              <a:gd name="textAreaLeft" fmla="*/ 360 w 1568160"/>
              <a:gd name="textAreaRight" fmla="*/ 1568880 w 1568160"/>
              <a:gd name="textAreaTop" fmla="*/ 0 h 5543640"/>
              <a:gd name="textAreaBottom" fmla="*/ 5544000 h 5543640"/>
            </a:gdLst>
            <a:ahLst/>
            <a:rect l="textAreaLeft" t="textAreaTop" r="textAreaRight" b="textAreaBottom"/>
            <a:pathLst>
              <a:path w="1650523" h="5545835">
                <a:moveTo>
                  <a:pt x="1639669" y="5397752"/>
                </a:moveTo>
                <a:cubicBezTo>
                  <a:pt x="1669357" y="5360147"/>
                  <a:pt x="1635710" y="5451192"/>
                  <a:pt x="1568417" y="5290875"/>
                </a:cubicBezTo>
                <a:cubicBezTo>
                  <a:pt x="1501124" y="5130558"/>
                  <a:pt x="1417996" y="4851487"/>
                  <a:pt x="1235908" y="4435851"/>
                </a:cubicBezTo>
                <a:cubicBezTo>
                  <a:pt x="1053820" y="4020214"/>
                  <a:pt x="654017" y="3256235"/>
                  <a:pt x="475887" y="2797056"/>
                </a:cubicBezTo>
                <a:cubicBezTo>
                  <a:pt x="297757" y="2337877"/>
                  <a:pt x="206469" y="1939542"/>
                  <a:pt x="167129" y="1680776"/>
                </a:cubicBezTo>
                <a:cubicBezTo>
                  <a:pt x="127789" y="1422010"/>
                  <a:pt x="221514" y="1326195"/>
                  <a:pt x="239846" y="1244457"/>
                </a:cubicBezTo>
                <a:cubicBezTo>
                  <a:pt x="258178" y="1162719"/>
                  <a:pt x="204861" y="1310479"/>
                  <a:pt x="277123" y="1190346"/>
                </a:cubicBezTo>
                <a:cubicBezTo>
                  <a:pt x="349385" y="1070213"/>
                  <a:pt x="527473" y="713076"/>
                  <a:pt x="673416" y="523661"/>
                </a:cubicBezTo>
                <a:cubicBezTo>
                  <a:pt x="819359" y="334246"/>
                  <a:pt x="1146118" y="138094"/>
                  <a:pt x="1152781" y="53856"/>
                </a:cubicBezTo>
                <a:cubicBezTo>
                  <a:pt x="1159444" y="-30382"/>
                  <a:pt x="770791" y="6355"/>
                  <a:pt x="713394" y="18230"/>
                </a:cubicBezTo>
                <a:cubicBezTo>
                  <a:pt x="655997" y="30105"/>
                  <a:pt x="865793" y="10313"/>
                  <a:pt x="808396" y="125108"/>
                </a:cubicBezTo>
                <a:cubicBezTo>
                  <a:pt x="750998" y="239903"/>
                  <a:pt x="495679" y="481055"/>
                  <a:pt x="369009" y="706999"/>
                </a:cubicBezTo>
                <a:cubicBezTo>
                  <a:pt x="242339" y="932943"/>
                  <a:pt x="75046" y="1203054"/>
                  <a:pt x="48375" y="1480770"/>
                </a:cubicBezTo>
                <a:cubicBezTo>
                  <a:pt x="21704" y="1758486"/>
                  <a:pt x="-72356" y="1528688"/>
                  <a:pt x="107753" y="2084537"/>
                </a:cubicBezTo>
                <a:cubicBezTo>
                  <a:pt x="287862" y="2640386"/>
                  <a:pt x="919233" y="4235950"/>
                  <a:pt x="1129030" y="4815862"/>
                </a:cubicBezTo>
                <a:cubicBezTo>
                  <a:pt x="1338827" y="5395774"/>
                  <a:pt x="1303201" y="5417545"/>
                  <a:pt x="1390287" y="5516506"/>
                </a:cubicBezTo>
                <a:cubicBezTo>
                  <a:pt x="1477373" y="5615467"/>
                  <a:pt x="1609981" y="5435357"/>
                  <a:pt x="1639669" y="53977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任意多边形 2"/>
          <p:cNvSpPr/>
          <p:nvPr/>
        </p:nvSpPr>
        <p:spPr>
          <a:xfrm flipH="1">
            <a:off x="4861080" y="-185760"/>
            <a:ext cx="3821040" cy="5462640"/>
          </a:xfrm>
          <a:custGeom>
            <a:avLst/>
            <a:gdLst>
              <a:gd name="textAreaLeft" fmla="*/ 360 w 3821040"/>
              <a:gd name="textAreaRight" fmla="*/ 3821760 w 3821040"/>
              <a:gd name="textAreaTop" fmla="*/ 0 h 5462640"/>
              <a:gd name="textAreaBottom" fmla="*/ 5463000 h 5462640"/>
            </a:gdLst>
            <a:ahLst/>
            <a:rect l="textAreaLeft" t="textAreaTop" r="textAreaRight" b="textAreaBottom"/>
            <a:pathLst>
              <a:path w="4020119" h="5466929">
                <a:moveTo>
                  <a:pt x="574577" y="5272472"/>
                </a:moveTo>
                <a:cubicBezTo>
                  <a:pt x="540930" y="5114134"/>
                  <a:pt x="465719" y="4765791"/>
                  <a:pt x="408322" y="4488700"/>
                </a:cubicBezTo>
                <a:cubicBezTo>
                  <a:pt x="350924" y="4211609"/>
                  <a:pt x="261859" y="3887017"/>
                  <a:pt x="230192" y="3609926"/>
                </a:cubicBezTo>
                <a:cubicBezTo>
                  <a:pt x="198525" y="3332835"/>
                  <a:pt x="184670" y="3051786"/>
                  <a:pt x="218317" y="2826155"/>
                </a:cubicBezTo>
                <a:cubicBezTo>
                  <a:pt x="251964" y="2600524"/>
                  <a:pt x="297486" y="2456040"/>
                  <a:pt x="432073" y="2256139"/>
                </a:cubicBezTo>
                <a:cubicBezTo>
                  <a:pt x="566660" y="2056238"/>
                  <a:pt x="649787" y="1878108"/>
                  <a:pt x="1025839" y="1626747"/>
                </a:cubicBezTo>
                <a:cubicBezTo>
                  <a:pt x="1401891" y="1375386"/>
                  <a:pt x="2245039" y="965687"/>
                  <a:pt x="2688384" y="747973"/>
                </a:cubicBezTo>
                <a:cubicBezTo>
                  <a:pt x="3131729" y="530259"/>
                  <a:pt x="3468198" y="435257"/>
                  <a:pt x="3685912" y="320462"/>
                </a:cubicBezTo>
                <a:cubicBezTo>
                  <a:pt x="3903626" y="205667"/>
                  <a:pt x="4089673" y="110664"/>
                  <a:pt x="3994670" y="59204"/>
                </a:cubicBezTo>
                <a:cubicBezTo>
                  <a:pt x="3899667" y="7744"/>
                  <a:pt x="3297984" y="-16006"/>
                  <a:pt x="3115896" y="11703"/>
                </a:cubicBezTo>
                <a:cubicBezTo>
                  <a:pt x="2933808" y="39412"/>
                  <a:pt x="3127771" y="75038"/>
                  <a:pt x="2902140" y="225459"/>
                </a:cubicBezTo>
                <a:cubicBezTo>
                  <a:pt x="2676509" y="375880"/>
                  <a:pt x="2136182" y="664846"/>
                  <a:pt x="1762109" y="914228"/>
                </a:cubicBezTo>
                <a:cubicBezTo>
                  <a:pt x="1388036" y="1163610"/>
                  <a:pt x="930837" y="1464451"/>
                  <a:pt x="657704" y="1721750"/>
                </a:cubicBezTo>
                <a:cubicBezTo>
                  <a:pt x="384571" y="1979049"/>
                  <a:pt x="232171" y="2178950"/>
                  <a:pt x="123314" y="2458020"/>
                </a:cubicBezTo>
                <a:cubicBezTo>
                  <a:pt x="14457" y="2737090"/>
                  <a:pt x="20395" y="3016161"/>
                  <a:pt x="4561" y="3396171"/>
                </a:cubicBezTo>
                <a:cubicBezTo>
                  <a:pt x="-11273" y="3776181"/>
                  <a:pt x="18416" y="4405573"/>
                  <a:pt x="28312" y="4738082"/>
                </a:cubicBezTo>
                <a:cubicBezTo>
                  <a:pt x="38208" y="5070591"/>
                  <a:pt x="-33044" y="5274451"/>
                  <a:pt x="63938" y="5391225"/>
                </a:cubicBezTo>
                <a:cubicBezTo>
                  <a:pt x="160920" y="5507999"/>
                  <a:pt x="525096" y="5460497"/>
                  <a:pt x="610203" y="5438726"/>
                </a:cubicBezTo>
                <a:cubicBezTo>
                  <a:pt x="695310" y="5416955"/>
                  <a:pt x="608224" y="5430810"/>
                  <a:pt x="574577" y="52724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3"/>
          <p:cNvSpPr/>
          <p:nvPr/>
        </p:nvSpPr>
        <p:spPr>
          <a:xfrm flipH="1">
            <a:off x="6732000" y="-274680"/>
            <a:ext cx="2943000" cy="5438880"/>
          </a:xfrm>
          <a:custGeom>
            <a:avLst/>
            <a:gdLst>
              <a:gd name="textAreaLeft" fmla="*/ -360 w 2943000"/>
              <a:gd name="textAreaRight" fmla="*/ 2943000 w 2943000"/>
              <a:gd name="textAreaTop" fmla="*/ 0 h 5438880"/>
              <a:gd name="textAreaBottom" fmla="*/ 5439240 h 5438880"/>
            </a:gdLst>
            <a:ahLst/>
            <a:rect l="textAreaLeft" t="textAreaTop" r="textAreaRight" b="textAreaBottom"/>
            <a:pathLst>
              <a:path w="3095305" h="5442265">
                <a:moveTo>
                  <a:pt x="25839" y="5020649"/>
                </a:moveTo>
                <a:cubicBezTo>
                  <a:pt x="93132" y="4969189"/>
                  <a:pt x="259387" y="4838560"/>
                  <a:pt x="465226" y="4664389"/>
                </a:cubicBezTo>
                <a:cubicBezTo>
                  <a:pt x="671065" y="4490218"/>
                  <a:pt x="1009512" y="4199273"/>
                  <a:pt x="1260873" y="3975621"/>
                </a:cubicBezTo>
                <a:cubicBezTo>
                  <a:pt x="1512234" y="3751969"/>
                  <a:pt x="1785366" y="3516442"/>
                  <a:pt x="1973392" y="3322478"/>
                </a:cubicBezTo>
                <a:cubicBezTo>
                  <a:pt x="2161418" y="3128514"/>
                  <a:pt x="2260379" y="3019657"/>
                  <a:pt x="2389028" y="2811839"/>
                </a:cubicBezTo>
                <a:cubicBezTo>
                  <a:pt x="2517677" y="2604021"/>
                  <a:pt x="2670078" y="2324951"/>
                  <a:pt x="2745288" y="2075569"/>
                </a:cubicBezTo>
                <a:cubicBezTo>
                  <a:pt x="2820498" y="1826187"/>
                  <a:pt x="2826437" y="1610452"/>
                  <a:pt x="2840291" y="1315548"/>
                </a:cubicBezTo>
                <a:cubicBezTo>
                  <a:pt x="2854146" y="1020644"/>
                  <a:pt x="2840290" y="521880"/>
                  <a:pt x="2828415" y="306145"/>
                </a:cubicBezTo>
                <a:cubicBezTo>
                  <a:pt x="2816540" y="90410"/>
                  <a:pt x="2727476" y="64680"/>
                  <a:pt x="2769039" y="21137"/>
                </a:cubicBezTo>
                <a:cubicBezTo>
                  <a:pt x="2810602" y="-22406"/>
                  <a:pt x="3030296" y="9262"/>
                  <a:pt x="3077797" y="44888"/>
                </a:cubicBezTo>
                <a:cubicBezTo>
                  <a:pt x="3125298" y="80514"/>
                  <a:pt x="3061963" y="116140"/>
                  <a:pt x="3054046" y="234893"/>
                </a:cubicBezTo>
                <a:cubicBezTo>
                  <a:pt x="3046129" y="353646"/>
                  <a:pt x="3056026" y="486255"/>
                  <a:pt x="3030296" y="757408"/>
                </a:cubicBezTo>
                <a:cubicBezTo>
                  <a:pt x="3004566" y="1028561"/>
                  <a:pt x="2963002" y="1560971"/>
                  <a:pt x="2899667" y="1861813"/>
                </a:cubicBezTo>
                <a:cubicBezTo>
                  <a:pt x="2836332" y="2162654"/>
                  <a:pt x="2780915" y="2317034"/>
                  <a:pt x="2650286" y="2562457"/>
                </a:cubicBezTo>
                <a:cubicBezTo>
                  <a:pt x="2519658" y="2807880"/>
                  <a:pt x="2404862" y="2995906"/>
                  <a:pt x="2115896" y="3334353"/>
                </a:cubicBezTo>
                <a:cubicBezTo>
                  <a:pt x="1826930" y="3672800"/>
                  <a:pt x="1239101" y="4242815"/>
                  <a:pt x="916488" y="4593137"/>
                </a:cubicBezTo>
                <a:cubicBezTo>
                  <a:pt x="593875" y="4943459"/>
                  <a:pt x="322722" y="5372951"/>
                  <a:pt x="180218" y="5436286"/>
                </a:cubicBezTo>
                <a:cubicBezTo>
                  <a:pt x="37714" y="5499621"/>
                  <a:pt x="81257" y="5040442"/>
                  <a:pt x="61465" y="4973148"/>
                </a:cubicBezTo>
                <a:cubicBezTo>
                  <a:pt x="41673" y="4905854"/>
                  <a:pt x="-41454" y="5072109"/>
                  <a:pt x="25839" y="50206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5"/>
          <p:cNvSpPr/>
          <p:nvPr/>
        </p:nvSpPr>
        <p:spPr>
          <a:xfrm>
            <a:off x="4183200" y="-44280"/>
            <a:ext cx="1876320" cy="5225760"/>
          </a:xfrm>
          <a:custGeom>
            <a:avLst/>
            <a:gdLst>
              <a:gd name="textAreaLeft" fmla="*/ 0 w 1876320"/>
              <a:gd name="textAreaRight" fmla="*/ 1876680 w 1876320"/>
              <a:gd name="textAreaTop" fmla="*/ 0 h 5225760"/>
              <a:gd name="textAreaBottom" fmla="*/ 5226120 h 5225760"/>
            </a:gdLst>
            <a:ahLst/>
            <a:rect l="textAreaLeft" t="textAreaTop" r="textAreaRight" b="textAreaBottom"/>
            <a:pathLst>
              <a:path w="1876926" h="5229726">
                <a:moveTo>
                  <a:pt x="1299410" y="5229726"/>
                </a:moveTo>
                <a:lnTo>
                  <a:pt x="0" y="0"/>
                </a:lnTo>
                <a:lnTo>
                  <a:pt x="144378" y="0"/>
                </a:lnTo>
                <a:lnTo>
                  <a:pt x="1876926" y="5229726"/>
                </a:lnTo>
                <a:lnTo>
                  <a:pt x="1299410" y="522972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6"/>
          <p:cNvSpPr/>
          <p:nvPr/>
        </p:nvSpPr>
        <p:spPr>
          <a:xfrm>
            <a:off x="4311720" y="-92160"/>
            <a:ext cx="1989000" cy="5338800"/>
          </a:xfrm>
          <a:custGeom>
            <a:avLst/>
            <a:gdLst>
              <a:gd name="textAreaLeft" fmla="*/ 0 w 1989000"/>
              <a:gd name="textAreaRight" fmla="*/ 1989360 w 1989000"/>
              <a:gd name="textAreaTop" fmla="*/ 0 h 5338800"/>
              <a:gd name="textAreaBottom" fmla="*/ 5338800 h 5338800"/>
            </a:gdLst>
            <a:ahLst/>
            <a:rect l="textAreaLeft" t="textAreaTop" r="textAreaRight" b="textAreaBottom"/>
            <a:pathLst>
              <a:path w="1989221" h="5342021">
                <a:moveTo>
                  <a:pt x="0" y="0"/>
                </a:moveTo>
                <a:lnTo>
                  <a:pt x="1748590" y="5342021"/>
                </a:lnTo>
                <a:lnTo>
                  <a:pt x="1989221" y="5325979"/>
                </a:lnTo>
                <a:lnTo>
                  <a:pt x="128337" y="32085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654120" y="928800"/>
            <a:ext cx="31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  <a:ea typeface="宋体"/>
              </a:rPr>
              <a:t>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22" presetSubtype="4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75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3" presetSubtype="16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ffde66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681-2084-49A1-822D-8E268BFF76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3:37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7:25Z</dcterms:modified>
  <cp:revision>1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