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3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6.jpeg" ContentType="image/jpeg"/>
  <Override PartName="/ppt/media/image27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25.png" ContentType="image/png"/>
  <Override PartName="/ppt/media/image19.jpeg" ContentType="image/jpeg"/>
  <Override PartName="/ppt/media/image20.jpeg" ContentType="image/jpeg"/>
  <Override PartName="/ppt/media/image21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1B7C4C-F62A-4322-ACBA-32209C8EA2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EE1D9E-D7B8-4B40-A2C4-3D53F0B9FD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5BD02A-8A9E-47EF-B0C6-652FD5D6F9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18C3F3-A081-43CF-918C-93ED2DD330C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96E97A-C9A2-4176-99E0-C7BEE63EC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5535D4-794F-4627-9E70-6FA720A5B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1BDC7F-BDAC-4CD5-8613-E6591AF85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C1BB7A-CC2D-4C6C-9833-B6C6D98B8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48CD32-B245-4F28-9939-83A13E2A9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69FF0A-7BA3-4D9A-A0DC-36A2543F4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C6DB84-D966-4AF4-8345-388A5C5EB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D621C0-1CE1-4751-AEB0-B78A24A6C8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AE3495-2F3B-4CF2-A59F-DBA2B5B35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924BAE-D0D0-4151-9F56-84EC19695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D8E8B9-9E69-4400-914F-3BC97DACE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8B2E54-C3B5-48CA-9F5C-09E3405CA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75203A-0BDE-4199-A062-6798A2D22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8955061-A530-460C-8F3E-19B14F2AB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42EC63-37E9-47FC-A74C-F8288141C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FC5D908-8593-4C98-8CC9-4D272B46F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D5F789C-26E2-4630-AFB5-DA25F3238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B715172-2422-4448-ACCA-C9645F17D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1C047A-C57B-4159-A646-97475A9AD18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E4EB5B9-4E2C-4F4F-BEC9-F3ADAD1F4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3BBA0F6-8E81-4120-A2A2-72025F96D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8A199D2-C087-4299-B843-78447DB68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B8E6FCA-3297-46B3-8819-6EA16B171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328D4C0-B71B-4651-A429-04847B5FC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048B941-795E-432C-804F-3A8147216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9F4A6C7-8BD4-4329-914C-69D7A459B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7C72B3B-4688-49CC-9749-FAF031B65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FFF6CAD-F6B6-42FE-AE61-391FD5D5E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A7790AE-8C97-45E0-B2DC-D024559B7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DAA91A-27A6-4112-A0C8-918E3D17B83D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556A9D4-8244-4A85-B6F7-4C7A92468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49631FA-4D80-4C38-91C4-E13B56B47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CF64C83-B9DB-47ED-94FC-9030955A8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2B36231-09E9-4787-8750-3C7263A76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BCC1222-0B52-48F4-BC09-DE5186521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521EE65-583B-442B-B85B-B289FA1FC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92DC8BA-28CA-4647-B936-8D57B2824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597AFE1-ACDE-44EA-86F0-C11A00BF8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E8F4469-DF43-435A-A0F1-2EACCC05D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197E67B-DB71-4E05-89E4-2873D8DD5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03EE4C-6249-40A5-AE14-C38BED36A1F9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DC18AE0-17B1-47B4-B376-5D6E3248D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D898EDF-E323-4107-B4A5-72E8A3F70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1977247-0BB2-42A9-A5EE-F2260CDDE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F2F78C9-0ED9-430F-BF5B-EDBDEE945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48F3017-72A4-4FEF-8107-2F0897FAB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C3BCD0C-7EEB-46BE-9AC8-328394D0D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AA40C9B-399E-40E2-A437-1784019F7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DC894B7-20B8-4405-9830-0C553B83D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73A1173-C84E-41DE-971F-FB29A0AE7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4463BB5-48F7-4465-A19E-6F5BBDDE9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E1A14D-D2EE-4F53-9353-B62C348F4DAD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33A9489-6117-4D96-896A-56E206E64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40882E5-C56F-4F55-AA85-190E4BA12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27BBBF7-50A0-4239-872D-1658A323D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1C7FE85-2E5A-420E-A98D-61D5E5130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8DA0CA8-EE87-4528-960A-0614FE4DE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8B3CB58-F117-4F62-B597-D12D11D9D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DF04EAD-F972-4C28-84AA-531504FD4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0EA21B0-9871-4AD4-B6E0-20AFCF5D6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0E8BC46-42B5-4367-80B8-45F26E177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9FAB2BA-E760-4EEA-BCFC-D84D99347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13072E-6F73-4997-A6C0-ECCC79CFB68D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52A3332-5690-40A3-B6C7-495DE538C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64442FA-DD89-4A17-BED2-CACFB6AD6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9825E53-EC28-485D-8E47-3E4834CFB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C3349E3-FEF4-4004-ABCB-F08165641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80430E9-1C0A-40B6-BE9F-08DB6DDCF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F6E5CE6-7103-4F65-ADD7-B8BE7CA62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153B64D-55E4-40DE-A81E-451EAA410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416AD2D-A5B7-42B7-AC8D-5E828630C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BF1FBFF-8022-4BA0-B8E6-9EDB197C6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00058D7-4E09-473E-AC72-F92242DBF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1A821B-852D-4379-B246-549395950D26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921538E-B255-4A1B-B077-F21BBEEF0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D1FC3D2-FA76-460F-AF4B-76129E7C1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72FF89F-452E-430E-AD96-AA0E7F4D3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080AEA1-6C69-4D91-BDD9-4C911AC3B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2598E37-5519-46F3-9CFA-97657F7C1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C213CC-696A-4D86-8D9A-846A8CE381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0" descr="logo"/>
          <p:cNvPicPr/>
          <p:nvPr/>
        </p:nvPicPr>
        <p:blipFill>
          <a:blip r:embed="rId3"/>
          <a:stretch/>
        </p:blipFill>
        <p:spPr>
          <a:xfrm>
            <a:off x="380880" y="6019920"/>
            <a:ext cx="1714680" cy="5904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35630-ECE1-4726-8BF0-ABEC182E170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57C57-E7EB-493A-B1CB-6837B9BFF29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37661-227F-45B7-B240-D53B22DAF40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20F20-F58C-4150-9B78-226B3306C4D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EE2DB-D2AA-411F-B875-0C17A7DCD84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7C24A-7665-47D9-9E57-7D6932EE2D6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5E91C-F855-49C6-A3EA-22F3713F5283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hyperlink" Target="http://www.eeppt.com/moban/jiaoyu/" TargetMode="External"/><Relationship Id="rId22" Type="http://schemas.openxmlformats.org/officeDocument/2006/relationships/hyperlink" Target="http://www.eeppt.com/moban/keji/" TargetMode="External"/><Relationship Id="rId23" Type="http://schemas.openxmlformats.org/officeDocument/2006/relationships/hyperlink" Target="http://www.eeppt.com/moban/lunwen/" TargetMode="External"/><Relationship Id="rId24" Type="http://schemas.openxmlformats.org/officeDocument/2006/relationships/slideLayout" Target="../slideLayouts/slideLayout7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Text Box 9"/>
          <p:cNvSpPr/>
          <p:nvPr/>
        </p:nvSpPr>
        <p:spPr>
          <a:xfrm>
            <a:off x="533520" y="5335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方正行楷简体"/>
                <a:ea typeface="方正行楷简体"/>
              </a:rPr>
              <a:t>人教新课标二年级美术下册第四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矩形 1"/>
          <p:cNvSpPr/>
          <p:nvPr/>
        </p:nvSpPr>
        <p:spPr>
          <a:xfrm>
            <a:off x="2927160" y="1905120"/>
            <a:ext cx="384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新鲜的包装纸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矩形 5"/>
          <p:cNvSpPr/>
          <p:nvPr/>
        </p:nvSpPr>
        <p:spPr>
          <a:xfrm>
            <a:off x="208800" y="64533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316" name="Picture 7" descr="0100130036"/>
          <p:cNvPicPr/>
          <p:nvPr/>
        </p:nvPicPr>
        <p:blipFill>
          <a:blip r:embed="rId1"/>
          <a:stretch/>
        </p:blipFill>
        <p:spPr>
          <a:xfrm>
            <a:off x="2819520" y="1828800"/>
            <a:ext cx="2514600" cy="209088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8" descr="0100130159"/>
          <p:cNvPicPr/>
          <p:nvPr/>
        </p:nvPicPr>
        <p:blipFill>
          <a:blip r:embed="rId2"/>
          <a:stretch/>
        </p:blipFill>
        <p:spPr>
          <a:xfrm>
            <a:off x="5715000" y="1828800"/>
            <a:ext cx="2514600" cy="209556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12" descr="0100130250"/>
          <p:cNvPicPr/>
          <p:nvPr/>
        </p:nvPicPr>
        <p:blipFill>
          <a:blip r:embed="rId3"/>
          <a:stretch/>
        </p:blipFill>
        <p:spPr>
          <a:xfrm>
            <a:off x="2819520" y="4114800"/>
            <a:ext cx="2514600" cy="209376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13" descr="0100130335"/>
          <p:cNvPicPr/>
          <p:nvPr/>
        </p:nvPicPr>
        <p:blipFill>
          <a:blip r:embed="rId4"/>
          <a:stretch/>
        </p:blipFill>
        <p:spPr>
          <a:xfrm>
            <a:off x="5715000" y="4114800"/>
            <a:ext cx="2514600" cy="20955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0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321" name="Picture 9" descr="0100130393"/>
          <p:cNvPicPr/>
          <p:nvPr/>
        </p:nvPicPr>
        <p:blipFill>
          <a:blip r:embed="rId1"/>
          <a:stretch/>
        </p:blipFill>
        <p:spPr>
          <a:xfrm>
            <a:off x="2666880" y="1523880"/>
            <a:ext cx="2667240" cy="222264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10" descr="0100130624"/>
          <p:cNvPicPr/>
          <p:nvPr/>
        </p:nvPicPr>
        <p:blipFill>
          <a:blip r:embed="rId2"/>
          <a:stretch/>
        </p:blipFill>
        <p:spPr>
          <a:xfrm>
            <a:off x="5638680" y="1523880"/>
            <a:ext cx="2667240" cy="222264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11" descr="0100130780"/>
          <p:cNvPicPr/>
          <p:nvPr/>
        </p:nvPicPr>
        <p:blipFill>
          <a:blip r:embed="rId3"/>
          <a:stretch/>
        </p:blipFill>
        <p:spPr>
          <a:xfrm>
            <a:off x="2666880" y="3886200"/>
            <a:ext cx="2667240" cy="220824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12" descr="0100130868"/>
          <p:cNvPicPr/>
          <p:nvPr/>
        </p:nvPicPr>
        <p:blipFill>
          <a:blip r:embed="rId4"/>
          <a:stretch/>
        </p:blipFill>
        <p:spPr>
          <a:xfrm>
            <a:off x="5638680" y="3886200"/>
            <a:ext cx="2667240" cy="22226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0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326" name="Picture 9" descr="无标题"/>
          <p:cNvPicPr/>
          <p:nvPr/>
        </p:nvPicPr>
        <p:blipFill>
          <a:blip r:embed="rId1"/>
          <a:stretch/>
        </p:blipFill>
        <p:spPr>
          <a:xfrm>
            <a:off x="2779560" y="1600200"/>
            <a:ext cx="2914920" cy="218592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10" descr="2009052502025505151239672967010710631"/>
          <p:cNvPicPr/>
          <p:nvPr/>
        </p:nvPicPr>
        <p:blipFill>
          <a:blip r:embed="rId2"/>
          <a:stretch/>
        </p:blipFill>
        <p:spPr>
          <a:xfrm>
            <a:off x="6019920" y="1600200"/>
            <a:ext cx="2895480" cy="218592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11" descr="2009052502024008121239672968997576191"/>
          <p:cNvPicPr/>
          <p:nvPr/>
        </p:nvPicPr>
        <p:blipFill>
          <a:blip r:embed="rId3"/>
          <a:stretch/>
        </p:blipFill>
        <p:spPr>
          <a:xfrm>
            <a:off x="2743200" y="3962520"/>
            <a:ext cx="2895480" cy="218736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12" descr="147783372"/>
          <p:cNvPicPr/>
          <p:nvPr/>
        </p:nvPicPr>
        <p:blipFill>
          <a:blip r:embed="rId4"/>
          <a:stretch/>
        </p:blipFill>
        <p:spPr>
          <a:xfrm>
            <a:off x="6019920" y="3962520"/>
            <a:ext cx="2895480" cy="21873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0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8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8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8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8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0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8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8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8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8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23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8080" y="1294920"/>
            <a:ext cx="3657600" cy="708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隶书"/>
              </a:rPr>
              <a:t>作业要求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2209680" y="2286000"/>
            <a:ext cx="54864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除了刚才的排列方法外还可以根据自己的喜欢进行这种排列，只要漂亮就可以 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Picture 6" descr="u=667419159,1515269218&amp;fm=0&amp;gp=0"/>
          <p:cNvPicPr/>
          <p:nvPr/>
        </p:nvPicPr>
        <p:blipFill>
          <a:blip r:embed="rId1"/>
          <a:stretch/>
        </p:blipFill>
        <p:spPr>
          <a:xfrm>
            <a:off x="7162920" y="4800600"/>
            <a:ext cx="1676160" cy="16765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0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2" dur="80"/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3,-118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20,-5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3" dur="80"/>
                                        <p:tgtEl>
                                          <p:spTgt spid="3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3,-118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20,-5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4" dur="80"/>
                                        <p:tgtEl>
                                          <p:spTgt spid="3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240"/>
                            </p:stCondLst>
                            <p:childTnLst>
                              <p:par>
                                <p:cTn id="20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8" dur="80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3,-118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20,-5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9" dur="80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3,-118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20,-5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0" dur="80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2286000" y="1828800"/>
            <a:ext cx="6316560" cy="2819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同学们：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你们还可以利用新颖的材料，如：碎布、闪光纸拼贴包装纸，运用本课所制作的包装纸，包装一件礼物送给小朋友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Picture 12" descr="u=1089927379,2577859402&amp;fm=0&amp;gp=0"/>
          <p:cNvPicPr/>
          <p:nvPr/>
        </p:nvPicPr>
        <p:blipFill>
          <a:blip r:embed="rId1"/>
          <a:stretch/>
        </p:blipFill>
        <p:spPr>
          <a:xfrm>
            <a:off x="6324480" y="4419720"/>
            <a:ext cx="2400480" cy="1800000"/>
          </a:xfrm>
          <a:prstGeom prst="rect">
            <a:avLst/>
          </a:prstGeom>
          <a:ln w="0">
            <a:noFill/>
          </a:ln>
        </p:spPr>
      </p:pic>
      <p:sp>
        <p:nvSpPr>
          <p:cNvPr id="338" name="Text Box 4"/>
          <p:cNvSpPr/>
          <p:nvPr/>
        </p:nvSpPr>
        <p:spPr>
          <a:xfrm>
            <a:off x="157320" y="64231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0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7" dur="80"/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3,-118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20,-5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8" dur="80"/>
                                        <p:tgtEl>
                                          <p:spTgt spid="3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3,-118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20,-5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9" dur="80"/>
                                        <p:tgtEl>
                                          <p:spTgt spid="3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WordArt 12"/>
          <p:cNvSpPr txBox="1"/>
          <p:nvPr/>
        </p:nvSpPr>
        <p:spPr>
          <a:xfrm>
            <a:off x="2514600" y="2362320"/>
            <a:ext cx="4952880" cy="24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隶书"/>
              </a:rPr>
              <a:t>再见！</a:t>
            </a:r>
            <a:endParaRPr b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340" name="Text Box 3"/>
          <p:cNvSpPr/>
          <p:nvPr/>
        </p:nvSpPr>
        <p:spPr>
          <a:xfrm>
            <a:off x="1411200" y="6423120"/>
            <a:ext cx="675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c1c1c"/>
                </a:solidFill>
                <a:latin typeface="楷体"/>
                <a:ea typeface="楷体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楷体"/>
                <a:ea typeface="楷体"/>
              </a:rPr>
              <a:t>之家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楷体"/>
                <a:ea typeface="楷体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楷体"/>
                <a:ea typeface="楷体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楷体"/>
                <a:ea typeface="楷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nodeType="clickEffect" fill="hold">
                      <p:stCondLst>
                        <p:cond delay="0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矩形 5"/>
          <p:cNvSpPr/>
          <p:nvPr/>
        </p:nvSpPr>
        <p:spPr>
          <a:xfrm>
            <a:off x="3505320" y="3581280"/>
            <a:ext cx="10792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905120" y="68544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  <a:ea typeface="隶书"/>
              </a:rPr>
              <a:t>生活中我们常互送小礼物，包装纸让礼物穿上新衣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Picture 10" descr="%C9%FA%BB%EE_%BD%F0%C8%DA_%C0%F1%CE%EF%B0%FC%D7%B0_003"/>
          <p:cNvPicPr/>
          <p:nvPr/>
        </p:nvPicPr>
        <p:blipFill>
          <a:blip r:embed="rId1"/>
          <a:stretch/>
        </p:blipFill>
        <p:spPr>
          <a:xfrm>
            <a:off x="2693880" y="2209680"/>
            <a:ext cx="3086280" cy="327672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11" descr="%C9%FA%BB%EE_%BD%F0%C8%DA_%C0%F1%CE%EF%B0%FC%D7%B0_064"/>
          <p:cNvPicPr/>
          <p:nvPr/>
        </p:nvPicPr>
        <p:blipFill>
          <a:blip r:embed="rId2"/>
          <a:stretch/>
        </p:blipFill>
        <p:spPr>
          <a:xfrm>
            <a:off x="5932440" y="2238480"/>
            <a:ext cx="3087720" cy="32493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3,-118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20,-5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2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3,-118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20,-5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2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240"/>
                            </p:stCondLst>
                            <p:childTnLst>
                              <p:par>
                                <p:cTn id="1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1740"/>
                            </p:stCondLst>
                            <p:childTnLst>
                              <p:par>
                                <p:cTn id="18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295" name="Picture 8" descr="3866842_b"/>
          <p:cNvPicPr/>
          <p:nvPr/>
        </p:nvPicPr>
        <p:blipFill>
          <a:blip r:embed="rId1"/>
          <a:stretch/>
        </p:blipFill>
        <p:spPr>
          <a:xfrm>
            <a:off x="2693880" y="2319480"/>
            <a:ext cx="3086280" cy="308592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9" descr="20094149465049111"/>
          <p:cNvPicPr/>
          <p:nvPr/>
        </p:nvPicPr>
        <p:blipFill>
          <a:blip r:embed="rId2"/>
          <a:stretch/>
        </p:blipFill>
        <p:spPr>
          <a:xfrm>
            <a:off x="5791320" y="2362320"/>
            <a:ext cx="3124080" cy="30477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298" name="Picture 3" descr="a38dbef66a3c2d85c88c1815a3b7bbd0"/>
          <p:cNvPicPr/>
          <p:nvPr/>
        </p:nvPicPr>
        <p:blipFill>
          <a:blip r:embed="rId1"/>
          <a:stretch/>
        </p:blipFill>
        <p:spPr>
          <a:xfrm>
            <a:off x="2693880" y="1828800"/>
            <a:ext cx="3086280" cy="411480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4" descr="aea339105078e13eb8127b41"/>
          <p:cNvPicPr/>
          <p:nvPr/>
        </p:nvPicPr>
        <p:blipFill>
          <a:blip r:embed="rId2"/>
          <a:stretch/>
        </p:blipFill>
        <p:spPr>
          <a:xfrm>
            <a:off x="5932440" y="1805040"/>
            <a:ext cx="3087720" cy="4116240"/>
          </a:xfrm>
          <a:prstGeom prst="rect">
            <a:avLst/>
          </a:prstGeom>
          <a:ln w="0">
            <a:noFill/>
          </a:ln>
        </p:spPr>
      </p:pic>
      <p:sp>
        <p:nvSpPr>
          <p:cNvPr id="300" name="Text Box 5"/>
          <p:cNvSpPr/>
          <p:nvPr/>
        </p:nvSpPr>
        <p:spPr>
          <a:xfrm>
            <a:off x="157320" y="64231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0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302" name="Picture 6" descr="2009_3_28_3_55_055886497"/>
          <p:cNvPicPr/>
          <p:nvPr/>
        </p:nvPicPr>
        <p:blipFill>
          <a:blip r:embed="rId1"/>
          <a:stretch/>
        </p:blipFill>
        <p:spPr>
          <a:xfrm>
            <a:off x="2666880" y="1600200"/>
            <a:ext cx="6096240" cy="4525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0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9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304" name="Picture 6" descr="OOOPIC_sxzj_20090207823b78a421d19663"/>
          <p:cNvPicPr/>
          <p:nvPr/>
        </p:nvPicPr>
        <p:blipFill>
          <a:blip r:embed="rId1"/>
          <a:stretch/>
        </p:blipFill>
        <p:spPr>
          <a:xfrm>
            <a:off x="2590920" y="990720"/>
            <a:ext cx="6019560" cy="51354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0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不同类型的包装纸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Picture 7" descr="0,0,228,19741,308,231,99a82701"/>
          <p:cNvPicPr/>
          <p:nvPr/>
        </p:nvPicPr>
        <p:blipFill>
          <a:blip r:embed="rId1"/>
          <a:stretch/>
        </p:blipFill>
        <p:spPr>
          <a:xfrm>
            <a:off x="2362320" y="1676520"/>
            <a:ext cx="3276360" cy="297180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8" descr="20090205_a3e9818fb306a6e2dabc9fvXPzk3JMNM"/>
          <p:cNvPicPr/>
          <p:nvPr/>
        </p:nvPicPr>
        <p:blipFill>
          <a:blip r:embed="rId2"/>
          <a:stretch/>
        </p:blipFill>
        <p:spPr>
          <a:xfrm>
            <a:off x="5715000" y="2743200"/>
            <a:ext cx="3124080" cy="32004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3" dur="2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7" dur="2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309" name="Picture 7" descr="0,0,313,50929,600,450,15764594"/>
          <p:cNvPicPr/>
          <p:nvPr/>
        </p:nvPicPr>
        <p:blipFill>
          <a:blip r:embed="rId1"/>
          <a:stretch/>
        </p:blipFill>
        <p:spPr>
          <a:xfrm>
            <a:off x="2362320" y="2362320"/>
            <a:ext cx="3429000" cy="304776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8" descr="819104"/>
          <p:cNvPicPr/>
          <p:nvPr/>
        </p:nvPicPr>
        <p:blipFill>
          <a:blip r:embed="rId2"/>
          <a:stretch/>
        </p:blipFill>
        <p:spPr>
          <a:xfrm>
            <a:off x="5932440" y="2319480"/>
            <a:ext cx="3087720" cy="30877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0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312" name="Picture 7" descr="83556927"/>
          <p:cNvPicPr/>
          <p:nvPr/>
        </p:nvPicPr>
        <p:blipFill>
          <a:blip r:embed="rId1"/>
          <a:stretch/>
        </p:blipFill>
        <p:spPr>
          <a:xfrm>
            <a:off x="2514600" y="2286000"/>
            <a:ext cx="3086280" cy="312408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8" descr="93531991"/>
          <p:cNvPicPr/>
          <p:nvPr/>
        </p:nvPicPr>
        <p:blipFill>
          <a:blip r:embed="rId2"/>
          <a:stretch/>
        </p:blipFill>
        <p:spPr>
          <a:xfrm>
            <a:off x="5932440" y="2319480"/>
            <a:ext cx="3087720" cy="3087720"/>
          </a:xfrm>
          <a:prstGeom prst="rect">
            <a:avLst/>
          </a:prstGeom>
          <a:ln w="0">
            <a:noFill/>
          </a:ln>
        </p:spPr>
      </p:pic>
      <p:sp>
        <p:nvSpPr>
          <p:cNvPr id="314" name="Text Box 5"/>
          <p:cNvSpPr/>
          <p:nvPr/>
        </p:nvSpPr>
        <p:spPr>
          <a:xfrm>
            <a:off x="157320" y="64231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0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6T05:40:35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04:17:13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