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15236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DF8D-F371-4BF6-B768-68A30B2D7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6000" y="367272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7EA3-C30F-4C49-BBB8-2333F44EA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89032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FEB7-E05A-4F64-ACF8-112CDB777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824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5888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60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824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75888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9C9A-D84E-4411-B4C2-10F06E4A20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C2DC-F708-4955-ACF9-08BBB1E696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B72D-0344-4A0C-A145-48257555B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9931-9595-4DA2-8298-E058623A1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ECD4-0F72-4457-BB22-64B0F4C41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76000" y="272880"/>
            <a:ext cx="1037088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0D6C-E878-42CD-BE0F-EAB80638D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D51A-981D-4A7D-B6F4-CDBE9994F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9032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09A9-F044-46E1-B515-17C48358E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6573-4D95-4089-9BE2-1C35F0D16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4" descr="red"/>
          <p:cNvPicPr/>
          <p:nvPr/>
        </p:nvPicPr>
        <p:blipFill>
          <a:blip r:embed="rId2"/>
          <a:stretch/>
        </p:blipFill>
        <p:spPr>
          <a:xfrm>
            <a:off x="0" y="0"/>
            <a:ext cx="1152216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-639000" y="-5951160"/>
            <a:ext cx="15093000" cy="13032000"/>
            <a:chOff x="-639000" y="-5951160"/>
            <a:chExt cx="15093000" cy="13032000"/>
          </a:xfrm>
        </p:grpSpPr>
        <p:sp>
          <p:nvSpPr>
            <p:cNvPr id="2" name="Freeform 196"/>
            <p:cNvSpPr/>
            <p:nvPr/>
          </p:nvSpPr>
          <p:spPr>
            <a:xfrm rot="19782000">
              <a:off x="351720" y="-1628640"/>
              <a:ext cx="10008720" cy="66384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" name="Freeform 197"/>
            <p:cNvSpPr/>
            <p:nvPr/>
          </p:nvSpPr>
          <p:spPr>
            <a:xfrm rot="19782000">
              <a:off x="371160" y="-1572120"/>
              <a:ext cx="10096920" cy="64915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" name="Freeform 198"/>
            <p:cNvSpPr/>
            <p:nvPr/>
          </p:nvSpPr>
          <p:spPr>
            <a:xfrm rot="19782000">
              <a:off x="387360" y="-1520280"/>
              <a:ext cx="10185480" cy="63468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" name="Freeform 199"/>
            <p:cNvSpPr/>
            <p:nvPr/>
          </p:nvSpPr>
          <p:spPr>
            <a:xfrm rot="19782000">
              <a:off x="406800" y="-1459440"/>
              <a:ext cx="10270800" cy="61923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" name="Freeform 200"/>
            <p:cNvSpPr/>
            <p:nvPr/>
          </p:nvSpPr>
          <p:spPr>
            <a:xfrm rot="19782000">
              <a:off x="427320" y="-1404360"/>
              <a:ext cx="10355040" cy="60465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Freeform 201"/>
            <p:cNvSpPr/>
            <p:nvPr/>
          </p:nvSpPr>
          <p:spPr>
            <a:xfrm rot="19782000">
              <a:off x="450720" y="-1344240"/>
              <a:ext cx="10434600" cy="58928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Freeform 202"/>
            <p:cNvSpPr/>
            <p:nvPr/>
          </p:nvSpPr>
          <p:spPr>
            <a:xfrm rot="19782000">
              <a:off x="473760" y="-1283400"/>
              <a:ext cx="10512720" cy="57384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" name="Freeform 203"/>
            <p:cNvSpPr/>
            <p:nvPr/>
          </p:nvSpPr>
          <p:spPr>
            <a:xfrm rot="19782000">
              <a:off x="498240" y="-1222920"/>
              <a:ext cx="10589760" cy="55886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" name="Freeform 204"/>
            <p:cNvSpPr/>
            <p:nvPr/>
          </p:nvSpPr>
          <p:spPr>
            <a:xfrm rot="19782000">
              <a:off x="524880" y="-1161360"/>
              <a:ext cx="10657080" cy="54302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" name="Freeform 205"/>
            <p:cNvSpPr/>
            <p:nvPr/>
          </p:nvSpPr>
          <p:spPr>
            <a:xfrm rot="19782000">
              <a:off x="551520" y="-1095480"/>
              <a:ext cx="10728360" cy="52711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" name="Freeform 206"/>
            <p:cNvSpPr/>
            <p:nvPr/>
          </p:nvSpPr>
          <p:spPr>
            <a:xfrm rot="19782000">
              <a:off x="581760" y="-1035720"/>
              <a:ext cx="10795680" cy="51202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" name="Freeform 207"/>
            <p:cNvSpPr/>
            <p:nvPr/>
          </p:nvSpPr>
          <p:spPr>
            <a:xfrm rot="19782000">
              <a:off x="610200" y="-978480"/>
              <a:ext cx="10856520" cy="49716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" name="Freeform 208"/>
            <p:cNvSpPr/>
            <p:nvPr/>
          </p:nvSpPr>
          <p:spPr>
            <a:xfrm rot="19782000">
              <a:off x="638280" y="-920520"/>
              <a:ext cx="10917360" cy="48171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" name="Freeform 209"/>
            <p:cNvSpPr/>
            <p:nvPr/>
          </p:nvSpPr>
          <p:spPr>
            <a:xfrm rot="19782000">
              <a:off x="669960" y="-862920"/>
              <a:ext cx="10976040" cy="46702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" name="Freeform 210"/>
            <p:cNvSpPr/>
            <p:nvPr/>
          </p:nvSpPr>
          <p:spPr>
            <a:xfrm rot="19782000">
              <a:off x="702000" y="-809640"/>
              <a:ext cx="11030400" cy="45255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" name="Freeform 211"/>
            <p:cNvSpPr/>
            <p:nvPr/>
          </p:nvSpPr>
          <p:spPr>
            <a:xfrm rot="19782000">
              <a:off x="732240" y="-755640"/>
              <a:ext cx="11081160" cy="43750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" name="Freeform 212"/>
            <p:cNvSpPr/>
            <p:nvPr/>
          </p:nvSpPr>
          <p:spPr>
            <a:xfrm rot="19782000">
              <a:off x="767520" y="-701640"/>
              <a:ext cx="11129040" cy="42339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" name="Freeform 213"/>
            <p:cNvSpPr/>
            <p:nvPr/>
          </p:nvSpPr>
          <p:spPr>
            <a:xfrm rot="19782000">
              <a:off x="803160" y="-648000"/>
              <a:ext cx="11172960" cy="40845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" name="Freeform 214"/>
            <p:cNvSpPr/>
            <p:nvPr/>
          </p:nvSpPr>
          <p:spPr>
            <a:xfrm rot="19782000">
              <a:off x="837360" y="-597240"/>
              <a:ext cx="11215080" cy="39423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" name="Freeform 215"/>
            <p:cNvSpPr/>
            <p:nvPr/>
          </p:nvSpPr>
          <p:spPr>
            <a:xfrm rot="19782000">
              <a:off x="876240" y="-547200"/>
              <a:ext cx="11252520" cy="38055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" name="Freeform 216"/>
            <p:cNvSpPr/>
            <p:nvPr/>
          </p:nvSpPr>
          <p:spPr>
            <a:xfrm rot="19782000">
              <a:off x="914760" y="-496440"/>
              <a:ext cx="11286360" cy="36597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" name="Freeform 217"/>
            <p:cNvSpPr/>
            <p:nvPr/>
          </p:nvSpPr>
          <p:spPr>
            <a:xfrm rot="19782000">
              <a:off x="954720" y="-450360"/>
              <a:ext cx="11315520" cy="35226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" name="Freeform 218"/>
            <p:cNvSpPr/>
            <p:nvPr/>
          </p:nvSpPr>
          <p:spPr>
            <a:xfrm rot="19782000">
              <a:off x="996120" y="-403560"/>
              <a:ext cx="11345040" cy="33894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" name="Freeform 219"/>
            <p:cNvSpPr/>
            <p:nvPr/>
          </p:nvSpPr>
          <p:spPr>
            <a:xfrm rot="19782000">
              <a:off x="1039320" y="-354600"/>
              <a:ext cx="11372400" cy="32486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6" name="Freeform 220"/>
            <p:cNvSpPr/>
            <p:nvPr/>
          </p:nvSpPr>
          <p:spPr>
            <a:xfrm rot="19782000">
              <a:off x="1081440" y="-305640"/>
              <a:ext cx="11391480" cy="31068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7" name="Freeform 221"/>
            <p:cNvSpPr/>
            <p:nvPr/>
          </p:nvSpPr>
          <p:spPr>
            <a:xfrm rot="19782000">
              <a:off x="1126800" y="-268560"/>
              <a:ext cx="11408400" cy="29822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" name="Freeform 222"/>
            <p:cNvSpPr/>
            <p:nvPr/>
          </p:nvSpPr>
          <p:spPr>
            <a:xfrm rot="19782000">
              <a:off x="1171800" y="-221040"/>
              <a:ext cx="11426760" cy="28454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" name="Freeform 223"/>
            <p:cNvSpPr/>
            <p:nvPr/>
          </p:nvSpPr>
          <p:spPr>
            <a:xfrm rot="19782000">
              <a:off x="1219320" y="-177480"/>
              <a:ext cx="11435400" cy="27122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" name="Freeform 224"/>
            <p:cNvSpPr/>
            <p:nvPr/>
          </p:nvSpPr>
          <p:spPr>
            <a:xfrm rot="19782000">
              <a:off x="1266120" y="-139320"/>
              <a:ext cx="11445840" cy="25837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" name="Freeform 225"/>
            <p:cNvSpPr/>
            <p:nvPr/>
          </p:nvSpPr>
          <p:spPr>
            <a:xfrm rot="19782000">
              <a:off x="1319400" y="-97200"/>
              <a:ext cx="11450160" cy="24555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" name="Freeform 226"/>
            <p:cNvSpPr/>
            <p:nvPr/>
          </p:nvSpPr>
          <p:spPr>
            <a:xfrm rot="19782000">
              <a:off x="1369440" y="-57600"/>
              <a:ext cx="11453760" cy="23313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" name="Freeform 227"/>
            <p:cNvSpPr/>
            <p:nvPr/>
          </p:nvSpPr>
          <p:spPr>
            <a:xfrm rot="19782000">
              <a:off x="1422360" y="-18720"/>
              <a:ext cx="11450160" cy="22028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" name="Freeform 228"/>
            <p:cNvSpPr/>
            <p:nvPr/>
          </p:nvSpPr>
          <p:spPr>
            <a:xfrm rot="19782000">
              <a:off x="1478880" y="20160"/>
              <a:ext cx="11441520" cy="20786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" name="Freeform 229"/>
            <p:cNvSpPr/>
            <p:nvPr/>
          </p:nvSpPr>
          <p:spPr>
            <a:xfrm rot="19782000">
              <a:off x="1523160" y="19080"/>
              <a:ext cx="11432880" cy="19929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" name="Freeform 230"/>
            <p:cNvSpPr/>
            <p:nvPr/>
          </p:nvSpPr>
          <p:spPr>
            <a:xfrm rot="19782000">
              <a:off x="1532160" y="-121320"/>
              <a:ext cx="11424960" cy="20660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" name="Freeform 231"/>
            <p:cNvSpPr/>
            <p:nvPr/>
          </p:nvSpPr>
          <p:spPr>
            <a:xfrm rot="19782000">
              <a:off x="1546920" y="-258120"/>
              <a:ext cx="11407680" cy="21301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" name="Freeform 232"/>
            <p:cNvSpPr/>
            <p:nvPr/>
          </p:nvSpPr>
          <p:spPr>
            <a:xfrm rot="19782000">
              <a:off x="1562400" y="-400320"/>
              <a:ext cx="11386800" cy="21981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" name="Freeform 233"/>
            <p:cNvSpPr/>
            <p:nvPr/>
          </p:nvSpPr>
          <p:spPr>
            <a:xfrm rot="19782000">
              <a:off x="1583280" y="-543600"/>
              <a:ext cx="11364120" cy="22708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" name="Freeform 234"/>
            <p:cNvSpPr/>
            <p:nvPr/>
          </p:nvSpPr>
          <p:spPr>
            <a:xfrm rot="19782000">
              <a:off x="1605960" y="-681840"/>
              <a:ext cx="11334600" cy="23349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" name="Freeform 235"/>
            <p:cNvSpPr/>
            <p:nvPr/>
          </p:nvSpPr>
          <p:spPr>
            <a:xfrm rot="19782000">
              <a:off x="1632600" y="-826920"/>
              <a:ext cx="11305440" cy="24080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" name="Freeform 236"/>
            <p:cNvSpPr/>
            <p:nvPr/>
          </p:nvSpPr>
          <p:spPr>
            <a:xfrm rot="19782000">
              <a:off x="1662480" y="-971640"/>
              <a:ext cx="11269800" cy="24858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" name="Freeform 237"/>
            <p:cNvSpPr/>
            <p:nvPr/>
          </p:nvSpPr>
          <p:spPr>
            <a:xfrm rot="19782000">
              <a:off x="1730160" y="-1127160"/>
              <a:ext cx="11231640" cy="27043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" name="Freeform 238"/>
            <p:cNvSpPr/>
            <p:nvPr/>
          </p:nvSpPr>
          <p:spPr>
            <a:xfrm rot="19782000">
              <a:off x="1807920" y="-1279800"/>
              <a:ext cx="11189880" cy="29473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" name="Freeform 239"/>
            <p:cNvSpPr/>
            <p:nvPr/>
          </p:nvSpPr>
          <p:spPr>
            <a:xfrm rot="19782000">
              <a:off x="1886400" y="-1437120"/>
              <a:ext cx="11145600" cy="31921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Freeform 240"/>
            <p:cNvSpPr/>
            <p:nvPr/>
          </p:nvSpPr>
          <p:spPr>
            <a:xfrm rot="19782000">
              <a:off x="1967400" y="-1595160"/>
              <a:ext cx="11097720" cy="34408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" name="Freeform 241"/>
            <p:cNvSpPr/>
            <p:nvPr/>
          </p:nvSpPr>
          <p:spPr>
            <a:xfrm rot="19782000">
              <a:off x="2053440" y="-1749600"/>
              <a:ext cx="11043000" cy="36860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" name="Freeform 242"/>
            <p:cNvSpPr/>
            <p:nvPr/>
          </p:nvSpPr>
          <p:spPr>
            <a:xfrm rot="19782000">
              <a:off x="2137320" y="-1906560"/>
              <a:ext cx="10988280" cy="39348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" name="Freeform 243"/>
            <p:cNvSpPr/>
            <p:nvPr/>
          </p:nvSpPr>
          <p:spPr>
            <a:xfrm rot="19782000">
              <a:off x="2224080" y="-2063880"/>
              <a:ext cx="10930320" cy="41814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" name="Freeform 244"/>
            <p:cNvSpPr/>
            <p:nvPr/>
          </p:nvSpPr>
          <p:spPr>
            <a:xfrm rot="19782000">
              <a:off x="2313720" y="-2221200"/>
              <a:ext cx="10862640" cy="44305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" name="Freeform 245"/>
            <p:cNvSpPr/>
            <p:nvPr/>
          </p:nvSpPr>
          <p:spPr>
            <a:xfrm rot="19782000">
              <a:off x="2402640" y="-2378880"/>
              <a:ext cx="10800000" cy="46753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" name="Freeform 246"/>
            <p:cNvSpPr/>
            <p:nvPr/>
          </p:nvSpPr>
          <p:spPr>
            <a:xfrm rot="19782000">
              <a:off x="2495880" y="-2536560"/>
              <a:ext cx="10724400" cy="49240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" name="Freeform 247"/>
            <p:cNvSpPr/>
            <p:nvPr/>
          </p:nvSpPr>
          <p:spPr>
            <a:xfrm rot="19782000">
              <a:off x="2588760" y="-2689920"/>
              <a:ext cx="10652760" cy="51688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Freeform 248"/>
            <p:cNvSpPr/>
            <p:nvPr/>
          </p:nvSpPr>
          <p:spPr>
            <a:xfrm rot="19782000">
              <a:off x="2683800" y="-2846520"/>
              <a:ext cx="10575360" cy="54118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Freeform 249"/>
            <p:cNvSpPr/>
            <p:nvPr/>
          </p:nvSpPr>
          <p:spPr>
            <a:xfrm rot="19782000">
              <a:off x="2784960" y="-3000960"/>
              <a:ext cx="10491120" cy="56566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" name="Freeform 250"/>
            <p:cNvSpPr/>
            <p:nvPr/>
          </p:nvSpPr>
          <p:spPr>
            <a:xfrm rot="19782000">
              <a:off x="2882520" y="-3158280"/>
              <a:ext cx="10407600" cy="59054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" name="Freeform 251"/>
            <p:cNvSpPr/>
            <p:nvPr/>
          </p:nvSpPr>
          <p:spPr>
            <a:xfrm rot="19782000">
              <a:off x="2983320" y="-3316680"/>
              <a:ext cx="10321200" cy="61495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" name="Freeform 252"/>
            <p:cNvSpPr/>
            <p:nvPr/>
          </p:nvSpPr>
          <p:spPr>
            <a:xfrm rot="19782000">
              <a:off x="3089160" y="-3469680"/>
              <a:ext cx="10225440" cy="63936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" name="Freeform 253"/>
            <p:cNvSpPr/>
            <p:nvPr/>
          </p:nvSpPr>
          <p:spPr>
            <a:xfrm rot="19782000">
              <a:off x="3192840" y="-3623760"/>
              <a:ext cx="10132920" cy="66344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" name="Freeform 254"/>
            <p:cNvSpPr/>
            <p:nvPr/>
          </p:nvSpPr>
          <p:spPr>
            <a:xfrm rot="19782000">
              <a:off x="3300120" y="-3781080"/>
              <a:ext cx="10030320" cy="68785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" name="Freeform 255"/>
            <p:cNvSpPr/>
            <p:nvPr/>
          </p:nvSpPr>
          <p:spPr>
            <a:xfrm rot="19782000">
              <a:off x="3408120" y="-3933360"/>
              <a:ext cx="9927000" cy="71222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2" name="Rectangle 256"/>
          <p:cNvSpPr/>
          <p:nvPr/>
        </p:nvSpPr>
        <p:spPr>
          <a:xfrm>
            <a:off x="0" y="282600"/>
            <a:ext cx="11522160" cy="650880"/>
          </a:xfrm>
          <a:prstGeom prst="rect">
            <a:avLst/>
          </a:prstGeom>
          <a:blipFill rotWithShape="0">
            <a:blip r:embed="rId3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-12600" y="-54360"/>
            <a:ext cx="11574720" cy="6894720"/>
            <a:chOff x="-12600" y="-54360"/>
            <a:chExt cx="11574720" cy="6894720"/>
          </a:xfrm>
        </p:grpSpPr>
        <p:sp>
          <p:nvSpPr>
            <p:cNvPr id="64" name="Rectangle 257"/>
            <p:cNvSpPr/>
            <p:nvPr/>
          </p:nvSpPr>
          <p:spPr>
            <a:xfrm>
              <a:off x="1440" y="976320"/>
              <a:ext cx="11520000" cy="58640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" name="Rectangle 324"/>
            <p:cNvSpPr/>
            <p:nvPr/>
          </p:nvSpPr>
          <p:spPr>
            <a:xfrm>
              <a:off x="9014040" y="487440"/>
              <a:ext cx="2507400" cy="623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" name="AutoShape 325"/>
            <p:cNvSpPr/>
            <p:nvPr/>
          </p:nvSpPr>
          <p:spPr>
            <a:xfrm rot="16030200">
              <a:off x="8373960" y="357120"/>
              <a:ext cx="534960" cy="795240"/>
            </a:xfrm>
            <a:prstGeom prst="rtTriangl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AutoShape 326"/>
            <p:cNvSpPr/>
            <p:nvPr/>
          </p:nvSpPr>
          <p:spPr>
            <a:xfrm rot="16030200">
              <a:off x="10850040" y="-129600"/>
              <a:ext cx="534960" cy="794880"/>
            </a:xfrm>
            <a:prstGeom prst="rtTriangl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-12600" y="-54360"/>
              <a:ext cx="11574720" cy="1047600"/>
              <a:chOff x="-12600" y="-54360"/>
              <a:chExt cx="11574720" cy="1047600"/>
            </a:xfrm>
          </p:grpSpPr>
          <p:sp>
            <p:nvSpPr>
              <p:cNvPr id="69" name="Rectangle 318"/>
              <p:cNvSpPr/>
              <p:nvPr/>
            </p:nvSpPr>
            <p:spPr>
              <a:xfrm>
                <a:off x="-12600" y="921960"/>
                <a:ext cx="8445600" cy="7128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Rectangle 319"/>
              <p:cNvSpPr/>
              <p:nvPr/>
            </p:nvSpPr>
            <p:spPr>
              <a:xfrm rot="19388400">
                <a:off x="10745280" y="204480"/>
                <a:ext cx="885600" cy="64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Rectangle 321"/>
              <p:cNvSpPr/>
              <p:nvPr/>
            </p:nvSpPr>
            <p:spPr>
              <a:xfrm>
                <a:off x="9029880" y="456840"/>
                <a:ext cx="1828440" cy="727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Rectangle 320"/>
              <p:cNvSpPr/>
              <p:nvPr/>
            </p:nvSpPr>
            <p:spPr>
              <a:xfrm rot="19388400">
                <a:off x="8321760" y="696240"/>
                <a:ext cx="795240" cy="601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3" name="Rectangle 336"/>
          <p:cNvSpPr/>
          <p:nvPr/>
        </p:nvSpPr>
        <p:spPr>
          <a:xfrm>
            <a:off x="0" y="6551640"/>
            <a:ext cx="11522160" cy="288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Num" idx="1"/>
          </p:nvPr>
        </p:nvSpPr>
        <p:spPr>
          <a:xfrm>
            <a:off x="11133000" y="6556320"/>
            <a:ext cx="493920" cy="368280"/>
          </a:xfrm>
          <a:prstGeom prst="rect">
            <a:avLst/>
          </a:prstGeom>
          <a:solidFill>
            <a:srgbClr val="680000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2C86-2153-4AC2-A8C3-E1472A3F6D63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body"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1"/>
          <p:cNvSpPr/>
          <p:nvPr/>
        </p:nvSpPr>
        <p:spPr>
          <a:xfrm>
            <a:off x="11133000" y="6556320"/>
            <a:ext cx="493920" cy="368280"/>
          </a:xfrm>
          <a:prstGeom prst="rect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D75A-7CEE-4E94-A08A-9ED2C8CD3BD8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Oval 29"/>
          <p:cNvSpPr/>
          <p:nvPr/>
        </p:nvSpPr>
        <p:spPr>
          <a:xfrm flipV="1">
            <a:off x="9631440" y="5938200"/>
            <a:ext cx="1603440" cy="6541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451880" y="3005280"/>
            <a:ext cx="83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Thanks For Your Attention 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333680" y="1628640"/>
            <a:ext cx="318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1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95440" y="5175360"/>
            <a:ext cx="1218960" cy="1222200"/>
            <a:chOff x="595440" y="5175360"/>
            <a:chExt cx="1218960" cy="1222200"/>
          </a:xfrm>
        </p:grpSpPr>
        <p:pic>
          <p:nvPicPr>
            <p:cNvPr id="118" name="Picture 9" descr="png-2021"/>
            <p:cNvPicPr/>
            <p:nvPr/>
          </p:nvPicPr>
          <p:blipFill>
            <a:blip r:embed="rId1"/>
            <a:stretch/>
          </p:blipFill>
          <p:spPr>
            <a:xfrm>
              <a:off x="595440" y="5175360"/>
              <a:ext cx="121896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2" descr="c"/>
            <p:cNvPicPr/>
            <p:nvPr/>
          </p:nvPicPr>
          <p:blipFill>
            <a:blip r:embed="rId2"/>
            <a:srcRect l="0" t="50659" r="54791" b="0"/>
            <a:stretch/>
          </p:blipFill>
          <p:spPr>
            <a:xfrm>
              <a:off x="596520" y="5791320"/>
              <a:ext cx="555480" cy="60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595440" y="5172120"/>
            <a:ext cx="1228680" cy="1228680"/>
            <a:chOff x="595440" y="5172120"/>
            <a:chExt cx="1228680" cy="1228680"/>
          </a:xfrm>
        </p:grpSpPr>
        <p:pic>
          <p:nvPicPr>
            <p:cNvPr id="121" name="Picture 10" descr="a"/>
            <p:cNvPicPr/>
            <p:nvPr/>
          </p:nvPicPr>
          <p:blipFill>
            <a:blip r:embed="rId3"/>
            <a:stretch/>
          </p:blipFill>
          <p:spPr>
            <a:xfrm>
              <a:off x="595440" y="5172120"/>
              <a:ext cx="122868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3" descr="c"/>
            <p:cNvPicPr/>
            <p:nvPr/>
          </p:nvPicPr>
          <p:blipFill>
            <a:blip r:embed="rId4"/>
            <a:srcRect l="0" t="50659" r="54791" b="0"/>
            <a:stretch/>
          </p:blipFill>
          <p:spPr>
            <a:xfrm>
              <a:off x="596880" y="5786640"/>
              <a:ext cx="555840" cy="60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16" descr="b"/>
          <p:cNvPicPr/>
          <p:nvPr/>
        </p:nvPicPr>
        <p:blipFill>
          <a:blip r:embed="rId5"/>
          <a:stretch/>
        </p:blipFill>
        <p:spPr>
          <a:xfrm rot="1387200">
            <a:off x="739440" y="4576680"/>
            <a:ext cx="1228680" cy="1228680"/>
          </a:xfrm>
          <a:prstGeom prst="rect">
            <a:avLst/>
          </a:prstGeom>
          <a:ln w="0">
            <a:noFill/>
          </a:ln>
        </p:spPr>
      </p:pic>
      <p:sp>
        <p:nvSpPr>
          <p:cNvPr id="124" name="Oval 18"/>
          <p:cNvSpPr/>
          <p:nvPr/>
        </p:nvSpPr>
        <p:spPr>
          <a:xfrm flipV="1">
            <a:off x="10139400" y="6189840"/>
            <a:ext cx="2084400" cy="4809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Picture 26" descr="png-0151"/>
          <p:cNvPicPr/>
          <p:nvPr/>
        </p:nvPicPr>
        <p:blipFill>
          <a:blip r:embed="rId6"/>
          <a:stretch/>
        </p:blipFill>
        <p:spPr>
          <a:xfrm>
            <a:off x="8874000" y="3948120"/>
            <a:ext cx="2648160" cy="2647800"/>
          </a:xfrm>
          <a:prstGeom prst="rect">
            <a:avLst/>
          </a:prstGeom>
          <a:ln w="0">
            <a:noFill/>
          </a:ln>
        </p:spPr>
      </p:pic>
      <p:sp>
        <p:nvSpPr>
          <p:cNvPr id="126" name="Oval 30"/>
          <p:cNvSpPr/>
          <p:nvPr/>
        </p:nvSpPr>
        <p:spPr>
          <a:xfrm flipV="1">
            <a:off x="10310760" y="3481560"/>
            <a:ext cx="324000" cy="1872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1301760" y="61498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 Narrow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 Narrow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915120" y="125280"/>
            <a:ext cx="33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Arial Narrow"/>
              </a:rPr>
              <a:t>谢谢观看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宋体"/>
              </a:rPr>
              <a:t>PPT</a:t>
            </a:r>
            <a:r>
              <a:rPr b="1" lang="ko-KR" sz="4000" spc="-1" strike="noStrike">
                <a:solidFill>
                  <a:srgbClr val="ffffff"/>
                </a:solidFill>
                <a:latin typeface="Arial Narrow"/>
              </a:rPr>
              <a:t>动态图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496 -0.00975 L 0.28265 -0.41365 E">
                                      <p:cBhvr>
                                        <p:cTn id="3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879 -0.40863 L 0.32924 -0.40585 L 0.30692 -0.40306 L 0.30774 -0.34045 L 0.33834 -0.41976 L 0.33917 -0.33627 L 0.34413 -0.37941 L 0.35157 -0.39054 L 0.35984 -0.38636 L 0.36149 -0.36271 L 0.36563 -0.33488 L 0.3739 -0.35436 L 0.39953 -0.37245 L 0.39705 -0.38497 L 0.37968 -0.37941 L 0.37968 -0.36549 L 0.37803 -0.34323 L 0.39043 -0.33906 L 0.40036 -0.35019 L 0.47395 -0.41559 L 0.44914 -0.4128 L 0.44253 -0.38358 L 0.44501 -0.37245 L 0.46734 -0.37662 L 0.44418 -0.36688 L 0.44336 -0.34323 L 0.47064 -0.33766 L 0.48139 -0.38636 L 0.48139 -0.33349 L 0.48635 -0.37802 L 0.50041 -0.38915 L 0.50537 -0.37523 L 0.5062 -0.33071 L 0.54093 -0.37662 L 0.53597 -0.3808 L 0.52026 -0.37802 L 0.51778 -0.35158 L 0.5277 -0.33766 L 0.53928 -0.34601 L 0.54424 -0.41419 C 0.54506 -0.38915 0.54672 -0.33906 0.54672 -0.33882 E">
                                      <p:cBhvr>
                                        <p:cTn id="39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6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703 -0.2129 L 0.0379 -0.2129 L 0.02467 -0.20362 L 0.02467 -0.15909 L 0.05223 -0.21661 L 0.05333 -0.15724 L 0.05664 -0.18692 L 0.06215 -0.19991 L 0.07097 -0.19991 L 0.07428 -0.15724 L 0.09192 -0.15909 L 0.10846 -0.16837 L 0.10625 -0.19249 L 0.08641 -0.1795 L 0.08972 -0.1628 L 0.10956 -0.16095 L 0.11508 -0.15167 L 0.125 -0.20362 L 0.1239 -0.15724 L 0.12831 -0.19805 L 0.14154 -0.20362 L 0.14374 -0.15724 L 0.15794 -0.21475 L 0.15918 -0.15538 L 0.17558 -0.19991 L 0.1691 -0.17208 L 0.18123 -0.15538 L 0.2121 -0.19805 L 0.19446 -0.20362 L 0.18881 -0.18507 L 0.20769 -0.17579 L 0.20659 -0.15724 L 0.19666 -0.15538 L 0.19115 -0.1628 L 0.26723 -0.2129 L 0.24297 -0.2129 L 0.24517 -0.15724 L 0.24738 -0.19249 L 0.26502 -0.19249 L 0.28597 -0.20176 L 0.27715 -0.18692 L 0.27825 -0.16837 L 0.28928 -0.15909 L 0.2992 -0.16466 L 0.30016 -0.18321 L 0.28928 -0.19991 L 0.31353 -0.1962 L 0.31353 -0.16095 L 0.32015 -0.19805 L 0.32662 -0.20362 L 0.35433 -0.21661 L 0.36756 -0.18692 L 0.38478 -0.2129 L 0.36866 -0.18507 L 0.36866 -0.14982 L 0.40173 -0.19805 L 0.38961 -0.17579 L 0.40725 -0.15353 L 0.41607 -0.17393 L 0.41607 -0.19434 L 0.40504 -0.20176 L 0.4315 -0.19991 L 0.43178 -0.15538 L 0.44363 -0.15909 L 0.44942 -0.1962 L 0.45231 -0.1628 L 0.46678 -0.1962 L 0.46899 -0.15167 L 0.4734 -0.19434 L 0.48332 -0.19991 L 0.52191 -0.21661 L 0.50537 -0.15909 L 0.52632 -0.21475 L 0.53735 -0.15353 L 0.5175 -0.17579 L 0.53183 -0.1795 L 0.55058 -0.21104 L 0.55388 -0.15909 L 0.56381 -0.16095 L 0.57483 -0.21475 L 0.57483 -0.1628 L 0.58586 -0.15724 L 0.59647 -0.17764 L 0.61673 -0.18321 L 0.61411 -0.19805 L 0.60019 -0.20176 L 0.59344 -0.19063 L 0.59647 -0.16466 L 0.60901 -0.15909 L 0.61783 -0.16651 L 0.63327 -0.1962 L 0.63175 -0.16095 L 0.63988 -0.20362 L 0.65201 -0.20176 L 0.65201 -0.15353 L 0.67186 -0.21104 L 0.66965 -0.15909 L 0.68068 -0.15909 L 0.6928 -0.21846 L 0.6928 -0.15538 L 0.70824 -0.20362 L 0.70714 -0.18507 L 0.70603 -0.16651 L 0.71692 -0.16095 L 0.73029 -0.16651 L 0.72808 -0.19434 L 0.71485 -0.20362 L 0.74462 -0.20176 L 0.74352 -0.16095 L 0.75014 -0.19805 L 0.76116 -0.20362 L 0.76116 -0.15909 E">
                                      <p:cBhvr>
                                        <p:cTn id="45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6100"/>
                            </p:stCondLst>
                            <p:childTnLst>
                              <p:par>
                                <p:cTn id="5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7199760">
                                      <p:cBhvr>
                                        <p:cTn id="5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76116 -0.15916 L 0.82397 -0.31529 E">
                                      <p:cBhvr>
                                        <p:cTn id="5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1"/>
          <p:cNvSpPr/>
          <p:nvPr/>
        </p:nvSpPr>
        <p:spPr>
          <a:xfrm>
            <a:off x="11133000" y="6556320"/>
            <a:ext cx="493920" cy="368280"/>
          </a:xfrm>
          <a:prstGeom prst="rect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C4D3-CA91-4CFA-8F87-1FCF1C82E209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1079640" y="409248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动态ppt模板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ttp://www.eeppt.com/dongtai/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90400" y="189000"/>
            <a:ext cx="1034280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440" y="1266840"/>
            <a:ext cx="1124928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9182160" y="333360"/>
            <a:ext cx="1751040" cy="347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 Narrow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DD84-3E21-474D-BCC1-000287E1BD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6:12:53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2:27Z</dcterms:modified>
  <cp:revision>4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