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5400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71D6-11DA-4D81-ACC2-ACE9E7FCF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E3F5-2A78-4860-8DAA-B98A54CF8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FCEE-3E2A-4BD3-B12C-8B2CEC814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3D7E-D937-46A3-B52F-96A894923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459D9-9586-4E3C-9984-E199E3456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C5E02-517B-42AE-A07D-8ED87AC7A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2BA7C-DA3F-4D64-B502-32845600F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93678-25CB-499C-A596-90AA888F5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707AD-20AC-4A60-A8A0-CD0808308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1600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993B5-0D84-4D56-B785-013DFE4F4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67FDE-8B06-4DDB-BC36-B004BA51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7489-1705-489E-AD0E-F3A57453F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DDC25-8874-4FFA-BA92-E4A84514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ED93F-5296-41CE-8F06-BE5BD64FB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F31A5-1A85-4547-B69B-7C0435BEA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C0747-8D3D-4408-95D0-530BB25D6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1CEBC-FD42-4E8A-AC13-2EBAB4865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C990-7639-4397-8A1B-BB3D0D4B0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4093-33FF-4AE0-A21A-93FE329C8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6905-E5EF-485B-A81A-AC8F09C2D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1600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EF40-1497-4F4C-AA54-A64638D33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4ECC-C94F-4630-BDFC-D1D25F61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744B-1AF8-4657-892A-A73C2F45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6503-1278-4625-A9D6-49564564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91616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916160"/>
            <a:ext cx="28958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91616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5C3EA-4084-4661-93A0-1EB40490DA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003280"/>
            <a:ext cx="21337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003280"/>
            <a:ext cx="289584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003280"/>
            <a:ext cx="21337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9E02E-A01B-4C7E-9104-355AFBF5F63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-31680" y="3209760"/>
            <a:ext cx="9139320" cy="2189160"/>
          </a:xfrm>
          <a:prstGeom prst="rect">
            <a:avLst/>
          </a:prstGeom>
          <a:solidFill>
            <a:srgbClr val="006699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96720" y="111276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5f5f5f"/>
                </a:solidFill>
                <a:latin typeface="Arial"/>
                <a:ea typeface="微软雅黑"/>
              </a:rPr>
              <a:t>谢谢</a:t>
            </a:r>
            <a:r>
              <a:rPr b="1" i="1" lang="zh-CN" sz="6000" spc="-1" strike="noStrike">
                <a:solidFill>
                  <a:srgbClr val="006699"/>
                </a:solidFill>
                <a:latin typeface="Arial"/>
                <a:ea typeface="微软雅黑"/>
              </a:rPr>
              <a:t>观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324000" y="349416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ff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360" y="6453360"/>
            <a:ext cx="508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49400"/>
            <a:ext cx="82072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000080"/>
            <a:ext cx="892800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262080"/>
            <a:ext cx="1388880" cy="274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572ED-96FF-46E0-82D6-90644B09AB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0T06:03:18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04:2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