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281-E336-4D07-9C1E-AF41DF33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5F6-1A8A-474B-981A-E48597B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1BE-99F7-4C14-9A4D-3350B8E7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68A-1A9D-4B0A-AE63-CE6AB59D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066E-62E0-40A1-A297-437CD451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2399-187A-4033-9A24-815E103A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08E5-310C-4A49-9748-9D468E3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B0A-2A35-43BA-804B-95CE48B8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74B9-3E04-42E7-B91F-0570D8B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87C-6ACB-4FE7-BE4C-1C199334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2DD7-DFF6-4792-836E-AC59CAB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457-88A7-4B32-9251-C84B8A8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852E-B8AE-48E9-820D-20325F7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86BE-3FF4-41DD-A2C8-282CEF7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5E39-9A58-47E5-BCBA-6206F781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9404-9101-46BB-BEAB-255D3F4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5966-5969-4318-9F7E-D26DD6C2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B9A-2FD7-48FB-8A65-DF04A8E8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AAC-AFDF-4DA3-96DD-D35D948A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43-B5D8-4CAD-B49B-349CD41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AD2-DA4C-4E89-91A9-48E69344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4AA-C749-48B4-A257-1B74F41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CD0-A7D6-41C6-8ED4-52A2184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71F-0401-41CB-B8E2-E70AB151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A14-8262-426B-8769-FE0BECEF0E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6D7B-D294-4B18-B0D7-77BFE1DAA2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9AF8-93C7-499C-8E93-F14203124DD4}" type="datetime">
              <a:rPr b="0" lang="zh-CN" sz="10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CA2-5F27-4D88-88E1-E709BCE076F9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wrrrr.png"/>
          <p:cNvPicPr/>
          <p:nvPr/>
        </p:nvPicPr>
        <p:blipFill>
          <a:blip r:embed="rId2"/>
          <a:stretch/>
        </p:blipFill>
        <p:spPr>
          <a:xfrm rot="21302400">
            <a:off x="919080" y="579240"/>
            <a:ext cx="6873840" cy="1725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0692800">
            <a:off x="4839840" y="14954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教学学习课件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195640" y="5378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53053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2431800" y="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2"/>
          <p:cNvSpPr/>
          <p:nvPr/>
        </p:nvSpPr>
        <p:spPr>
          <a:xfrm>
            <a:off x="2714760" y="17114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876480" y="1854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2790000" y="17114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6"/>
          <p:cNvSpPr/>
          <p:nvPr/>
        </p:nvSpPr>
        <p:spPr>
          <a:xfrm>
            <a:off x="2714760" y="24940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876480" y="2637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790000" y="249408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"/>
          <p:cNvSpPr/>
          <p:nvPr/>
        </p:nvSpPr>
        <p:spPr>
          <a:xfrm>
            <a:off x="2714760" y="3282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3876480" y="342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790000" y="3282840"/>
            <a:ext cx="6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99" name="Rectangle 4"/>
            <p:cNvSpPr/>
            <p:nvPr/>
          </p:nvSpPr>
          <p:spPr>
            <a:xfrm>
              <a:off x="152388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152388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152388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152388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364248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64248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364248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364248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5761440" y="825480"/>
              <a:ext cx="1858680" cy="1602000"/>
            </a:xfrm>
            <a:prstGeom prst="rect">
              <a:avLst/>
            </a:prstGeom>
            <a:solidFill>
              <a:srgbClr val="f79645"/>
            </a:solidFill>
            <a:ln w="25560">
              <a:solidFill>
                <a:srgbClr val="f79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761440" y="825480"/>
              <a:ext cx="185868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185040" tIns="105840" bIns="10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4"/>
            <p:cNvSpPr/>
            <p:nvPr/>
          </p:nvSpPr>
          <p:spPr>
            <a:xfrm>
              <a:off x="5761440" y="2427480"/>
              <a:ext cx="1858680" cy="2462040"/>
            </a:xfrm>
            <a:prstGeom prst="rect">
              <a:avLst/>
            </a:prstGeom>
            <a:solidFill>
              <a:srgbClr val="fcdcce">
                <a:alpha val="89000"/>
              </a:srgbClr>
            </a:solidFill>
            <a:ln w="25560">
              <a:solidFill>
                <a:srgbClr val="fcdcce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5"/>
            <p:cNvSpPr/>
            <p:nvPr/>
          </p:nvSpPr>
          <p:spPr>
            <a:xfrm>
              <a:off x="5761440" y="2427480"/>
              <a:ext cx="18586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42200" tIns="106560" bIns="1602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7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1523880" y="825480"/>
            <a:ext cx="6096240" cy="4064040"/>
            <a:chOff x="1523880" y="825480"/>
            <a:chExt cx="6096240" cy="4064040"/>
          </a:xfrm>
        </p:grpSpPr>
        <p:sp>
          <p:nvSpPr>
            <p:cNvPr id="116" name="Oval 4"/>
            <p:cNvSpPr/>
            <p:nvPr/>
          </p:nvSpPr>
          <p:spPr>
            <a:xfrm>
              <a:off x="3683880" y="8254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3944160" y="10051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 rot="2160000">
              <a:off x="5404320" y="176796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 rot="2160000">
              <a:off x="5418000" y="182196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"/>
            <p:cNvSpPr/>
            <p:nvPr/>
          </p:nvSpPr>
          <p:spPr>
            <a:xfrm>
              <a:off x="5844240" y="19090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6104160" y="20887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"/>
            <p:cNvSpPr/>
            <p:nvPr/>
          </p:nvSpPr>
          <p:spPr>
            <a:xfrm rot="6480000">
              <a:off x="6159600" y="3090600"/>
              <a:ext cx="326880" cy="5994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 rot="17280000">
              <a:off x="6230880" y="3164040"/>
              <a:ext cx="2289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"/>
            <p:cNvSpPr/>
            <p:nvPr/>
          </p:nvSpPr>
          <p:spPr>
            <a:xfrm>
              <a:off x="5019120" y="366300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5279040" y="384264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 rot="10800000">
              <a:off x="4348440" y="406944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4490640" y="415224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2348640" y="366300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608920" y="384264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8"/>
            <p:cNvSpPr/>
            <p:nvPr/>
          </p:nvSpPr>
          <p:spPr>
            <a:xfrm rot="15120000">
              <a:off x="2664720" y="3108240"/>
              <a:ext cx="326880" cy="5994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9"/>
            <p:cNvSpPr/>
            <p:nvPr/>
          </p:nvSpPr>
          <p:spPr>
            <a:xfrm rot="4320000">
              <a:off x="2735280" y="3274920"/>
              <a:ext cx="2289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1523880" y="1909080"/>
              <a:ext cx="1775880" cy="1226520"/>
            </a:xfrm>
            <a:prstGeom prst="ellipse">
              <a:avLst/>
            </a:prstGeom>
            <a:solidFill>
              <a:srgbClr val="f79645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1783800" y="2088720"/>
              <a:ext cx="12556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2"/>
            <p:cNvSpPr/>
            <p:nvPr/>
          </p:nvSpPr>
          <p:spPr>
            <a:xfrm rot="19440000">
              <a:off x="3244320" y="1779120"/>
              <a:ext cx="473760" cy="414000"/>
            </a:xfrm>
            <a:prstGeom prst="rightArrow">
              <a:avLst>
                <a:gd name="adj1" fmla="val 60000"/>
                <a:gd name="adj2" fmla="val 57217"/>
              </a:avLst>
            </a:prstGeom>
            <a:solidFill>
              <a:srgbClr val="fac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 rot="19440000">
              <a:off x="3257280" y="1890360"/>
              <a:ext cx="3315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600120" y="457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上弧形箭头 4"/>
          <p:cNvSpPr/>
          <p:nvPr/>
        </p:nvSpPr>
        <p:spPr>
          <a:xfrm>
            <a:off x="973080" y="1406520"/>
            <a:ext cx="2513160" cy="1511280"/>
          </a:xfrm>
          <a:custGeom>
            <a:avLst/>
            <a:gdLst>
              <a:gd name="textAreaLeft" fmla="*/ 383040 w 2513160"/>
              <a:gd name="textAreaRight" fmla="*/ 1853280 w 251316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89" hR="21600" stAng="10800000" swAng="5400000"/>
                <a:lnTo>
                  <a:pt x="12633" y="0"/>
                </a:lnTo>
                <a:arcTo wR="6589" hR="21600" stAng="-5400000" swAng="3239919"/>
                <a:lnTo>
                  <a:pt x="21444" y="16926"/>
                </a:lnTo>
                <a:lnTo>
                  <a:pt x="16200" y="21600"/>
                </a:lnTo>
                <a:lnTo>
                  <a:pt x="10644" y="16926"/>
                </a:lnTo>
                <a:lnTo>
                  <a:pt x="13022" y="16926"/>
                </a:lnTo>
                <a:arcTo wR="6589" hR="21600" stAng="-2160081" swAng="-2703075"/>
                <a:lnTo>
                  <a:pt x="9611" y="2406"/>
                </a:lnTo>
                <a:arcTo wR="6589" hR="21600" stAng="-5936844" swAng="-4863156"/>
                <a:close/>
              </a:path>
              <a:path fill="darkenLess" w="21600" h="21600">
                <a:moveTo>
                  <a:pt x="0" y="21600"/>
                </a:moveTo>
                <a:arcTo wR="6589" hR="21600" stAng="10800000" swAng="5400000"/>
                <a:lnTo>
                  <a:pt x="6589" y="0"/>
                </a:lnTo>
                <a:arcTo wR="6589" hR="21600" stAng="-5400000" swAng="536844"/>
                <a:lnTo>
                  <a:pt x="9611" y="2406"/>
                </a:lnTo>
                <a:arcTo wR="6589" hR="21600" stAng="-5936844" swAng="-4863156"/>
                <a:close/>
              </a:path>
            </a:pathLst>
          </a:cu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上弧形箭头 5"/>
          <p:cNvSpPr/>
          <p:nvPr/>
        </p:nvSpPr>
        <p:spPr>
          <a:xfrm flipH="1" flipV="1">
            <a:off x="848880" y="2952000"/>
            <a:ext cx="2260800" cy="1360440"/>
          </a:xfrm>
          <a:custGeom>
            <a:avLst/>
            <a:gdLst>
              <a:gd name="textAreaLeft" fmla="*/ 345240 w 2260800"/>
              <a:gd name="textAreaRight" fmla="*/ 1667520 w 2260800"/>
              <a:gd name="textAreaTop" fmla="*/ 182160 h 1360440"/>
              <a:gd name="textAreaBottom" fmla="*/ 117828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91" hR="21600" stAng="10800000" swAng="5400000"/>
                <a:lnTo>
                  <a:pt x="12633" y="0"/>
                </a:lnTo>
                <a:arcTo wR="6591" hR="21600" stAng="-5400000" swAng="3240291"/>
                <a:lnTo>
                  <a:pt x="21444" y="16926"/>
                </a:lnTo>
                <a:lnTo>
                  <a:pt x="16202" y="21600"/>
                </a:lnTo>
                <a:lnTo>
                  <a:pt x="10648" y="16926"/>
                </a:lnTo>
                <a:lnTo>
                  <a:pt x="13025" y="16926"/>
                </a:lnTo>
                <a:arcTo wR="6591" hR="21600" stAng="-2159709" swAng="-2703700"/>
                <a:lnTo>
                  <a:pt x="9612" y="2403"/>
                </a:lnTo>
                <a:arcTo wR="6591" hR="21600" stAng="-5936590" swAng="-4863410"/>
                <a:close/>
              </a:path>
              <a:path fill="darkenLess" w="21600" h="21600">
                <a:moveTo>
                  <a:pt x="0" y="21600"/>
                </a:moveTo>
                <a:arcTo wR="6591" hR="21600" stAng="10800000" swAng="5400000"/>
                <a:lnTo>
                  <a:pt x="6591" y="0"/>
                </a:lnTo>
                <a:arcTo wR="6591" hR="21600" stAng="-5400000" swAng="536590"/>
                <a:lnTo>
                  <a:pt x="9612" y="2403"/>
                </a:lnTo>
                <a:arcTo wR="6591" hR="21600" stAng="-5936590" swAng="-4863410"/>
                <a:close/>
              </a:path>
            </a:pathLst>
          </a:custGeom>
          <a:gradFill rotWithShape="0">
            <a:gsLst>
              <a:gs pos="0">
                <a:srgbClr val="c96c1f"/>
              </a:gs>
              <a:gs pos="100000">
                <a:srgbClr val="ff8f35"/>
              </a:gs>
            </a:gsLst>
            <a:lin ang="16200000"/>
          </a:gradFill>
          <a:ln w="93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​​ 14"/>
          <p:cNvSpPr/>
          <p:nvPr/>
        </p:nvSpPr>
        <p:spPr>
          <a:xfrm>
            <a:off x="2700360" y="1944720"/>
            <a:ext cx="5400720" cy="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​​ 15"/>
          <p:cNvSpPr/>
          <p:nvPr/>
        </p:nvSpPr>
        <p:spPr>
          <a:xfrm>
            <a:off x="2700360" y="3960720"/>
            <a:ext cx="5400720" cy="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885280" y="135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885280" y="324324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971640" y="48736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7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19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