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161-69D1-47A5-BA33-91CA513E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ACB-4AAA-4FB4-80BE-1F805695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8B7-AA27-4444-BBBF-25999F7D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360-CAEE-407D-8D69-D6B1C7ED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CE6-05C3-49AA-83F9-3FD59BCA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FCE-4311-4185-ACBD-F6961BDF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33B-C462-49C1-9FE7-DA5846AE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D84-D1A6-4F0A-8CFA-0173D48A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0E9-66F6-47F0-964B-7C131A8D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423-7C1F-4CA0-849C-88D8720E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B2E-DB60-4D82-860E-65686D32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4C1-9A4D-4B37-84AE-F54BBCF4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08E7-EF66-4F1E-951C-51E65A357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2870280" y="5632560"/>
            <a:ext cx="3157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2754360" y="5546880"/>
            <a:ext cx="57636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2597040" y="5445000"/>
            <a:ext cx="89532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6"/>
          <p:cNvSpPr/>
          <p:nvPr/>
        </p:nvSpPr>
        <p:spPr>
          <a:xfrm>
            <a:off x="3205080" y="-169920"/>
            <a:ext cx="716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28"/>
          <p:cNvSpPr/>
          <p:nvPr/>
        </p:nvSpPr>
        <p:spPr>
          <a:xfrm>
            <a:off x="2916360" y="-53028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3"/>
          <p:cNvSpPr/>
          <p:nvPr/>
        </p:nvSpPr>
        <p:spPr>
          <a:xfrm>
            <a:off x="3276720" y="-50328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38"/>
          <p:cNvSpPr/>
          <p:nvPr/>
        </p:nvSpPr>
        <p:spPr>
          <a:xfrm>
            <a:off x="3446640" y="5776920"/>
            <a:ext cx="31572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39"/>
          <p:cNvSpPr/>
          <p:nvPr/>
        </p:nvSpPr>
        <p:spPr>
          <a:xfrm>
            <a:off x="3330720" y="5691240"/>
            <a:ext cx="576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0"/>
          <p:cNvSpPr/>
          <p:nvPr/>
        </p:nvSpPr>
        <p:spPr>
          <a:xfrm>
            <a:off x="3173400" y="5589720"/>
            <a:ext cx="8953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1"/>
          <p:cNvSpPr/>
          <p:nvPr/>
        </p:nvSpPr>
        <p:spPr>
          <a:xfrm>
            <a:off x="4052880" y="5473800"/>
            <a:ext cx="31608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2"/>
          <p:cNvSpPr/>
          <p:nvPr/>
        </p:nvSpPr>
        <p:spPr>
          <a:xfrm>
            <a:off x="3936960" y="5388120"/>
            <a:ext cx="57636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3"/>
          <p:cNvSpPr/>
          <p:nvPr/>
        </p:nvSpPr>
        <p:spPr>
          <a:xfrm>
            <a:off x="3780000" y="5286240"/>
            <a:ext cx="89532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63104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1000" y="909720"/>
            <a:ext cx="35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下雨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531 L 0.01198 0.89664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51445E-007 L 0.03541 0.8652 E"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16185E-006 L 0.09462 0.86012 E">
                                      <p:cBhvr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 repeatCount="10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A76-D6AE-4D3C-BD40-CE4CCC22E2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02:27:44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5:56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