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4AD7-2574-4CA9-BD4D-6155F6F69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567C-E594-44CF-84CB-AA31EAA5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1784-B7DF-4C7A-9462-B2EA00EE5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CEA4-03CD-4C75-9F37-012BE4A63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2CA1-6BFF-4E79-BCBA-E043CD23A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FEF7-20B2-49E1-B9C4-5F9FB7AD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0EF6-7BB9-431C-8C93-EF136915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ABB9-4EE3-484F-93DC-E55A0C41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A6C8-38DB-40DE-BD94-64C87C32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F222-2B5D-4AB0-9E86-3979356B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F76B-FBA9-47D0-989D-00AA66D0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F7D3-4A97-4EA9-8FBE-B45D2073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B78D-6BFA-4BC8-BB1C-DD950A75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011B-1E34-4A2F-9A37-BB3C00A9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29D4-C07A-4CE2-B05C-F75EA92D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7DE3-1DEB-4DE9-A269-15622CA82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1AB4-033E-44C8-8C8B-717E8952E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C7B8-A69E-4241-8537-B5967D12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58D1D-30AB-47B1-9E71-CD70BAAF1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E6109-B253-4C57-B302-8E438C2B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B62AC-268F-4E9D-9B80-1321B77E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CAE3-4B59-445E-AEE1-9F89BD33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9451B-69EC-4ABE-B8E5-0613AA28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2CE92-BE10-48D5-8E09-DB8ADE89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67DBD-40BD-41BF-ADCA-13D2A88A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09FF9-6759-40FF-A7DB-6C24AF68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719E9-05DA-4BB6-868A-A760EDD4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68DCE-B414-4317-977A-33753A4E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DCFD3-8E48-4C5B-A9E7-8B43D5F6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303E9-A366-4219-9201-C6DF01662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2FCB3-77C8-45A1-9944-37F0CF6FA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95DE-252B-4A55-9A9D-6EA9FB9A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6AEE-F0DD-4BFB-B7DA-2BE22F88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ED96-BB8C-4673-8574-E79484F1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5EB6-5B0D-4643-AD75-6870E408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B009-12B8-4953-9B84-D78DEF41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S_Keytopuzzle 拷贝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9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835280" y="1600200"/>
            <a:ext cx="698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be0e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4B51-EA3B-40BC-80D5-FC48DD72D0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LP_Keytopuzzle 拷贝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907640" y="1628640"/>
            <a:ext cx="692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C550-FC10-4638-ADB4-ADE8E3840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LT_Keytopuzzle 拷贝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9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835280" y="1600200"/>
            <a:ext cx="698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be0e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FFE3-0AD9-4E24-B38B-AD245EBA57D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矩形 1"/>
          <p:cNvSpPr/>
          <p:nvPr/>
        </p:nvSpPr>
        <p:spPr>
          <a:xfrm>
            <a:off x="2145960" y="47628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钥匙完整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9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835280" y="1600200"/>
            <a:ext cx="698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907640" y="1628640"/>
            <a:ext cx="692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06:36:07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4:25:4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