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42D-6D2F-48DC-A643-FB243FA6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3B4-98F5-4C91-999B-45C97FB8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0275D-BBB6-4245-8136-0ACFF38E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98257-6C23-4120-A276-B1F80137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8FA23-2365-4583-ACDD-EDE4387A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6F353-7F8D-40A1-864A-AAC20F05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1FDAD-FDA1-4A80-B953-17BBBB1F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553ED-1360-46B7-9385-A9B5677D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9F525-4FDC-4748-A796-3072B229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62619-E47E-4054-A763-565D1A10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6050D-A26E-43FC-BAAE-6D172820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11D1C-B6F7-4697-8884-5893FB35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D18-CC64-4710-AAA2-5D576C8A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6623C-D580-4E1D-8A65-DEC098A4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77C1C-452A-429E-A5C8-E904F23B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C278E-93A3-41F2-A83C-AEDEE2F3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FCCA6-A9B2-4F9A-BEF8-A9D3058C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844B6-E057-4606-A41C-6EEE8E7A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C2192-DE35-49A4-B686-3E1D3E29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68F26-FC2F-4DC3-94AF-BC27C8C5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AFACC-87C2-4637-B8A3-F1E715D9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FFE98-2197-4EC3-8949-F8CE8585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F9712-BE53-464D-BF8C-6B920FB4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7C3-B850-4C84-90EB-C5C96CE2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06BFF-AE0B-42A6-9A44-7F3389AC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04C73-817F-43A7-9995-6BEE65B5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CD22E-DC4C-44B6-87DC-C7C9E70A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7CE39-90BE-4871-BDDC-B33C8412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30062-37F2-43C3-BBDE-AABAF796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6039F-4882-451A-9552-324AA04A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1B2C6-8E99-4627-986B-43A5386A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420AF-CB89-44CA-8D9A-E6293891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7969F-3905-4F7F-B03C-B6292766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B28E7-3FCC-4D34-993B-8F7A6698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5EFE-D184-4054-89C6-155F89CE8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BF620-92ED-4FD9-8239-5642C0FC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CCC11-25B4-4B2D-A669-97F1072D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B9CFA-DEF9-4780-A2BB-397EBADA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CA541-19D7-49ED-9D5C-67650F9F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BD9B7-BBDE-4208-9A14-DB91AE75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B8672-4099-4304-A4AD-1E97B50E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F1D27-2697-4454-A214-5D970830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2619E-FDDC-488B-B998-152478C4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4D112-5461-494C-98C9-875003DB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E8AC0-39DB-492C-BFBD-D8F9F400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820F-01C2-4B86-B5B4-D1128924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CDC04-CAE3-4B95-B5F6-A9CF1CB3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C8FB0-6B79-4291-851A-75292A6A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CE6C0-B6B7-429A-A698-922BBAD8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B5D47-2B5A-45B1-B5A5-CE600B34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C5ABE-E8B3-4C80-A8DD-07586CD0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14B23-1280-4927-89D7-691442A0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EF896-6184-4888-A09B-B3CF7B6C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4A79D-5B80-47B0-B951-A0392A88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78029B-0846-43D8-8E8A-D5C79503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D78A7-50EA-42E6-B274-6A34793A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9A0D-D889-49D8-8577-BA3E607F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4799F-7698-4B43-B13B-591BCF6D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A1F77-FBF2-419C-822B-ABAC68BE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71A41-3080-4D85-BD27-F53BAFE6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E49E3-04F7-4855-B805-EFD8293E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5ADFC-5D8A-4B08-9497-0DBE38AE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37499-D1FF-4B5B-93C0-8A082CB1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AD6E4-D993-4380-922C-4D5FE46E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4ADBA5-982D-4113-B56D-955BDCFC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B7281C-A9E5-4CCF-B3E6-626F3281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351590-841B-4D3D-8595-35AFFEC1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1991-F747-4DF3-8DCB-CBEF826D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2D599F-E0FA-4A9F-BA14-71D4001B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843D35-C7EC-4F1A-9C9C-1FD2ADAE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A1A28-4FBE-4151-80CA-6186F000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3B3C2-2A37-48D9-82A4-146BFEDC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01BE3-3117-4C6E-9802-70A2CF1C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2C30B7-286A-4F1F-9890-EE29149A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9275E-18AA-4FD7-B923-82277AD0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EB3CA-BB59-4E2F-9FEE-C2AA00FB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039D5-6EEF-4DF7-83E3-566C7175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9D96-9140-4F8C-BA55-C9E0659B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4F9B-FDBA-4C11-A90D-5F528025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4BD9-6A1D-4A0D-A730-D67B8B7B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453-5D8C-4413-AA23-1CF1ACC3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5B8D-F57D-47F1-8B0D-245EE905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76FD-1CEB-4627-B7E7-800CCB5F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0512-282C-4FAF-9E0D-441E50CF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9DB2-F6B7-44C1-A36E-3E2BDAD7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6D68-FEFD-4FCB-8738-B3AE12A9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6DC1-A5D2-4DEB-A467-DB2A5407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EEB6F-6DEB-436B-A89D-959DAF19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6E468-F5DF-4078-95E9-8363C55C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AAC31-8099-46AD-9E42-D1059AE7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313D3-8826-4D7E-8E19-B92ED803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0DB-C3AD-4C7F-9537-80CB5301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317CB-A837-494F-99DE-1CC6FAC7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3A1EA-C5A8-4783-9E42-7FE3B599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E5AD-65BC-4566-9EE0-7B10CD53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DF48-D6B1-4FA5-8A30-8E8ECAFA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A6403-EB2E-4B48-B99B-42366AC7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5C723-7EF0-4333-A620-E9B10CBE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EEAF2-DB32-4808-8699-BD600761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A96F2-7181-4DD5-BA00-3B8811A0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B8A02-4F5B-479C-8D7E-C2C6C945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BF0DD-6F6E-41A6-9480-66F4F9EA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1C1-8BDA-4053-A1B4-A570CD68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D9CC8-CE72-44AE-A143-FD3D44DE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7244E-23F8-4E76-8924-724D6B65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C8E03-DE12-4A8D-8264-3794FF92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6A1E7-F865-4B22-A1FF-B89A1B75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255B8-39DB-47B3-A949-7A1BEA5D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8E9A3-C7DA-4CBB-AC32-CB74555F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51510-EC99-485F-9C5A-C3D61748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7DE06-AFA6-462A-87F7-B4C53F80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D9448-B175-4975-9EF2-640F4363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36D9F-DE36-4EA9-A487-AD67AAE9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E63-D079-4DC5-9215-33EEAA01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6213B-AA86-4761-A43D-4E762320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BB84B-1FA4-4DBC-95C8-36FE87D4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3121A-6C32-4B43-A8CB-E30CC05F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7A0FF-18BB-4E1A-B649-0CA87002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166D8-5638-4047-A418-ED5B600C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C9F26-997D-4599-9A35-E2D80EEB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8973B-493E-48E7-862D-910A7AC4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FDAD1-CD77-40A1-8607-528F0BA1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1C836-4A7E-43B6-9890-CCDB05EE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2BEA5-E6F5-4418-B2A2-4C5E79B4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D39-5629-40DE-9B57-FCF9EF26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8AB25-D0DC-440A-8F82-0506348C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25357-ADE6-4F7F-913C-E2867C00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7ED29-5537-4877-B686-5D05CA31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41F57-9CD5-4CF8-A2DD-426B7BBF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19CAC-BFF9-4D69-A6BE-553E84EE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760AB-2E3B-4ED4-8497-E0ED4A82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F9573-4586-4F22-805B-BE319997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42A12-FB0B-41F1-9492-65D97ECF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D5411-5A5C-4357-B73E-42385719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EE946-F0B1-417E-A105-397F82D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9129-4749-499E-9FA8-C0A01178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1A478-8297-4AAD-8EE3-3B30EE05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73C0F-7AA5-436C-A255-A3B95860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EF435-30CC-48F4-B50F-85DF6635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05A08-7D54-4C5C-8CC7-55654BB3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B311C-3FCE-452C-ABB1-7802E435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1543B-9A6F-4F2E-8F7E-36625B5C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A0ADB-0F9D-4C27-8E03-D77F501D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D313D-4521-4E21-9E41-E692F6BA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7E79C-1206-4D61-938D-9B64E020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1C325-7DC7-4DB4-B007-0DB6BA6A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2B3-8E60-4E71-B8EB-7D566929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C9E89-18F7-4518-80D2-6A3B8AEA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EDF70-A3F0-4E1B-A186-FDADFA56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BC299-F07E-4135-A35C-535861AE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4D7A3-C8E6-422D-AA87-121C7345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1221D-D7EC-4BD2-A1BA-E8A5F067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8A0FD-F235-4C78-AE35-A2D1CC60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65CDB-B33C-48FB-935B-E697E1CE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57412-A8B3-43C3-A1FD-227A9898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3FD6A-510C-4FF6-A8C1-317F4C12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435CF-DC83-42C1-87A0-627791E7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37D-1EFA-4B5C-80EC-7E61E095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4F9A0-84FC-4360-BC1A-94F443C2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E7426-1B92-44AF-B844-DFB199FD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25E7C-14A5-45A5-9734-20B8A32B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FC0B5-B6B5-4D59-9CA5-67D64F05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EB43D-24AF-4002-8C1E-59CD160B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32F76-2516-4302-AD0C-8B2D4ABB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086A8-92C3-44E1-A443-7F145EDF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463A3-4594-446A-AD59-D78EC1EE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18781-53C3-424B-B672-67445E4A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E0122-623B-4353-840A-90352F22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E978-A10B-4644-BF52-42882DA5027C}" type="slidenum">
              <a:rPr b="0" lang="zh-CN" sz="1200" spc="-1" strike="noStrike">
                <a:solidFill>
                  <a:srgbClr val="8a8a8a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FE0E-FA4D-4984-A376-FF000BA27F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D7B0-A1A9-4C07-9328-1107D00FFF6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C20A-8E46-4ABE-B828-DEE241F8364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7CD9-0DB8-4362-BB0E-4C26DFA326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CB69-FB24-46D7-B216-2170B36608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58B3-BCFD-4566-9CBA-4F57583CE804}" type="slidenum">
              <a:rPr b="0" lang="zh-CN" sz="1200" spc="-1" strike="noStrike">
                <a:solidFill>
                  <a:srgbClr val="8a8a8a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F318-6DC2-4996-B46E-8A2B20A536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6D78-F6A0-46DE-B39E-6E3823FBDC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95FA-EA9F-4683-90AD-C921B6DAC0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1434-C9B3-4E23-9BEF-4CE7C80BC2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6992-BA0A-4374-BC0F-A19F8E5978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DC34-1B5B-437A-9B53-81D079F369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E417-0BCA-46A7-9F7F-808BFE099B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1"/>
          <p:cNvSpPr/>
          <p:nvPr/>
        </p:nvSpPr>
        <p:spPr>
          <a:xfrm>
            <a:off x="2925000" y="70488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c0c0c"/>
                </a:solidFill>
                <a:latin typeface="Tahoma"/>
              </a:rPr>
              <a:t>烟草叶</a:t>
            </a:r>
            <a:r>
              <a:rPr b="0" lang="zh-CN" sz="4000" spc="-1" strike="noStrike">
                <a:solidFill>
                  <a:srgbClr val="0c0c0c"/>
                </a:solidFill>
                <a:latin typeface="Tahoma"/>
              </a:rPr>
              <a:t>PPT</a:t>
            </a:r>
            <a:r>
              <a:rPr b="0" lang="zh-CN" sz="4000" spc="-1" strike="noStrike">
                <a:solidFill>
                  <a:srgbClr val="0c0c0c"/>
                </a:solidFill>
                <a:latin typeface="Tahoma"/>
              </a:rPr>
              <a:t>模板免费下载</a:t>
            </a:r>
            <a:endParaRPr b="0" lang="en-US" sz="40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575" name="矩形 3"/>
          <p:cNvSpPr/>
          <p:nvPr/>
        </p:nvSpPr>
        <p:spPr>
          <a:xfrm>
            <a:off x="102240" y="6453360"/>
            <a:ext cx="32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4857840" y="1557360"/>
            <a:ext cx="396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fcfc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谢谢观看！</a:t>
            </a:r>
            <a:endParaRPr b="0" lang="en-US" sz="4800" spc="-1" strike="noStrike">
              <a:solidFill>
                <a:srgbClr val="0c0c0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57160" y="1571400"/>
            <a:ext cx="771552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Clr>
                <a:srgbClr val="0086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单击此处添加文本</a:t>
            </a:r>
            <a:endParaRPr b="0" lang="en-US" sz="24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652320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72a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83696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72a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319572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72a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148896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72a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583" name="Rectangle 8"/>
          <p:cNvSpPr/>
          <p:nvPr/>
        </p:nvSpPr>
        <p:spPr>
          <a:xfrm rot="3418800">
            <a:off x="1757520" y="2070720"/>
            <a:ext cx="874800" cy="97164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grpSp>
        <p:nvGrpSpPr>
          <p:cNvPr id="584" name="Group 8"/>
          <p:cNvGrpSpPr/>
          <p:nvPr/>
        </p:nvGrpSpPr>
        <p:grpSpPr>
          <a:xfrm>
            <a:off x="2674800" y="2244600"/>
            <a:ext cx="900000" cy="125280"/>
            <a:chOff x="2674800" y="2244600"/>
            <a:chExt cx="900000" cy="125280"/>
          </a:xfrm>
        </p:grpSpPr>
        <p:sp>
          <p:nvSpPr>
            <p:cNvPr id="585" name="Oval 10"/>
            <p:cNvSpPr/>
            <p:nvPr/>
          </p:nvSpPr>
          <p:spPr>
            <a:xfrm>
              <a:off x="2674800" y="2244600"/>
              <a:ext cx="151560" cy="1245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2760840" y="2245320"/>
              <a:ext cx="746280" cy="124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3438360" y="2246040"/>
              <a:ext cx="136440" cy="1213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588" name="Oval 13"/>
            <p:cNvSpPr/>
            <p:nvPr/>
          </p:nvSpPr>
          <p:spPr>
            <a:xfrm>
              <a:off x="3511080" y="2285640"/>
              <a:ext cx="38160" cy="3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</p:grpSp>
      <p:sp>
        <p:nvSpPr>
          <p:cNvPr id="589" name="Rectangle 14"/>
          <p:cNvSpPr/>
          <p:nvPr/>
        </p:nvSpPr>
        <p:spPr>
          <a:xfrm rot="3418800">
            <a:off x="3422880" y="2008800"/>
            <a:ext cx="874800" cy="971640"/>
          </a:xfrm>
          <a:prstGeom prst="rect">
            <a:avLst/>
          </a:prstGeom>
          <a:solidFill>
            <a:srgbClr val="0054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grpSp>
        <p:nvGrpSpPr>
          <p:cNvPr id="590" name="Group 14"/>
          <p:cNvGrpSpPr/>
          <p:nvPr/>
        </p:nvGrpSpPr>
        <p:grpSpPr>
          <a:xfrm>
            <a:off x="4340160" y="2244600"/>
            <a:ext cx="899640" cy="125280"/>
            <a:chOff x="4340160" y="2244600"/>
            <a:chExt cx="899640" cy="125280"/>
          </a:xfrm>
        </p:grpSpPr>
        <p:sp>
          <p:nvSpPr>
            <p:cNvPr id="591" name="Oval 16"/>
            <p:cNvSpPr/>
            <p:nvPr/>
          </p:nvSpPr>
          <p:spPr>
            <a:xfrm>
              <a:off x="4340160" y="2244600"/>
              <a:ext cx="151560" cy="1245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592" name="Rectangle 17"/>
            <p:cNvSpPr/>
            <p:nvPr/>
          </p:nvSpPr>
          <p:spPr>
            <a:xfrm>
              <a:off x="4426200" y="2245320"/>
              <a:ext cx="745920" cy="124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593" name="Oval 18"/>
            <p:cNvSpPr/>
            <p:nvPr/>
          </p:nvSpPr>
          <p:spPr>
            <a:xfrm>
              <a:off x="5103360" y="2246040"/>
              <a:ext cx="136440" cy="1213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594" name="Oval 19"/>
            <p:cNvSpPr/>
            <p:nvPr/>
          </p:nvSpPr>
          <p:spPr>
            <a:xfrm>
              <a:off x="5176080" y="2285640"/>
              <a:ext cx="38160" cy="3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</p:grpSp>
      <p:sp>
        <p:nvSpPr>
          <p:cNvPr id="595" name="Rectangle 20"/>
          <p:cNvSpPr/>
          <p:nvPr/>
        </p:nvSpPr>
        <p:spPr>
          <a:xfrm rot="3418800">
            <a:off x="5017680" y="2009520"/>
            <a:ext cx="874800" cy="96984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grpSp>
        <p:nvGrpSpPr>
          <p:cNvPr id="596" name="Group 20"/>
          <p:cNvGrpSpPr/>
          <p:nvPr/>
        </p:nvGrpSpPr>
        <p:grpSpPr>
          <a:xfrm>
            <a:off x="6018120" y="2244600"/>
            <a:ext cx="1180440" cy="125280"/>
            <a:chOff x="6018120" y="2244600"/>
            <a:chExt cx="1180440" cy="125280"/>
          </a:xfrm>
        </p:grpSpPr>
        <p:sp>
          <p:nvSpPr>
            <p:cNvPr id="597" name="Oval 22"/>
            <p:cNvSpPr/>
            <p:nvPr/>
          </p:nvSpPr>
          <p:spPr>
            <a:xfrm>
              <a:off x="6018120" y="2244600"/>
              <a:ext cx="199080" cy="1245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6131160" y="2245320"/>
              <a:ext cx="978840" cy="124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599" name="Oval 24"/>
            <p:cNvSpPr/>
            <p:nvPr/>
          </p:nvSpPr>
          <p:spPr>
            <a:xfrm>
              <a:off x="7019640" y="2246040"/>
              <a:ext cx="178920" cy="1213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600" name="Oval 25"/>
            <p:cNvSpPr/>
            <p:nvPr/>
          </p:nvSpPr>
          <p:spPr>
            <a:xfrm>
              <a:off x="7115400" y="2285640"/>
              <a:ext cx="47880" cy="3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</p:grpSp>
      <p:sp>
        <p:nvSpPr>
          <p:cNvPr id="601" name="Rectangle 26"/>
          <p:cNvSpPr/>
          <p:nvPr/>
        </p:nvSpPr>
        <p:spPr>
          <a:xfrm rot="3418800">
            <a:off x="6683040" y="2009520"/>
            <a:ext cx="874800" cy="969840"/>
          </a:xfrm>
          <a:prstGeom prst="rect">
            <a:avLst/>
          </a:prstGeom>
          <a:solidFill>
            <a:srgbClr val="0054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858320" y="23590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3515040" y="23590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604" name="Rectangle 29"/>
          <p:cNvSpPr/>
          <p:nvPr/>
        </p:nvSpPr>
        <p:spPr>
          <a:xfrm>
            <a:off x="5126400" y="23590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6807600" y="23590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1892520" y="36511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9da74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3586320" y="36511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9da74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5240520" y="36511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9da74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6925680" y="36511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9da74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c0c0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611" name="Group 3"/>
          <p:cNvGrpSpPr/>
          <p:nvPr/>
        </p:nvGrpSpPr>
        <p:grpSpPr>
          <a:xfrm>
            <a:off x="2205000" y="1557360"/>
            <a:ext cx="5867280" cy="4371840"/>
            <a:chOff x="2205000" y="1557360"/>
            <a:chExt cx="5867280" cy="4371840"/>
          </a:xfrm>
        </p:grpSpPr>
        <p:grpSp>
          <p:nvGrpSpPr>
            <p:cNvPr id="612" name="Group 4"/>
            <p:cNvGrpSpPr/>
            <p:nvPr/>
          </p:nvGrpSpPr>
          <p:grpSpPr>
            <a:xfrm>
              <a:off x="2205000" y="1557360"/>
              <a:ext cx="5867280" cy="1301760"/>
              <a:chOff x="2205000" y="1557360"/>
              <a:chExt cx="5867280" cy="1301760"/>
            </a:xfrm>
          </p:grpSpPr>
          <p:sp>
            <p:nvSpPr>
              <p:cNvPr id="613" name="AutoShape 4"/>
              <p:cNvSpPr/>
              <p:nvPr/>
            </p:nvSpPr>
            <p:spPr>
              <a:xfrm>
                <a:off x="2205000" y="1557360"/>
                <a:ext cx="5867280" cy="1301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3f3f3"/>
                  </a:gs>
                  <a:gs pos="50000">
                    <a:srgbClr val="dddddd"/>
                  </a:gs>
                  <a:gs pos="100000">
                    <a:srgbClr val="f3f3f3"/>
                  </a:gs>
                </a:gsLst>
                <a:lin ang="189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c0c0c"/>
                  </a:solidFill>
                  <a:latin typeface="Tahoma"/>
                </a:endParaRPr>
              </a:p>
            </p:txBody>
          </p:sp>
          <p:grpSp>
            <p:nvGrpSpPr>
              <p:cNvPr id="614" name="Group 6"/>
              <p:cNvGrpSpPr/>
              <p:nvPr/>
            </p:nvGrpSpPr>
            <p:grpSpPr>
              <a:xfrm>
                <a:off x="2333160" y="1678680"/>
                <a:ext cx="1129320" cy="1063080"/>
                <a:chOff x="2333160" y="1678680"/>
                <a:chExt cx="1129320" cy="1063080"/>
              </a:xfrm>
            </p:grpSpPr>
            <p:sp>
              <p:nvSpPr>
                <p:cNvPr id="615" name="AutoShape 6"/>
                <p:cNvSpPr/>
                <p:nvPr/>
              </p:nvSpPr>
              <p:spPr>
                <a:xfrm>
                  <a:off x="2333160" y="1678680"/>
                  <a:ext cx="1129320" cy="106308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005414"/>
                    </a:gs>
                    <a:gs pos="100000">
                      <a:srgbClr val="003b0e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  <p:sp>
              <p:nvSpPr>
                <p:cNvPr id="616" name="Freeform 7"/>
                <p:cNvSpPr/>
                <p:nvPr/>
              </p:nvSpPr>
              <p:spPr>
                <a:xfrm>
                  <a:off x="2405160" y="1744200"/>
                  <a:ext cx="563760" cy="533520"/>
                </a:xfrm>
                <a:custGeom>
                  <a:avLst/>
                  <a:gdLst>
                    <a:gd name="textAreaLeft" fmla="*/ 0 w 563760"/>
                    <a:gd name="textAreaRight" fmla="*/ 564120 w 56376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414">
                        <a:alpha val="0"/>
                      </a:srgbClr>
                    </a:gs>
                    <a:gs pos="50000">
                      <a:srgbClr val="74a27f"/>
                    </a:gs>
                    <a:gs pos="100000">
                      <a:srgbClr val="005414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  <p:sp>
              <p:nvSpPr>
                <p:cNvPr id="617" name="Text Box 8"/>
                <p:cNvSpPr/>
                <p:nvPr/>
              </p:nvSpPr>
              <p:spPr>
                <a:xfrm>
                  <a:off x="2457720" y="19666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8" name="Text Box 9"/>
              <p:cNvSpPr/>
              <p:nvPr/>
            </p:nvSpPr>
            <p:spPr>
              <a:xfrm>
                <a:off x="3618720" y="1758600"/>
                <a:ext cx="431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a9da74"/>
                    </a:solidFill>
                    <a:latin typeface="Tahoma"/>
                  </a:rPr>
                  <a:t>请输入文字</a:t>
                </a:r>
                <a:endParaRPr b="0" lang="en-US" sz="1600" spc="-1" strike="noStrike">
                  <a:solidFill>
                    <a:srgbClr val="0c0c0c"/>
                  </a:solidFill>
                  <a:latin typeface="Tahoma"/>
                </a:endParaRPr>
              </a:p>
            </p:txBody>
          </p:sp>
        </p:grpSp>
        <p:grpSp>
          <p:nvGrpSpPr>
            <p:cNvPr id="619" name="Group 11"/>
            <p:cNvGrpSpPr/>
            <p:nvPr/>
          </p:nvGrpSpPr>
          <p:grpSpPr>
            <a:xfrm>
              <a:off x="2205000" y="3087720"/>
              <a:ext cx="5867280" cy="1301760"/>
              <a:chOff x="2205000" y="3087720"/>
              <a:chExt cx="5867280" cy="1301760"/>
            </a:xfrm>
          </p:grpSpPr>
          <p:sp>
            <p:nvSpPr>
              <p:cNvPr id="620" name="AutoShape 11"/>
              <p:cNvSpPr/>
              <p:nvPr/>
            </p:nvSpPr>
            <p:spPr>
              <a:xfrm>
                <a:off x="2205000" y="3087720"/>
                <a:ext cx="5867280" cy="1301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2f2f2"/>
                  </a:gs>
                  <a:gs pos="50000">
                    <a:srgbClr val="dddddd"/>
                  </a:gs>
                  <a:gs pos="100000">
                    <a:srgbClr val="f2f2f2"/>
                  </a:gs>
                </a:gsLst>
                <a:lin ang="189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c0c0c"/>
                  </a:solidFill>
                  <a:latin typeface="Tahoma"/>
                </a:endParaRPr>
              </a:p>
            </p:txBody>
          </p:sp>
          <p:grpSp>
            <p:nvGrpSpPr>
              <p:cNvPr id="621" name="Group 13"/>
              <p:cNvGrpSpPr/>
              <p:nvPr/>
            </p:nvGrpSpPr>
            <p:grpSpPr>
              <a:xfrm>
                <a:off x="2333160" y="3209040"/>
                <a:ext cx="1129320" cy="1063080"/>
                <a:chOff x="2333160" y="3209040"/>
                <a:chExt cx="1129320" cy="1063080"/>
              </a:xfrm>
            </p:grpSpPr>
            <p:sp>
              <p:nvSpPr>
                <p:cNvPr id="622" name="AutoShape 13"/>
                <p:cNvSpPr/>
                <p:nvPr/>
              </p:nvSpPr>
              <p:spPr>
                <a:xfrm>
                  <a:off x="2333160" y="3209040"/>
                  <a:ext cx="1129320" cy="106308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46b546"/>
                    </a:gs>
                    <a:gs pos="100000">
                      <a:srgbClr val="00990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  <p:sp>
              <p:nvSpPr>
                <p:cNvPr id="623" name="Freeform 14"/>
                <p:cNvSpPr/>
                <p:nvPr/>
              </p:nvSpPr>
              <p:spPr>
                <a:xfrm>
                  <a:off x="2405160" y="3276000"/>
                  <a:ext cx="563760" cy="532080"/>
                </a:xfrm>
                <a:custGeom>
                  <a:avLst/>
                  <a:gdLst>
                    <a:gd name="textAreaLeft" fmla="*/ 0 w 563760"/>
                    <a:gd name="textAreaRight" fmla="*/ 564120 w 56376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3d493"/>
                    </a:gs>
                    <a:gs pos="100000">
                      <a:srgbClr val="009900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  <p:sp>
              <p:nvSpPr>
                <p:cNvPr id="624" name="Text Box 15"/>
                <p:cNvSpPr/>
                <p:nvPr/>
              </p:nvSpPr>
              <p:spPr>
                <a:xfrm>
                  <a:off x="2457720" y="34984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25" name="Text Box 16"/>
              <p:cNvSpPr/>
              <p:nvPr/>
            </p:nvSpPr>
            <p:spPr>
              <a:xfrm>
                <a:off x="3618720" y="3265920"/>
                <a:ext cx="431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a9da74"/>
                    </a:solidFill>
                    <a:latin typeface="Tahoma"/>
                  </a:rPr>
                  <a:t>请输入文字</a:t>
                </a:r>
                <a:endParaRPr b="0" lang="en-US" sz="1600" spc="-1" strike="noStrike">
                  <a:solidFill>
                    <a:srgbClr val="0c0c0c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18"/>
            <p:cNvGrpSpPr/>
            <p:nvPr/>
          </p:nvGrpSpPr>
          <p:grpSpPr>
            <a:xfrm>
              <a:off x="2205000" y="4627440"/>
              <a:ext cx="5867280" cy="1301760"/>
              <a:chOff x="2205000" y="4627440"/>
              <a:chExt cx="5867280" cy="1301760"/>
            </a:xfrm>
          </p:grpSpPr>
          <p:sp>
            <p:nvSpPr>
              <p:cNvPr id="627" name="AutoShape 18"/>
              <p:cNvSpPr/>
              <p:nvPr/>
            </p:nvSpPr>
            <p:spPr>
              <a:xfrm>
                <a:off x="2205000" y="4627440"/>
                <a:ext cx="5867280" cy="1301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eeeee"/>
                  </a:gs>
                  <a:gs pos="50000">
                    <a:srgbClr val="dddddd"/>
                  </a:gs>
                  <a:gs pos="100000">
                    <a:srgbClr val="eeeeee"/>
                  </a:gs>
                </a:gsLst>
                <a:lin ang="189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c0c0c"/>
                  </a:solidFill>
                  <a:latin typeface="Tahoma"/>
                </a:endParaRPr>
              </a:p>
            </p:txBody>
          </p:sp>
          <p:grpSp>
            <p:nvGrpSpPr>
              <p:cNvPr id="628" name="Group 20"/>
              <p:cNvGrpSpPr/>
              <p:nvPr/>
            </p:nvGrpSpPr>
            <p:grpSpPr>
              <a:xfrm>
                <a:off x="2333160" y="4748760"/>
                <a:ext cx="1129320" cy="1063080"/>
                <a:chOff x="2333160" y="4748760"/>
                <a:chExt cx="1129320" cy="1063080"/>
              </a:xfrm>
            </p:grpSpPr>
            <p:sp>
              <p:nvSpPr>
                <p:cNvPr id="629" name="AutoShape 20"/>
                <p:cNvSpPr/>
                <p:nvPr/>
              </p:nvSpPr>
              <p:spPr>
                <a:xfrm>
                  <a:off x="2333160" y="4748760"/>
                  <a:ext cx="1129320" cy="106308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a0e7a0"/>
                    </a:gs>
                    <a:gs pos="100000">
                      <a:srgbClr val="69d969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  <p:sp>
              <p:nvSpPr>
                <p:cNvPr id="630" name="Freeform 21"/>
                <p:cNvSpPr/>
                <p:nvPr/>
              </p:nvSpPr>
              <p:spPr>
                <a:xfrm>
                  <a:off x="2405160" y="4815720"/>
                  <a:ext cx="563760" cy="532080"/>
                </a:xfrm>
                <a:custGeom>
                  <a:avLst/>
                  <a:gdLst>
                    <a:gd name="textAreaLeft" fmla="*/ 0 w 563760"/>
                    <a:gd name="textAreaRight" fmla="*/ 564120 w 56376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6edb6"/>
                    </a:gs>
                    <a:gs pos="100000">
                      <a:srgbClr val="69d96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  <p:sp>
              <p:nvSpPr>
                <p:cNvPr id="631" name="Text Box 22"/>
                <p:cNvSpPr/>
                <p:nvPr/>
              </p:nvSpPr>
              <p:spPr>
                <a:xfrm>
                  <a:off x="2457720" y="503820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2" name="Text Box 23"/>
              <p:cNvSpPr/>
              <p:nvPr/>
            </p:nvSpPr>
            <p:spPr>
              <a:xfrm>
                <a:off x="3618720" y="4805640"/>
                <a:ext cx="431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a9da74"/>
                    </a:solidFill>
                    <a:latin typeface="Tahoma"/>
                  </a:rPr>
                  <a:t>请输入文字</a:t>
                </a:r>
                <a:r>
                  <a:rPr b="0" lang="en-US" sz="1600" spc="-1" strike="noStrike">
                    <a:solidFill>
                      <a:srgbClr val="a9da74"/>
                    </a:solidFill>
                    <a:latin typeface="Tahoma"/>
                  </a:rPr>
                  <a:t>.</a:t>
                </a:r>
                <a:endParaRPr b="0" lang="en-US" sz="1600" spc="-1" strike="noStrike">
                  <a:solidFill>
                    <a:srgbClr val="0c0c0c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634" name="Object 5"/>
          <p:cNvGraphicFramePr/>
          <p:nvPr/>
        </p:nvGraphicFramePr>
        <p:xfrm>
          <a:off x="771480" y="1127160"/>
          <a:ext cx="822960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127160"/>
                    <a:ext cx="822960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637" name="Object 5"/>
          <p:cNvGraphicFramePr/>
          <p:nvPr/>
        </p:nvGraphicFramePr>
        <p:xfrm>
          <a:off x="1724040" y="1469880"/>
          <a:ext cx="6848640" cy="50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4040" y="1469880"/>
                    <a:ext cx="6848640" cy="50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640" name="Object 5"/>
          <p:cNvGraphicFramePr/>
          <p:nvPr/>
        </p:nvGraphicFramePr>
        <p:xfrm>
          <a:off x="1790640" y="1463760"/>
          <a:ext cx="649620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1463760"/>
                    <a:ext cx="64962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3" name="Rectangle 3"/>
          <p:cNvSpPr/>
          <p:nvPr/>
        </p:nvSpPr>
        <p:spPr>
          <a:xfrm>
            <a:off x="857160" y="1571760"/>
            <a:ext cx="77155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Clr>
                <a:srgbClr val="0086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单击此处添加文本</a:t>
            </a:r>
            <a:endParaRPr b="0" lang="en-US" sz="2400" spc="-1" strike="noStrike">
              <a:solidFill>
                <a:srgbClr val="0c0c0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6:21:0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22:5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  <property fmtid="{D5CDD505-2E9C-101B-9397-08002B2CF9AE}" pid="3" name="_TemplateID">
    <vt:lpwstr>TC011349382052</vt:lpwstr>
  </property>
</Properties>
</file>