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8B05-9120-4113-B648-C776B515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EDABD-6838-44D3-B333-34604E5F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04C81-624C-4109-BA18-CADF25C4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4CCD-CAB5-4493-9D0F-45BF01C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4F11-2251-4CA5-92CB-BD38D890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F5EC-6B23-4432-B168-609A726F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EE164-9429-468C-97A6-03A0C8B1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05BAB-7F50-4907-B0CA-FAB6787F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2F4D4-26AC-4151-803B-D28FE077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F53FA-CEFA-4971-8884-68ED4F0F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63416-944A-4505-8FB1-EA7D0395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3BE9B-F5DF-41F9-9498-9FB5E538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56A17-A45D-413B-B448-7CE1100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C453-5EC1-4774-A10B-C56C12B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D417-2098-4C18-919B-7C3F688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EAA5C-A39E-40AD-87BD-598DD65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2665C-047A-4800-BC2D-9801CCB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BA628-0AE3-4113-92E3-3067CF0A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6C35-1A1F-48EA-98B9-4BD4D3DB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A10AA-2AC6-455B-9572-54B151EE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9B34-1653-4833-BAA1-328B0227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87793-C335-487A-B9E5-E7A5AC48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E2A7D-ABE3-401A-9D57-09366A6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2719C-3DDD-43C4-AED5-34EDC6A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4B6E6-581F-406C-ABF1-08E0DBF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CD5C7-2EDF-4A9A-ADD9-1CEA13D8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68AD-3A82-4423-AA04-530629ED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EEBD-321D-42D9-8431-4EC17E6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6596B-3D74-45AE-8C48-D51DB7D1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5EB52-27E9-4608-B8E8-D52C3E18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93E-5151-41AE-A9D0-4A015AAC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A759B-D3A3-4242-8168-B7045F13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2614C-12BA-491E-A4E5-72A15E95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92473-548F-4EDB-A375-FAC456E8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6FAB3-C42F-4632-BAC3-ABFADE0A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10769-D1FC-49E2-A7A5-D7C34A4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8341D-DD44-4C32-87F8-B9C53F13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38092-6BDD-4471-86B8-7E16C570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4E0DD-CE0C-421B-A79B-8A9EA6E5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3BC9F-D955-4834-9764-DC8E1CFA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10A34-70B1-4C79-B6BE-EB3A836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7FC-78BE-4C24-B863-2CFA76DA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BA635-4D22-4E01-BB30-F15728C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E4B39-E0BC-42B5-9ABD-BE01150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CF7F4-7AF0-4FD2-8349-5B1A3DE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CE88F-41DD-4EAD-89A9-7CEC792F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2BDE4-AF63-4B1B-A4BE-4C2DB092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E4E4B-030A-4F04-BCE6-6409214E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A7C19-14CF-4058-A002-663FE0CA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A8B7F-519C-4D67-962B-857EAB3A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6119-FC43-4E6C-859E-C6BCEAD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D3CBE-598E-418A-B470-0A1F079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B0C-A62D-4FED-AF60-BD9EB650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06B06-88BC-41EB-B20D-91D1EF8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FD58A-9986-42DB-91C8-202C2C5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B3D64-178F-4137-A068-8470FB3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49FF3-E9B2-4919-8FF4-42AE6136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8F726-FC0D-4ECF-8DD5-50A5EAD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DEC75-4131-41F0-92E5-01606738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19BA3-232F-4451-8698-40BB2F46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BB133-157B-4B22-8842-40EC045E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FA41B-0F37-4E71-88B2-C4786F7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3366A-EE35-4EFD-86CD-CBFE83C9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C35-FFB2-492F-A61B-DBD27B0B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EA735-0214-4F8E-845D-F828DEE1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12230-76A7-4447-B161-C5C63913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F28B-17DD-4F3E-9B2A-0AD337A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F81F4-16B7-4F2A-9F27-C6FE5FF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E260D-F437-4833-819A-4D24206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2A629-ABB8-43E0-B863-2B497497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D70D0-6967-4135-B8AA-0042B93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67906-BF28-4910-AD10-4EEA0244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CF00B-9D7B-4723-B462-99475B25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ED1-EFBE-445F-AB51-DFF8F1CD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FA8-8E7B-4EBA-879E-8067249E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1EC-E2CA-441E-A9A5-39B8E05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4D8-1909-4341-84E4-DB8E6DE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EE9-A2B5-47E9-9AF4-788A7A5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654-E883-437F-8216-8866BE48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EDD-3EB9-4F83-BE3B-8BACA56F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8AA-BFAB-41D3-917F-A0549DC7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02B4-19D0-48DE-ADD2-3CF69E16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EC45-B6AB-4855-A3C8-DBBC3C2C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40DC-0917-4C49-99ED-F711E907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B34E-2835-4C25-8CEF-9CDA749C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452E-3E4D-4B88-965E-384A10C4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5BAF-746B-4061-B0D3-A5752F0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D00A-6789-4095-BE9C-75EC734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228D-F321-4089-832C-C1C9B76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51B1-721A-4598-846F-6CBAB4B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598C-052F-40A9-AFAA-F0F4D16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122-0086-43D5-9347-09BD9584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A58E-05F5-493A-AECF-EFA7C722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6CC3-50A2-4B28-B33E-D89837CA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680F-BE79-4204-9AB8-CB495738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4047-D791-4B22-84A8-C1A145D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C1FB-C45E-4829-AE59-228DE956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753F-971E-47B1-A13A-E056C56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AEEC-57A9-46D3-B063-54E13EE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D61A-DAEB-4203-A987-F1782397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8701-3AFA-4388-B2A0-1D463A9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14A4-948C-4DD9-9E36-DD4AB92D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9BA6-F7F1-4D80-B94B-3F6C2E65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3931-F5D9-4664-B5A1-3435ABE8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A407-5B47-468D-A878-430AAF03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A4850-EF97-4048-8464-6997FA31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0551-83B3-43F8-A85F-498D319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E893-3DB8-40A1-A75E-0065DDE2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CA92-3718-489F-A35D-8F2ECC46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4CA4-F0E2-429D-B76E-BAEF684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CAB2-EE50-45CD-9FD6-41C924CB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4417-4E6D-45CB-B9A8-86D75830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0C79-1DFB-4EB8-AB16-6E445BD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B13F-F308-4DA9-BD96-DA757CD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A195-E0AF-4C18-9647-C2278B69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1296-517A-4D84-A00C-80E99B94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1E08-E04F-4056-BAF8-348D2DDA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8802E-5F35-4778-AB15-F22BD402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68FC-B2DB-4E3A-8C56-35C2D7F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50E2-4CB2-4036-A562-40DC333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4AB4-08D3-4604-8085-96BCBBE3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44D8-DBA5-4438-8126-F12CF9B6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6E17-315B-48AA-AAD1-F5ED0B43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F5A5-7D90-49BE-B372-62971D6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C484-CB69-4E00-90C0-1BB1A2B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33B2-9446-48C6-8F02-B878FC8B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086C-E41C-4434-BEA3-91A42152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3B847-6D2E-41A9-B842-B2973479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C2A0-BB94-4EE7-946B-38820202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E35A-6D1D-4065-A51E-DAA7B88E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CED14-2A24-47B5-BC4C-0E3ADED0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7C4A-F9F7-4A18-97EE-A0C662A5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7899-96E2-47AB-A7A8-F688928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4C7FC-8750-496A-86FF-4D81351E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2FA9-F1FC-4615-B4C2-031AA0FB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AFAE-50AE-413A-B772-237B27D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D5388-9177-41CD-B25E-47076ED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FB37-F96F-48D4-B388-BB690F2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4D68-6D19-4D86-9F8F-6C6FA0A0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C10E-7513-4CD1-B87B-54F7C1EC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E868-0BEE-4BA7-8930-B3B6D0B0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295CA-EE46-4A8D-AF73-C00100F3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3C2D3-DDA8-4D6A-9B40-AF4B5F06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1B1D-6A3F-44EC-9903-B4A67DCF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tiquaSS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ntiquaSS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8D03-2612-484F-BBFC-2BA570A7448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B23-F3A7-43D1-B07E-C52E3726786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CD2-B71B-4777-A89C-11B70F063BF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077F-385F-49C8-AAC7-42FC40967C6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98BA-42C7-4FD6-8310-190402222EC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84C6-AA1A-406E-8704-7C7C92A6C3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tiquaSS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ntiquaSS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FE18-3BD9-455E-864E-6583A72AB29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CB6-3AAD-42A2-A9F3-1A84C8425FE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8F47-9BC7-4FD9-91AB-FEF36C8C033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8A52-57E4-4312-8734-3603CFFAE10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8058-21C7-4DE7-A8A1-CB015AD8DF1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6F61-629D-41A5-AF8A-089CE60F41F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"/>
          <p:cNvSpPr/>
          <p:nvPr/>
        </p:nvSpPr>
        <p:spPr>
          <a:xfrm>
            <a:off x="2473560" y="364500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音乐说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297000" y="65041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ntiquaSSi"/>
                <a:ea typeface="宋体"/>
              </a:rPr>
              <a:t>Second Title Page</a:t>
            </a:r>
            <a:endParaRPr b="0" lang="en-US" sz="5400" spc="-1" strike="noStrike">
              <a:solidFill>
                <a:srgbClr val="ffffff"/>
              </a:solidFill>
              <a:latin typeface="AntiquaSS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music_notes_for_transition"/>
          <p:cNvPicPr/>
          <p:nvPr/>
        </p:nvPicPr>
        <p:blipFill>
          <a:blip r:embed="rId1"/>
          <a:stretch/>
        </p:blipFill>
        <p:spPr>
          <a:xfrm>
            <a:off x="0" y="-455760"/>
            <a:ext cx="731520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ote_still"/>
          <p:cNvPicPr/>
          <p:nvPr/>
        </p:nvPicPr>
        <p:blipFill>
          <a:blip r:embed="rId1"/>
          <a:stretch/>
        </p:blipFill>
        <p:spPr>
          <a:xfrm>
            <a:off x="0" y="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3060720" y="6021360"/>
            <a:ext cx="597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ea typeface="宋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3:40:38Z</dcterms:created>
  <dc:creator/>
  <dc:description/>
  <cp:keywords>幻灯片之家 http:/www.eeppt.com</cp:keywords>
  <dc:language>en-US</dc:language>
  <cp:lastModifiedBy/>
  <dcterms:modified xsi:type="dcterms:W3CDTF">2015-07-20T05:56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