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4.png" ContentType="image/png"/>
  <Override PartName="/ppt/media/image1.gif" ContentType="image/gif"/>
  <Override PartName="/ppt/media/image27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0EC-29FA-4F7C-A189-25495584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A78-663D-4ECE-99BC-D853BFF4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DDA-203C-40DD-B1A8-5BDAF31E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752-27E3-46B6-8DCC-D8CD1209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807A-E750-465B-B5D1-22BE94A7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358A-55DB-4A2F-B454-071E88E6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1232-0138-483E-BAAC-E4A68F9B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2882-F2FC-4628-9A51-98452B41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09A0-E768-4B84-AA6E-56214DEB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187E-52A2-41FC-AE27-A709A70E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54AF-C85C-4B11-BE79-0E463904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5205-FCE4-4B79-9143-2444BC16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97F1-3306-4948-8FFD-2901D725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2C24-B6C4-4AFB-A5A9-8F0EEE9C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1AD7-50C1-48DB-871E-999C9F75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E091-B8C8-4669-9A2D-B85425EB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AA46-F77E-4EF0-810E-37F3D381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900-25A7-4714-AB43-5FA29D4C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82F-51B3-4A88-8396-8E7E024C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444-70FC-4B8E-B2C6-CCF8274C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F6A-DAF0-429B-8EC4-D85B93C0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924-FF67-4701-A36D-32894AFB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57C-D12E-4FB6-8BD8-0BFA8940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1FA-E2B8-440E-85E9-5278C35D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A8D5-B527-4E88-86E5-47CE516BE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1488-89F8-46EC-88FA-B901D4FEA0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"/>
          <p:cNvPicPr/>
          <p:nvPr/>
        </p:nvPicPr>
        <p:blipFill>
          <a:blip r:embed="rId1"/>
          <a:stretch/>
        </p:blipFill>
        <p:spPr>
          <a:xfrm>
            <a:off x="1752480" y="1828800"/>
            <a:ext cx="5729400" cy="4376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325240" y="67320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永生的眼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838080" y="1447920"/>
            <a:ext cx="7162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父亲（     ）地说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——“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如果一个盲童能在我们的帮助下重见光明，并像温迪一样画出栩栩如生的马儿，那多么美妙！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父亲（     ）地说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——“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当你们得知是我的眼睛角膜起了作用，你们会为我自豪！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66880" y="1447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愉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666880" y="3581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骄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10 (421)"/>
          <p:cNvPicPr/>
          <p:nvPr/>
        </p:nvPicPr>
        <p:blipFill>
          <a:blip r:embed="rId1"/>
          <a:stretch/>
        </p:blipFill>
        <p:spPr>
          <a:xfrm>
            <a:off x="64008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10 (546)"/>
          <p:cNvPicPr/>
          <p:nvPr/>
        </p:nvPicPr>
        <p:blipFill>
          <a:blip r:embed="rId2"/>
          <a:stretch/>
        </p:blipFill>
        <p:spPr>
          <a:xfrm>
            <a:off x="4114800" y="45720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a"/>
          <p:cNvPicPr/>
          <p:nvPr/>
        </p:nvPicPr>
        <p:blipFill>
          <a:blip r:embed="rId1"/>
          <a:stretch/>
        </p:blipFill>
        <p:spPr>
          <a:xfrm>
            <a:off x="1371600" y="990720"/>
            <a:ext cx="6629400" cy="4927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914400" y="1295280"/>
            <a:ext cx="74674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、 琳达把父亲的话告诉了温迪，温迪被外公的心愿深深打动了，此后，她也见证了外公捐献角膜的动人一幕。她对妈妈说了什么？温迪为谁感到骄傲呢？为什么？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066680" y="3429000"/>
            <a:ext cx="6978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    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答：温迪说：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当然，你想过什么也看不见会有多么痛苦吗！我死后，也学外公将眼睛送给失明的人。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温迪就生活在这样一个充满着浓浓爱意的家庭里，耳濡目染，使她为母亲、为外公所做的一切感到骄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1219320" y="1682640"/>
            <a:ext cx="67816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、在这一刻，我真正领悟到了父亲留下的远非一副角膜！这话是什么意思？还有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219320" y="3456720"/>
            <a:ext cx="69339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答：父亲所遗留的仍辉映在温迪的眼睛里，温迪为此感到骄傲！琳达也为有这样懂事的女儿感到骄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10 (1050)"/>
          <p:cNvPicPr/>
          <p:nvPr/>
        </p:nvPicPr>
        <p:blipFill>
          <a:blip r:embed="rId1"/>
          <a:stretch/>
        </p:blipFill>
        <p:spPr>
          <a:xfrm>
            <a:off x="1066680" y="50292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10 (962)"/>
          <p:cNvPicPr/>
          <p:nvPr/>
        </p:nvPicPr>
        <p:blipFill>
          <a:blip r:embed="rId2"/>
          <a:stretch/>
        </p:blipFill>
        <p:spPr>
          <a:xfrm rot="1810200">
            <a:off x="7314840" y="5331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10 (1306)"/>
          <p:cNvPicPr/>
          <p:nvPr/>
        </p:nvPicPr>
        <p:blipFill>
          <a:blip r:embed="rId3"/>
          <a:stretch/>
        </p:blipFill>
        <p:spPr>
          <a:xfrm>
            <a:off x="6477120" y="48769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1219320" y="1828080"/>
            <a:ext cx="6781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、你认为这永生的仅仅是他们的眼睛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219320" y="2999520"/>
            <a:ext cx="6726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答：这是爱的永生，是奉献精神的永生。他们这样做有助于别人，有助于人类，有助于世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10 (1239)"/>
          <p:cNvPicPr/>
          <p:nvPr/>
        </p:nvPicPr>
        <p:blipFill>
          <a:blip r:embed="rId1"/>
          <a:stretch/>
        </p:blipFill>
        <p:spPr>
          <a:xfrm>
            <a:off x="4038480" y="41911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2120040" y="12952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99"/>
                </a:solidFill>
                <a:latin typeface="Arial"/>
                <a:ea typeface="华文彩云"/>
              </a:rPr>
              <a:t>我心飞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066680" y="2666880"/>
            <a:ext cx="70106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读了这篇课文受到了什么启发？联系自己的生活实际谈一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illusticon258266s"/>
          <p:cNvPicPr/>
          <p:nvPr/>
        </p:nvPicPr>
        <p:blipFill>
          <a:blip r:embed="rId1"/>
          <a:stretch/>
        </p:blipFill>
        <p:spPr>
          <a:xfrm>
            <a:off x="5410080" y="99072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10 (910)"/>
          <p:cNvPicPr/>
          <p:nvPr/>
        </p:nvPicPr>
        <p:blipFill>
          <a:blip r:embed="rId2"/>
          <a:stretch/>
        </p:blipFill>
        <p:spPr>
          <a:xfrm>
            <a:off x="5257800" y="426708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187280" y="12841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215674664"/>
          <p:cNvPicPr/>
          <p:nvPr/>
        </p:nvPicPr>
        <p:blipFill>
          <a:blip r:embed="rId1"/>
          <a:stretch/>
        </p:blipFill>
        <p:spPr>
          <a:xfrm>
            <a:off x="838080" y="1371600"/>
            <a:ext cx="3276720" cy="3429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4343400" y="1219320"/>
            <a:ext cx="42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同学们，照片上这个小女孩叫杨帆，就在不久前，小杨帆在青岛人民医院离开了我们，小杨帆的生命只有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岁半。这是她爸爸带着她在海洋纪念馆留的最后一张相。杨帆死后，她的父母替她把角膜捐给了两位盲人。小杨帆留下了光明，也留下了爱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1001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9492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914400" y="990720"/>
            <a:ext cx="73152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，丛飞因病医治无效在深圳市人民医院去世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岁的丛飞生前立下遗嘱捐献眼角膜，以他最后的爱心之举，将光明永远馈赠社会、长留人间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作为一名著名歌手，丛飞商业演出频繁，本应该生活富裕。但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来倾其所有，累计捐款捐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多万元，资助失学儿童和残疾人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，自己却一直过着清贫的生活，甚至不惜向生命借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1001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94926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F200604211045182160121482"/>
          <p:cNvPicPr/>
          <p:nvPr/>
        </p:nvPicPr>
        <p:blipFill>
          <a:blip r:embed="rId1"/>
          <a:stretch/>
        </p:blipFill>
        <p:spPr>
          <a:xfrm>
            <a:off x="4267080" y="2590920"/>
            <a:ext cx="3878280" cy="3120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bcd1d1f3d531421478dd5d40570a93e9"/>
          <p:cNvPicPr/>
          <p:nvPr/>
        </p:nvPicPr>
        <p:blipFill>
          <a:blip r:embed="rId2"/>
          <a:stretch/>
        </p:blipFill>
        <p:spPr>
          <a:xfrm>
            <a:off x="990720" y="1295280"/>
            <a:ext cx="3276360" cy="3013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219320" y="2286000"/>
            <a:ext cx="67816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资料一：据卫生部统计，我国目前约有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40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万因角膜病致盲的患者，其中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7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％可以通过角膜移植手术复明，但由于供体角膜匮乏，我国每年仅实施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300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例角膜移植手术，数百万的患者还在黑暗中苦苦地等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1371600" y="1066680"/>
            <a:ext cx="2209680" cy="990720"/>
            <a:chOff x="1371600" y="1066680"/>
            <a:chExt cx="2209680" cy="990720"/>
          </a:xfrm>
        </p:grpSpPr>
        <p:sp>
          <p:nvSpPr>
            <p:cNvPr id="159" name="AutoShape 3"/>
            <p:cNvSpPr/>
            <p:nvPr/>
          </p:nvSpPr>
          <p:spPr>
            <a:xfrm>
              <a:off x="1371600" y="1066680"/>
              <a:ext cx="1600200" cy="990720"/>
            </a:xfrm>
            <a:prstGeom prst="horizontalScrol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"/>
            <p:cNvSpPr/>
            <p:nvPr/>
          </p:nvSpPr>
          <p:spPr>
            <a:xfrm>
              <a:off x="1600200" y="12952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资料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7" descr="10 (1241)"/>
          <p:cNvPicPr/>
          <p:nvPr/>
        </p:nvPicPr>
        <p:blipFill>
          <a:blip r:embed="rId1"/>
          <a:stretch/>
        </p:blipFill>
        <p:spPr>
          <a:xfrm>
            <a:off x="3200400" y="4724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10 (953)"/>
          <p:cNvPicPr/>
          <p:nvPr/>
        </p:nvPicPr>
        <p:blipFill>
          <a:blip r:embed="rId2"/>
          <a:stretch/>
        </p:blipFill>
        <p:spPr>
          <a:xfrm>
            <a:off x="5943600" y="53352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"/>
          <p:cNvGrpSpPr/>
          <p:nvPr/>
        </p:nvGrpSpPr>
        <p:grpSpPr>
          <a:xfrm>
            <a:off x="3048120" y="609480"/>
            <a:ext cx="3200400" cy="990720"/>
            <a:chOff x="3048120" y="609480"/>
            <a:chExt cx="3200400" cy="990720"/>
          </a:xfrm>
        </p:grpSpPr>
        <p:pic>
          <p:nvPicPr>
            <p:cNvPr id="86" name="Picture 5" descr="large_3526k70"/>
            <p:cNvPicPr/>
            <p:nvPr/>
          </p:nvPicPr>
          <p:blipFill>
            <a:blip r:embed="rId1"/>
            <a:srcRect l="0" t="0" r="2008" b="4337"/>
            <a:stretch/>
          </p:blipFill>
          <p:spPr>
            <a:xfrm>
              <a:off x="3048120" y="609480"/>
              <a:ext cx="32004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6"/>
            <p:cNvSpPr/>
            <p:nvPr/>
          </p:nvSpPr>
          <p:spPr>
            <a:xfrm>
              <a:off x="3436920" y="609480"/>
              <a:ext cx="25117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华文隶书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7"/>
          <p:cNvSpPr/>
          <p:nvPr/>
        </p:nvSpPr>
        <p:spPr>
          <a:xfrm>
            <a:off x="1523880" y="2133720"/>
            <a:ext cx="556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143000" y="1905120"/>
            <a:ext cx="685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认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个生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有感情地朗读课文，体会文章的思想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读懂课文内容，培养关爱他人、帮助他人、无私奉献的优秀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学习作者抓住人物的语言进行生动细致的描写，从而表现人物精神品质的写作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914400" y="1752480"/>
            <a:ext cx="70866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资料二：目前美国有超过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8400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多名患者登记等待器官移植，而且每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13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分钟就会有一个新的登记等待患者。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004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年仅有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的等待者获得了器官移植，而剩余的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70%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的等待者必须继续等待他们迫切需要的移植器官。不幸的是，每天有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16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个人会因为无法等到器官移植而丧失生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10 (982)"/>
          <p:cNvPicPr/>
          <p:nvPr/>
        </p:nvPicPr>
        <p:blipFill>
          <a:blip r:embed="rId1"/>
          <a:stretch/>
        </p:blipFill>
        <p:spPr>
          <a:xfrm>
            <a:off x="6934320" y="5335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10 (948)"/>
          <p:cNvPicPr/>
          <p:nvPr/>
        </p:nvPicPr>
        <p:blipFill>
          <a:blip r:embed="rId2"/>
          <a:stretch/>
        </p:blipFill>
        <p:spPr>
          <a:xfrm>
            <a:off x="4952880" y="51055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"/>
          <p:cNvGrpSpPr/>
          <p:nvPr/>
        </p:nvGrpSpPr>
        <p:grpSpPr>
          <a:xfrm>
            <a:off x="2895480" y="685800"/>
            <a:ext cx="3200400" cy="990720"/>
            <a:chOff x="2895480" y="685800"/>
            <a:chExt cx="3200400" cy="990720"/>
          </a:xfrm>
        </p:grpSpPr>
        <p:pic>
          <p:nvPicPr>
            <p:cNvPr id="167" name="Picture 5" descr="large_3526k70"/>
            <p:cNvPicPr/>
            <p:nvPr/>
          </p:nvPicPr>
          <p:blipFill>
            <a:blip r:embed="rId1"/>
            <a:srcRect l="0" t="0" r="2008" b="4337"/>
            <a:stretch/>
          </p:blipFill>
          <p:spPr>
            <a:xfrm>
              <a:off x="2895480" y="685800"/>
              <a:ext cx="32004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6"/>
            <p:cNvSpPr/>
            <p:nvPr/>
          </p:nvSpPr>
          <p:spPr>
            <a:xfrm>
              <a:off x="3284280" y="685800"/>
              <a:ext cx="25117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华文隶书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8"/>
          <p:cNvSpPr/>
          <p:nvPr/>
        </p:nvSpPr>
        <p:spPr>
          <a:xfrm>
            <a:off x="990720" y="1752480"/>
            <a:ext cx="739116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永生的眼睛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是一篇非常感人的文章。刻画了“我”的父辈为了他人能够更好的生活，尽自己最大所能来帮助别人延续生命、生活得更美好的可贵品德，并借此来教育“我”和所有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文章以“永生的眼睛”为题，富有深意。“眼睛”折射出的是人性的善良和美好，“永生”弘扬了关爱他人、无私奉献的崇高精神必将世代相传，永不泯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"/>
          <p:cNvGrpSpPr/>
          <p:nvPr/>
        </p:nvGrpSpPr>
        <p:grpSpPr>
          <a:xfrm>
            <a:off x="2971800" y="914400"/>
            <a:ext cx="3200400" cy="990720"/>
            <a:chOff x="2971800" y="914400"/>
            <a:chExt cx="3200400" cy="990720"/>
          </a:xfrm>
        </p:grpSpPr>
        <p:pic>
          <p:nvPicPr>
            <p:cNvPr id="171" name="Picture 5" descr="large_3526k70"/>
            <p:cNvPicPr/>
            <p:nvPr/>
          </p:nvPicPr>
          <p:blipFill>
            <a:blip r:embed="rId1"/>
            <a:srcRect l="0" t="0" r="2008" b="4337"/>
            <a:stretch/>
          </p:blipFill>
          <p:spPr>
            <a:xfrm>
              <a:off x="2971800" y="914400"/>
              <a:ext cx="32004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6"/>
            <p:cNvSpPr/>
            <p:nvPr/>
          </p:nvSpPr>
          <p:spPr>
            <a:xfrm>
              <a:off x="3360600" y="914400"/>
              <a:ext cx="25117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华文隶书"/>
                </a:rPr>
                <a:t>巩固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9"/>
          <p:cNvSpPr/>
          <p:nvPr/>
        </p:nvSpPr>
        <p:spPr>
          <a:xfrm>
            <a:off x="914400" y="2133720"/>
            <a:ext cx="739152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选择恰当的关联词语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　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不但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而且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宁可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也不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　因为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虽然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可是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永生的眼睛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一课（       ）使我感动，（      ）引起我许多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．父亲（      ）死去了，（      ）他那话语给我留下深刻的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10 (1051)"/>
          <p:cNvPicPr/>
          <p:nvPr/>
        </p:nvPicPr>
        <p:blipFill>
          <a:blip r:embed="rId2"/>
          <a:stretch/>
        </p:blipFill>
        <p:spPr>
          <a:xfrm>
            <a:off x="6172200" y="762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838080" y="160020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．（      ）我们的捐献给了别人快乐，（     ）这种做法是很高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．（      ）牺牲自己的个人利益帮助别人，（      ）应当处处为自己的利益斤斤计较，这才是有意义的人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10 (1050)"/>
          <p:cNvPicPr/>
          <p:nvPr/>
        </p:nvPicPr>
        <p:blipFill>
          <a:blip r:embed="rId1"/>
          <a:stretch/>
        </p:blipFill>
        <p:spPr>
          <a:xfrm>
            <a:off x="3962520" y="434340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10 (1055)"/>
          <p:cNvPicPr/>
          <p:nvPr/>
        </p:nvPicPr>
        <p:blipFill>
          <a:blip r:embed="rId2"/>
          <a:stretch/>
        </p:blipFill>
        <p:spPr>
          <a:xfrm>
            <a:off x="5943600" y="4572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7"/>
          <p:cNvSpPr/>
          <p:nvPr/>
        </p:nvSpPr>
        <p:spPr>
          <a:xfrm>
            <a:off x="1447920" y="1295280"/>
            <a:ext cx="71625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修改下边有毛病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他愉快而高兴地告诉我，他去世后要捐赠所有完好的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遵从他的遗愿捐赠了他的眼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0 (1001)"/>
          <p:cNvPicPr/>
          <p:nvPr/>
        </p:nvPicPr>
        <p:blipFill>
          <a:blip r:embed="rId1"/>
          <a:stretch/>
        </p:blipFill>
        <p:spPr>
          <a:xfrm>
            <a:off x="762120" y="38862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10 (949)"/>
          <p:cNvPicPr/>
          <p:nvPr/>
        </p:nvPicPr>
        <p:blipFill>
          <a:blip r:embed="rId2"/>
          <a:stretch/>
        </p:blipFill>
        <p:spPr>
          <a:xfrm>
            <a:off x="6781680" y="9144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2"/>
          <p:cNvSpPr/>
          <p:nvPr/>
        </p:nvSpPr>
        <p:spPr>
          <a:xfrm>
            <a:off x="3821040" y="1257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2971800" y="762120"/>
            <a:ext cx="3200400" cy="990360"/>
            <a:chOff x="2971800" y="762120"/>
            <a:chExt cx="3200400" cy="990360"/>
          </a:xfrm>
        </p:grpSpPr>
        <p:pic>
          <p:nvPicPr>
            <p:cNvPr id="92" name="Picture 6" descr="large_3526k70"/>
            <p:cNvPicPr/>
            <p:nvPr/>
          </p:nvPicPr>
          <p:blipFill>
            <a:blip r:embed="rId1"/>
            <a:srcRect l="0" t="0" r="2008" b="4337"/>
            <a:stretch/>
          </p:blipFill>
          <p:spPr>
            <a:xfrm>
              <a:off x="2971800" y="762120"/>
              <a:ext cx="32004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/>
            <p:cNvSpPr/>
            <p:nvPr/>
          </p:nvSpPr>
          <p:spPr>
            <a:xfrm>
              <a:off x="3360600" y="762120"/>
              <a:ext cx="25117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华文隶书"/>
                </a:rPr>
                <a:t>内容解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9"/>
          <p:cNvSpPr/>
          <p:nvPr/>
        </p:nvSpPr>
        <p:spPr>
          <a:xfrm>
            <a:off x="1984320" y="31240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楷体_GB2312"/>
              </a:rPr>
              <a:t>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143080" y="162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965400" y="32004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楷体_GB2312"/>
              </a:rPr>
              <a:t>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984320" y="4724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楷体_GB2312"/>
              </a:rPr>
              <a:t>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794200" y="32004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楷体_GB2312"/>
              </a:rPr>
              <a:t>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118040" y="4724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楷体_GB2312"/>
              </a:rPr>
              <a:t>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946840" y="46483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楷体_GB2312"/>
              </a:rPr>
              <a:t>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895760" y="259092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ju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3735360" y="25146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m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2124720" y="4191120"/>
            <a:ext cx="4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l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5487480" y="25909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ku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4105080" y="426708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z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5934600" y="419112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lǒ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2" descr="10 (1051)"/>
          <p:cNvPicPr/>
          <p:nvPr/>
        </p:nvPicPr>
        <p:blipFill>
          <a:blip r:embed="rId2"/>
          <a:stretch/>
        </p:blipFill>
        <p:spPr>
          <a:xfrm>
            <a:off x="6324480" y="990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WordArt 23" descr=""/>
          <p:cNvPicPr/>
          <p:nvPr/>
        </p:nvPicPr>
        <p:blipFill>
          <a:blip r:embed="rId3"/>
          <a:stretch/>
        </p:blipFill>
        <p:spPr>
          <a:xfrm>
            <a:off x="609480" y="1779480"/>
            <a:ext cx="2054520" cy="1536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不顾一切　栩栩如生　热泪盈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与世长辞　重见天日　夺眶而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突如其来　不由自主　不假思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笼罩　  流淌　  呵护　 捐赠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遵从　  骄傲　  自豪　 角膜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给予　  恢复　  屡屡　 孤零零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疾病    盲童    酷爱   搂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281240" y="1371600"/>
            <a:ext cx="6629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、母亲去世后，父亲同意医院要去母亲的眼角膜，我的表现是什么？我为什么不同意父亲的做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219320" y="3200400"/>
            <a:ext cx="6629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华文楷体"/>
              </a:rPr>
              <a:t>     </a:t>
            </a:r>
            <a:r>
              <a:rPr b="1" lang="en-US" sz="2800" spc="-1" strike="noStrike">
                <a:solidFill>
                  <a:srgbClr val="9900cc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身体发肤，受之于父母</a:t>
            </a:r>
            <a:r>
              <a:rPr b="1" lang="zh-CN" sz="2800" spc="-1" strike="noStrike">
                <a:solidFill>
                  <a:srgbClr val="9900cc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，深爱着母亲的我无法接受捐赠母亲角膜的决定，使我忍不住冲着父亲哭喊，使我忍不住深深地责怪父亲，使我忍不住痛哭失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0 (900)"/>
          <p:cNvPicPr/>
          <p:nvPr/>
        </p:nvPicPr>
        <p:blipFill>
          <a:blip r:embed="rId1"/>
          <a:stretch/>
        </p:blipFill>
        <p:spPr>
          <a:xfrm>
            <a:off x="1676520" y="53341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914400" y="1923480"/>
            <a:ext cx="7238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、父亲曾说过：如果死后能有助于他人健康的恢复，那么死也是有意义的。父亲认为捐献自己的眼睛有什么意义？能从他的的那些话里感受到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14400" y="4057200"/>
            <a:ext cx="70102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答：可以让其他人获得光明，父亲患了肺气肿时曾经说过</a:t>
            </a:r>
            <a:r>
              <a:rPr b="1" lang="zh-CN" sz="2800" spc="-1" strike="noStrike">
                <a:solidFill>
                  <a:srgbClr val="9900cc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如果一个盲童能够借助我们的帮助重见光明，并像你女儿温迪一样画出栩栩如生的马儿，那有多美妙！</a:t>
            </a:r>
            <a:r>
              <a:rPr b="1" lang="zh-CN" sz="2800" spc="-1" strike="noStrike">
                <a:solidFill>
                  <a:srgbClr val="9900cc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温迪自幼酷爱画马，她的作品屡屡获奖，</a:t>
            </a:r>
            <a:r>
              <a:rPr b="1" lang="zh-CN" sz="2800" spc="-1" strike="noStrike">
                <a:solidFill>
                  <a:srgbClr val="9900cc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想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1143000" y="2526840"/>
            <a:ext cx="69343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看，另一对父母如果看到他们的女儿也像温迪一样，将会多么高兴。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华文楷体"/>
              </a:rPr>
              <a:t>"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父亲说，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华文楷体"/>
              </a:rPr>
              <a:t>"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当你们得知我的眼睛起了作用，你们将会多么自豪！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华文楷体"/>
              </a:rPr>
              <a:t>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ni_png_0120"/>
          <p:cNvPicPr/>
          <p:nvPr/>
        </p:nvPicPr>
        <p:blipFill>
          <a:blip r:embed="rId1"/>
          <a:stretch/>
        </p:blipFill>
        <p:spPr>
          <a:xfrm>
            <a:off x="6324480" y="457200"/>
            <a:ext cx="1397160" cy="1397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illusticon230905s"/>
          <p:cNvPicPr/>
          <p:nvPr/>
        </p:nvPicPr>
        <p:blipFill>
          <a:blip r:embed="rId2"/>
          <a:stretch/>
        </p:blipFill>
        <p:spPr>
          <a:xfrm>
            <a:off x="1066680" y="4724280"/>
            <a:ext cx="1505160" cy="1505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0 (1157)"/>
          <p:cNvPicPr/>
          <p:nvPr/>
        </p:nvPicPr>
        <p:blipFill>
          <a:blip r:embed="rId3"/>
          <a:stretch/>
        </p:blipFill>
        <p:spPr>
          <a:xfrm>
            <a:off x="5181480" y="44956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62120" y="1676520"/>
            <a:ext cx="76197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父亲曾（     ）地对我说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——“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个人所能给予他人的最珍贵的东西，莫过于自己身体的一部分。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父亲（       ）地说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——“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如果我们死后的身体能有助于他人恢复健康，我们的死就是有意义的。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895480" y="1752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平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438280" y="3657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语重心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10 (224)"/>
          <p:cNvPicPr/>
          <p:nvPr/>
        </p:nvPicPr>
        <p:blipFill>
          <a:blip r:embed="rId1"/>
          <a:stretch/>
        </p:blipFill>
        <p:spPr>
          <a:xfrm>
            <a:off x="3657600" y="4648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10 (42)"/>
          <p:cNvPicPr/>
          <p:nvPr/>
        </p:nvPicPr>
        <p:blipFill>
          <a:blip r:embed="rId2"/>
          <a:stretch/>
        </p:blipFill>
        <p:spPr>
          <a:xfrm>
            <a:off x="6705720" y="6094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1:38:29Z</dcterms:created>
  <dc:creator/>
  <dc:description/>
  <cp:keywords>幻灯片之家 http:/www.eeppt.com</cp:keywords>
  <dc:language>en-US</dc:language>
  <cp:lastModifiedBy/>
  <dcterms:modified xsi:type="dcterms:W3CDTF">2015-07-20T06:01:3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