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D38-122B-4928-B6D2-07419045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AE9-6C47-4D73-AE00-0ED012B0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A9A3-6ACB-481B-9386-E18847A7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213B-EB32-4A47-AA88-477CDCA1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906-98E5-47FD-A7FF-8C8169C8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BB3-F939-4486-AD51-10C0FBD4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7B8-6DB5-4D6C-984B-EE459CFB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606D-3928-4F3B-91EA-887BB3E6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4C93-3494-4994-A118-C7E29A5F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772-D1D5-4F42-ACC3-F969B3D9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FDD-FB9C-41E7-B476-307EFC54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020-B1F3-4662-BB54-9461484E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CCF4-D636-468D-87F1-451027839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母亲的一双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WordArt 7" descr=""/>
          <p:cNvPicPr/>
          <p:nvPr/>
        </p:nvPicPr>
        <p:blipFill>
          <a:blip r:embed="rId2"/>
          <a:stretch/>
        </p:blipFill>
        <p:spPr>
          <a:xfrm>
            <a:off x="1036800" y="622440"/>
            <a:ext cx="7253280" cy="379080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9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29520 w 539640"/>
              <a:gd name="textAreaRight" fmla="*/ 510120 w 53964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121" y="1350"/>
                </a:lnTo>
                <a:lnTo>
                  <a:pt x="1350" y="135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121" y="20250"/>
                </a:lnTo>
                <a:lnTo>
                  <a:pt x="23121" y="135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121" y="2025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471" h="21600">
                <a:moveTo>
                  <a:pt x="5192" y="3756"/>
                </a:moveTo>
                <a:lnTo>
                  <a:pt x="19279" y="10800"/>
                </a:lnTo>
                <a:lnTo>
                  <a:pt x="5192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无标题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向批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2484360" y="3789360"/>
            <a:ext cx="403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755640" y="1773360"/>
            <a:ext cx="81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（三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请仔细阅读课文，划出表达情感的语句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析：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抒发了                                     的一种情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908000" y="4292640"/>
            <a:ext cx="60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对不畏艰辛、艰苦创业、默默无闻、乐于奉献的社会主义建设者的热爱、敬仰和赞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7"/>
          <p:cNvSpPr/>
          <p:nvPr/>
        </p:nvSpPr>
        <p:spPr>
          <a:xfrm>
            <a:off x="3016440" y="19162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国际劳动节表彰大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会张迎善答记者问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物采访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057040" y="3849840"/>
            <a:ext cx="511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请所有男同学扮张迎善，所有女同学一人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做主持人，其余人做记者，结合对课文内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容的理解，记者提问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现场采访张迎善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无标题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后学习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111400" y="2395440"/>
            <a:ext cx="535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以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我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的人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为题，仿照本文写法，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写一篇文章，要求抓住人物最有特征的部分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运用多种表达方式，描写人物外貌，来塑造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人物的形象。字数不少于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400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字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7" name="lvshe.mi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215572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www.ee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A87-B67B-44A5-BBE8-D76077FF64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无标题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WordArt 7" descr=""/>
          <p:cNvPicPr/>
          <p:nvPr/>
        </p:nvPicPr>
        <p:blipFill>
          <a:blip r:embed="rId2"/>
          <a:stretch/>
        </p:blipFill>
        <p:spPr>
          <a:xfrm>
            <a:off x="2475000" y="2346480"/>
            <a:ext cx="4479840" cy="1427040"/>
          </a:xfrm>
          <a:prstGeom prst="rect">
            <a:avLst/>
          </a:prstGeom>
          <a:ln w="0">
            <a:noFill/>
          </a:ln>
        </p:spPr>
      </p:pic>
      <p:pic>
        <p:nvPicPr>
          <p:cNvPr id="125" name="beidahuang.mp3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55337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9"/>
          <p:cNvSpPr/>
          <p:nvPr/>
        </p:nvSpPr>
        <p:spPr>
          <a:xfrm>
            <a:off x="3132000" y="170028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9" name="Picture 22" descr="无标题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lp2"/>
          <p:cNvPicPr/>
          <p:nvPr/>
        </p:nvPicPr>
        <p:blipFill>
          <a:blip r:embed="rId2"/>
          <a:stretch/>
        </p:blipFill>
        <p:spPr>
          <a:xfrm>
            <a:off x="0" y="0"/>
            <a:ext cx="1116000" cy="1076400"/>
          </a:xfrm>
          <a:prstGeom prst="rect">
            <a:avLst/>
          </a:prstGeom>
          <a:ln w="0">
            <a:noFill/>
          </a:ln>
        </p:spPr>
      </p:pic>
      <p:pic>
        <p:nvPicPr>
          <p:cNvPr id="51" name="beidahuang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" name="Picture 18" descr="无标题４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3173040" y="2349360"/>
            <a:ext cx="34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通畅朗读课文，概括文章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主要内容，圈点批注感受文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章表达的思想感情，学习抓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住特征刻画人物形象的写法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64840" y="1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" name="Picture 4" descr="无标题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8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50920" y="18900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完就说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124000" y="234936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采用你喜欢的方式自读课文，读完后谈谈你初读课文的感受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无标题88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向批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432160" y="2035080"/>
            <a:ext cx="4455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（一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请仔细阅读课文，划出描写手的语句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归纳：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描绘了                                 的一双手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2556000" y="4005360"/>
            <a:ext cx="3384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755640" y="1268280"/>
            <a:ext cx="360360" cy="4248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0520 h 4248360"/>
              <a:gd name="textAreaBottom" fmla="*/ 4137840 h 42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669200" y="2286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明写各种各样的手，烘托一双手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12320" y="3048120"/>
            <a:ext cx="6069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天下第一奇手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470320" y="104472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简直是半截老松木；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305440" y="190980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、皮肤呈木色，纹络又粗又细，一道道黑土色；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181960" y="270180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掌面鼓皮样硬，一只手就向一根老甘蔗；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308480" y="356544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、左手大拇指没有指甲，手指各个关节都缠着线；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2490480" y="4435560"/>
            <a:ext cx="48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手大无比，真是我今生今世见到的天下第一号大手；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1936080" y="522756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、手坚硬耐搓。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5399640" y="57531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通过手想像，抒发感受，赞颂其人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8537040" y="3060360"/>
            <a:ext cx="606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这是一双创造绿色宝库的手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" name="AutoShape 19"/>
          <p:cNvSpPr/>
          <p:nvPr/>
        </p:nvSpPr>
        <p:spPr>
          <a:xfrm>
            <a:off x="8317080" y="1484280"/>
            <a:ext cx="287280" cy="4032360"/>
          </a:xfrm>
          <a:custGeom>
            <a:avLst/>
            <a:gdLst>
              <a:gd name="textAreaLeft" fmla="*/ 0 w 287280"/>
              <a:gd name="textAreaRight" fmla="*/ 103680 w 287280"/>
              <a:gd name="textAreaTop" fmla="*/ 105120 h 4032360"/>
              <a:gd name="textAreaBottom" fmla="*/ 3927240 h 40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" name="AutoShape 21"/>
          <p:cNvSpPr/>
          <p:nvPr/>
        </p:nvSpPr>
        <p:spPr>
          <a:xfrm>
            <a:off x="179280" y="115920"/>
            <a:ext cx="180036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一 双 手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11280" y="6381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ppt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755640" y="2271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年开学初，他父亲来交学费，我看到他父亲的一双粗壮宽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筋突现的手，满是老茧，抖抖索索的把钱交给了我，那印象实在太深了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447280" y="363060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——— 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一位农民的手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755640" y="4208400"/>
            <a:ext cx="79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天都能见到那双手不停地写，手指原本纤长白皙，但一到冬天就逐渐变得红肿。手心处横着道道粗纹，粗糙且无光泽。面对这样一双手，谁能猜到她还不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？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478600" y="6093000"/>
            <a:ext cx="2034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———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一位老师的手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你来猜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061080" y="1197000"/>
            <a:ext cx="252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阅读下列两段文字，根据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描写说说写的是谁的手？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无标题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向批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2484360" y="3716280"/>
            <a:ext cx="403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755640" y="1773360"/>
            <a:ext cx="81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（二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请仔细阅读课文，划出人物言行的语句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概括：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塑造了                                     的一个人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546440" y="4292640"/>
            <a:ext cx="73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不畏艰辛、艰苦创业、默默无闻、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勤劳无私、乐于奉献、淳朴实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观看视频写保护森林的公益广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无标题88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2476440"/>
          </a:xfrm>
          <a:prstGeom prst="rect">
            <a:avLst/>
          </a:prstGeom>
          <a:ln w="0">
            <a:noFill/>
          </a:ln>
        </p:spPr>
      </p:pic>
      <p:pic>
        <p:nvPicPr>
          <p:cNvPr id="98" name="77.MPG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0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欣赏拓展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1720800" y="371628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☆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1" name="风雨植树人.wmv" descr=""/>
          <p:cNvPicPr/>
          <p:nvPr/>
        </p:nvPicPr>
        <p:blipFill>
          <a:blip r:embed="rId3"/>
          <a:stretch/>
        </p:blipFill>
        <p:spPr>
          <a:xfrm>
            <a:off x="539640" y="1413000"/>
            <a:ext cx="82803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766804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8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01:45:2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8Z</dcterms:modified>
  <cp:revision>7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