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5.jpeg" ContentType="image/jpeg"/>
  <Override PartName="/ppt/media/image1.jpeg" ContentType="image/jpeg"/>
  <Override PartName="/ppt/media/image2.jpeg" ContentType="image/jpeg"/>
  <Override PartName="/ppt/media/image12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1.gif" ContentType="image/gif"/>
  <Override PartName="/ppt/media/image14.png" ContentType="image/png"/>
  <Override PartName="/ppt/media/image3.gif" ContentType="image/gif"/>
  <Override PartName="/ppt/media/image6.png" ContentType="image/pn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8909-AE76-4E04-AFB3-1BE1BA356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057040" y="3182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18A3-D2F7-4E2E-A773-FFEEE9260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8836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6C0E-982F-42EF-B081-BB64591A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5320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4936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05704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5320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84936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DF1D-F490-49F4-B26E-50E02CF64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9766-7239-4F64-AD3F-114519DEA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BBC3-3DBB-4F87-908A-52C3632BE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ECB6E-30EA-49CE-8360-FECF71E80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5DB78-A692-42CD-B614-0C9B6B0F1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EBC2-2650-45B5-ACEE-6B3EF8E34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E27D-3458-4893-97FB-BFBBF0BA3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130B-EADB-4850-9C8B-4D2BB304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1B1-5E9C-4491-B1DE-44CBA3FE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8836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F05FC-8315-47C9-8FA5-BAF001C57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981C-1913-4FCD-94E2-AA54A9E9A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057040" y="3182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D51C-489E-4320-80E6-82B312C92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8836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83DA-C5F3-46DA-932E-CF3144C4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5320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49360" y="91404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05704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5320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849360" y="3182760"/>
            <a:ext cx="2281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C278-BBF7-48A6-AF44-8E1270B95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BCE7-ED7D-4F99-87E4-07DB8856A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9727-0CFF-4E8B-ACB6-CAE2C4A76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C931-11B5-45AF-9721-79D5F73B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61048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EF7E-4186-402F-8D70-653742CDF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D90D-3941-4F5C-A1C6-ED94454A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88360" y="318276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D87C-C91D-4C29-9DEF-5A8A2CE0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8360" y="914040"/>
            <a:ext cx="34581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057040" y="3182760"/>
            <a:ext cx="7086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6416-2287-476F-B4E1-81F68C613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02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4696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54696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4D3B1-319F-4591-A99A-257A29A9502D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057040" y="914040"/>
            <a:ext cx="7086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55308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55308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55308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BEF6-6077-4B1D-B5C1-FBDB96D954F0}" type="slidenum">
              <a:rPr b="1" lang="en-US" sz="10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3.gif"/><Relationship Id="rId6" Type="http://schemas.openxmlformats.org/officeDocument/2006/relationships/image" Target="../media/image10.gif"/><Relationship Id="rId7" Type="http://schemas.openxmlformats.org/officeDocument/2006/relationships/image" Target="../media/image11.gif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647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医学卡通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完整版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6320" y="5257440"/>
            <a:ext cx="906768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Your subtitle goes he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doctor_checking_throat_hg_clr"/>
          <p:cNvPicPr/>
          <p:nvPr/>
        </p:nvPicPr>
        <p:blipFill>
          <a:blip r:embed="rId1"/>
          <a:stretch/>
        </p:blipFill>
        <p:spPr>
          <a:xfrm>
            <a:off x="5410080" y="990720"/>
            <a:ext cx="2995560" cy="3666960"/>
          </a:xfrm>
          <a:prstGeom prst="rect">
            <a:avLst/>
          </a:prstGeom>
          <a:ln w="0">
            <a:noFill/>
          </a:ln>
        </p:spPr>
      </p:pic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宋体"/>
              </a:rPr>
              <a:t>Your Topic Goes Her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67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gotapples"/>
          <p:cNvPicPr/>
          <p:nvPr/>
        </p:nvPicPr>
        <p:blipFill>
          <a:blip r:embed="rId1"/>
          <a:stretch/>
        </p:blipFill>
        <p:spPr>
          <a:xfrm>
            <a:off x="0" y="914400"/>
            <a:ext cx="2400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宋体"/>
              </a:rPr>
              <a:t>Your Topic Goes Here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057040" y="914040"/>
            <a:ext cx="346716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Your subtopics go he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lookatchart"/>
          <p:cNvPicPr/>
          <p:nvPr/>
        </p:nvPicPr>
        <p:blipFill>
          <a:blip r:embed="rId2"/>
          <a:stretch/>
        </p:blipFill>
        <p:spPr>
          <a:xfrm>
            <a:off x="0" y="914400"/>
            <a:ext cx="212256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152280" y="944640"/>
            <a:ext cx="2438640" cy="12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scale them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Can be Copy-Pasted out of Templates for use anyw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2753280" y="93816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343760" y="93816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672520" y="93816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7487280" y="93816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457200" y="259092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228600" y="2637000"/>
            <a:ext cx="236232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Additional Graphic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cale them up or down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GIF clipart is anima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JPG clipart can be scaled up and take up little file sp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.PNG clipart can be scaled unusually large without distor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9">
            <a:hlinkClick r:id="rId1"/>
          </p:cNvPr>
          <p:cNvSpPr/>
          <p:nvPr/>
        </p:nvSpPr>
        <p:spPr>
          <a:xfrm>
            <a:off x="457920" y="700200"/>
            <a:ext cx="1508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宋体"/>
              </a:rPr>
              <a:t>www.animationfactory.c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171320" y="2743200"/>
            <a:ext cx="130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nimated .GIF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4091040" y="4648320"/>
            <a:ext cx="146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ill Frame .P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2" descr="visiting_the_doctor_sld"/>
          <p:cNvPicPr/>
          <p:nvPr/>
        </p:nvPicPr>
        <p:blipFill>
          <a:blip r:embed="rId2"/>
          <a:stretch/>
        </p:blipFill>
        <p:spPr>
          <a:xfrm>
            <a:off x="4267080" y="1257480"/>
            <a:ext cx="13716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3" name="Picture 13" descr="visiting_the_doctor_prt"/>
          <p:cNvPicPr/>
          <p:nvPr/>
        </p:nvPicPr>
        <p:blipFill>
          <a:blip r:embed="rId3"/>
          <a:stretch/>
        </p:blipFill>
        <p:spPr>
          <a:xfrm>
            <a:off x="7467480" y="1219320"/>
            <a:ext cx="13716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4" name="Picture 14" descr="visiting_the_doctor_qx"/>
          <p:cNvPicPr/>
          <p:nvPr/>
        </p:nvPicPr>
        <p:blipFill>
          <a:blip r:embed="rId4"/>
          <a:stretch/>
        </p:blipFill>
        <p:spPr>
          <a:xfrm>
            <a:off x="2666880" y="1257480"/>
            <a:ext cx="1371600" cy="1028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05" name="Picture 15" descr="doctor_checking_throat_hg_clr"/>
          <p:cNvPicPr/>
          <p:nvPr/>
        </p:nvPicPr>
        <p:blipFill>
          <a:blip r:embed="rId5"/>
          <a:stretch/>
        </p:blipFill>
        <p:spPr>
          <a:xfrm>
            <a:off x="5605560" y="3048120"/>
            <a:ext cx="1252440" cy="1533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doctor_examining_patient_hg_clr"/>
          <p:cNvPicPr/>
          <p:nvPr/>
        </p:nvPicPr>
        <p:blipFill>
          <a:blip r:embed="rId6"/>
          <a:stretch/>
        </p:blipFill>
        <p:spPr>
          <a:xfrm>
            <a:off x="3929040" y="3048120"/>
            <a:ext cx="1533600" cy="1533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doctor_with_chart_hg_clr"/>
          <p:cNvPicPr/>
          <p:nvPr/>
        </p:nvPicPr>
        <p:blipFill>
          <a:blip r:embed="rId7"/>
          <a:stretch/>
        </p:blipFill>
        <p:spPr>
          <a:xfrm>
            <a:off x="3090960" y="3048120"/>
            <a:ext cx="709560" cy="15332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8" descr="gotapples"/>
          <p:cNvPicPr/>
          <p:nvPr/>
        </p:nvPicPr>
        <p:blipFill>
          <a:blip r:embed="rId8"/>
          <a:stretch/>
        </p:blipFill>
        <p:spPr>
          <a:xfrm>
            <a:off x="5638680" y="4876920"/>
            <a:ext cx="960480" cy="18288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lookatchart"/>
          <p:cNvPicPr/>
          <p:nvPr/>
        </p:nvPicPr>
        <p:blipFill>
          <a:blip r:embed="rId9"/>
          <a:stretch/>
        </p:blipFill>
        <p:spPr>
          <a:xfrm>
            <a:off x="4495680" y="4952880"/>
            <a:ext cx="765360" cy="1676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0" descr="thisisthechart"/>
          <p:cNvPicPr/>
          <p:nvPr/>
        </p:nvPicPr>
        <p:blipFill>
          <a:blip r:embed="rId10"/>
          <a:stretch/>
        </p:blipFill>
        <p:spPr>
          <a:xfrm>
            <a:off x="3041640" y="4952880"/>
            <a:ext cx="1200240" cy="17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ahoma"/>
                <a:ea typeface="宋体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站点介绍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www.eeppt.com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  <a:ea typeface="宋体"/>
              </a:rPr>
              <a:t>助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该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模板收集于网络，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Arial"/>
                <a:ea typeface="宋体"/>
              </a:rPr>
              <a:t>栏目推荐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教育教学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网络科技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免费下载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通用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医疗卫生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14:16:57Z</dcterms:created>
  <dc:creator/>
  <dc:description/>
  <cp:keywords/>
  <dc:language>en-US</dc:language>
  <cp:lastModifiedBy>a</cp:lastModifiedBy>
  <dcterms:modified xsi:type="dcterms:W3CDTF">2015-07-21T02:50:09Z</dcterms:modified>
  <cp:revision>9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