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F787-9026-40FF-9FAF-BDCBAF6A3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7AAC-B3AC-440E-B20C-1D682B6D4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31DD-AFB1-4074-B884-9BAE3092D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65EE-F01B-493E-8CDD-186DBFE03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29FE3-E62E-4CD9-BB44-D58145F13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15E3B-EA90-4D14-BF41-57C29025B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44064-B56D-406D-B2D4-DAFBD0EAC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87DE1-F860-4042-B849-4E961F97F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7F87C-30A3-4C94-8820-17832BA71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84DFC-A7EF-4FD3-8A43-76447A07E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99860-6621-4768-BF89-7F53A380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21D9-BF91-459F-BEA1-E145511C9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81749-2467-4B23-9454-EA90FAB66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AB107-5633-4149-AA99-F1D42D02C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2A27F-C82D-4C08-8579-81E39F827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73B3D-BFAA-436B-B90E-070B239C1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3F8CE-AC03-4F3F-8CBB-C71FAD7E8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905A-36B1-452B-8B63-483019534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9E978-2E5F-435E-869F-198038520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B8A56-99F6-4068-82AD-12EBE3E12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1F27-BB84-4954-AC0E-71F9AA7E5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D969-6DCC-4E62-B5F1-9409F6962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CED4-A8AE-458B-88EB-4FDAACA59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EA5A0-3441-4B4A-8FD0-3AD5DF8AE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1AD0E-59D2-49E8-8EA7-4146B1199EF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E766F-EF5B-49D8-986F-4504F5B0026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0488F-4FEE-4197-A023-A71CB929203D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6BC1C-6DC3-4DBF-A4FD-45AD101C8DC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u=2287152906,2937462981&amp;fm=21&amp;gp=0" descr=""/>
          <p:cNvPicPr/>
          <p:nvPr/>
        </p:nvPicPr>
        <p:blipFill>
          <a:blip r:embed="rId1"/>
          <a:stretch/>
        </p:blipFill>
        <p:spPr>
          <a:xfrm>
            <a:off x="165240" y="12600"/>
            <a:ext cx="8788320" cy="68104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4000" y="648324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31600" y="503280"/>
            <a:ext cx="365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元硬币</a:t>
            </a: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片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F686C-5F9D-4CC1-8A33-00D060DC0FF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2:41:36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