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B81F-5016-4284-9A67-4FEB6964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A4FB-0C1A-43A0-B870-73C12EC7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1054-FC55-442B-8C7F-36874A74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451-8EE9-4C81-A9F0-00C039F5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DB4B-7BA0-4BEC-9090-DEED28C0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0976-F355-435B-8743-DDFFBA71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9325-AE8D-4CEA-ABAD-6D8E72D3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5EC3-DAF2-47FF-BF0F-6CEE9042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3304-82A5-41BE-A5CC-7A96A63F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06F2-E466-4095-926A-71BD88EF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2772-5325-4F7D-9FF3-9A3C4496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810-CF6A-46BA-A04E-BEDE25A0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F520-16F4-486A-850F-648ECE4C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7AEC-7615-4860-B769-89C1E198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1BE5-D796-4614-8E87-B1CE2388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1250-77F2-4DB7-97C9-25EEA72E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A658-B076-446B-B4F7-42C2C4C7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B52-1DFA-4705-A072-205119CD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3A27-BEBB-4BE8-B1CB-39BF9840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238-ACE1-4BEB-BE5E-90C4B204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B6CF-F21D-462E-B843-C5FDEC93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BA62-9F02-467B-A5E0-40575C21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5711-BD04-4BC7-8EAB-EA9C201B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350-013C-4F49-BBB9-8D55CE36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4266-C408-48A0-BB3E-450E32A3D8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0E7E-FF4C-401E-9532-11BAFDEA8C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4643280" y="4071960"/>
            <a:ext cx="52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4786200" y="50720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爽主题及相关类别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2344680" y="9079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炫彩美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214280" y="100008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1285920" y="4429080"/>
            <a:ext cx="35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6715080" y="4214880"/>
            <a:ext cx="14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0"/>
          <p:cNvSpPr/>
          <p:nvPr/>
        </p:nvSpPr>
        <p:spPr>
          <a:xfrm>
            <a:off x="3786120" y="4429080"/>
            <a:ext cx="35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"/>
          <p:cNvSpPr/>
          <p:nvPr/>
        </p:nvSpPr>
        <p:spPr>
          <a:xfrm>
            <a:off x="1223640" y="1058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37119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6640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/>
          <p:cNvSpPr/>
          <p:nvPr/>
        </p:nvSpPr>
        <p:spPr>
          <a:xfrm>
            <a:off x="6712560" y="5572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/>
          <p:cNvSpPr/>
          <p:nvPr/>
        </p:nvSpPr>
        <p:spPr>
          <a:xfrm>
            <a:off x="3997800" y="571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69267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24260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2283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1191960" y="1000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6426720" y="571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62838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5564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19:3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