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09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6D63-A594-4141-BDDA-6F8AC4B3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2DFA-1835-4CE4-BFD5-C8F32066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ECC5A-2EE4-422E-BF5E-68B7B504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CE0C2-3EC8-446F-90AD-281289C8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16E3C-68BF-42AD-BEC9-FC76F5DC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30278-4F45-42DC-BFE2-BFA778BE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39735-6229-4151-9EE5-84BE2714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A3E67-887C-467D-B495-AE96C71A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6772D-125C-4051-A66A-1F4A3BF4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CFCBE-60EA-4373-973E-95C09918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D20D0-33BD-4FD4-886C-3B3BEFA8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33E08-0B2C-4442-BA95-15933473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9876-8FBC-4E32-AC86-3E8EE49B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6E639-9703-4C55-8D31-DD6BB634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7CDE6-CE7F-4B16-A15C-FC2ADFFE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2F11B-A523-4355-8C62-98B032B8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D5FF5-9BE3-4688-A991-D7E131B8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F24E8-032C-4863-BA46-148C7A8B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6DF21-CB7A-43F3-8F56-581D7833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E13C0-59C5-49E7-A8CC-9774B9B3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449FD-1A10-48E7-BA40-894FD794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71BA7-7314-4275-95FF-3E1FA607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B2848-A63F-4735-B5B2-5CDEC3F4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ADEB-4468-41EA-A510-8A0E4923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A5E1D-FC37-48C0-9B53-0D3011B5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70D03-F2EB-47AC-8E91-4F4739C1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F58F7-74FC-41CA-8349-A11D74CF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8DE73-8F4F-4A25-911C-EF61A7D7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DEEDB-5646-4E4D-93D1-A310DF3B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6BEFD-FEBB-4EA0-B313-BD2DA22E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19FA1-2FD1-4BF5-8743-DF6E0324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3FD31-5E0E-402E-89F8-AAE07806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96BBB-B8B6-45BB-99D8-2F4E3DB3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4B1B2-7C74-426B-8E0E-971F80DD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65FD-7405-455C-AAA5-552D091F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5CA3D-33AD-4D07-8DDC-21B8BB76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67FC1-D284-4F8C-98BE-227AE22F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77BE3-3230-4F1A-8DF2-C6468480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05BD5-21D5-4FE5-B9A5-86B158F2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F1BEE-A31D-4D73-AD98-0F8C3103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6BD6E-3CC8-4A26-8F06-CBDB69DE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88475-EBF1-4BCF-B4F7-1A8A2ED2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03EB6-46E3-4649-89C9-32D1DDD4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8ADB8-FF65-46FF-9708-D6450058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A37AE-7F8F-47A7-9D53-53C99302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FDAA-DA08-4061-861B-C31B8967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F1B4A-527F-44DC-B43E-EF17B04E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2953D-96F2-40C7-9250-A5B4A2C3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3CF95-AB07-4919-B689-D55EA6DC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AD749-5272-4FE8-9C23-5A83F6ED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A0F6B-E103-4105-8697-07006712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051E88-5334-4BC3-B177-28165E7F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06CA63-8563-448E-8E7A-CF22A7E9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C237C5-96C3-44C4-97EC-691D163C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E8B98F-82B2-43F1-9261-534ACEAB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605A5E-31A4-4DB6-8C21-8BD62A83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1D17-1C57-4E2B-9475-2972E568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DD2E63-956D-408C-9ADD-43217DBE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53E32-C5CF-475A-B4B4-24E49696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CB164C-13F0-4E77-B499-CB6A396D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69F716-F452-4C93-B8A8-7259AE8F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6069E4-643C-49C3-AECD-7432EACA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96911-D51D-43CA-A7B4-2F4FB564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D5DDA8-69EE-4B00-8ADA-4F60783E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A659F8-C30D-4B6B-BC5C-39A763D1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1FF05C-1E11-4439-986B-000CF3C5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FB7923-EE12-4EDD-ABB1-6B8BD792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C107-EE0F-42D3-B8C3-7C1036CA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C7614-A3C5-4585-946E-5294862E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B86AD3-63E0-4749-B40B-8232A901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E524A1-FD07-455C-8E73-1E40BF38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660CFE-7213-49CA-9779-9D89F87C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D7F08D-ECB6-4C4C-9EB8-25801584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7ED7C5-59F0-44DE-8F69-1B6D6FC7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B61F9D-21F5-4162-BCC4-FE9AD88F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B7C41C-E155-45AC-84DD-C52456F5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792232-B8DE-467B-9312-D93ED97C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5B5B-65FC-440A-A2C6-E78B73E0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3F24-7A92-4FEE-BB03-1AAF819E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6FEF-0BB3-4C5D-9CD9-8BFB6ABE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45C-DCB9-457E-BB6A-898402B6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E0C6-9569-4218-8FAC-B6175852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01EC-ACF0-4EB6-9795-D7C9AB43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B07B-F6AE-4865-B01C-FF8C17FB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FADC-5D49-4BF8-9598-877E2F4C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3B49-EF52-45A0-903F-7A7127DF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9FAA3-0435-4AF4-BC1D-B526A433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D468A-BA06-48DC-AE14-179C53EA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02C23-DB80-4156-8913-CBA1CAB4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B9C0B-1E96-48C0-9E67-D9DCABA0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14E8F-FC69-490F-B12F-41D4D9E8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8ED-CE65-445F-9EE9-23E62D6A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3C3F1-005F-44BC-9A12-7ED05E90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A4F55-ECC0-4BCA-AD8B-6A9850CD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1CDD2-481E-4AEE-A681-44D2FFB2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9EC8B-B7B3-4AEA-8EAD-14BAFEF4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39006-9760-450B-98E8-114F9253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EA1F6-D30F-4CA3-999E-0F260F94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492E3-7E6A-41DF-AE0E-87C0DD90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6DA88-D929-4D0A-872A-CBCF6C63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A82B8-CBB9-4BC5-BE39-BC4C796E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A48BB-41B7-4024-AA71-0F6C16A6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805-4ABD-44F2-AF11-6268A2A7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A6BE1-99DF-4266-AE13-90B70AC7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93E80-1192-4F7F-A7C9-6A7B6C19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94945-447D-43E8-A3AB-B7D5F2DE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D4685-25E9-41C3-B079-EDAF337F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36477-E6B4-4585-950D-EA5DCDB1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50700-CC13-4D6E-A671-6CC7E237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11D8E-B34E-411C-8163-38256305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486AD-F10B-4DD0-8092-3BFDA3B6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4C276-D0E7-4B29-8045-30D7BF32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2E638-FEC4-42C0-812C-DDA649B2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844D-44F6-4BCA-8943-8C17F149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79C0F-51E5-48AC-B039-FD22C8AF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273A6-DBF1-486E-B49C-E401AB84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B25A0-E3DE-458B-9C97-7995681B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22C93-3A3D-4C9B-ACDB-643BE222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2C6F6-65E6-4E2A-BD01-5C9F26CE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E7BB0-F2CB-4C73-B545-3AB854DA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08F26-8DDB-4C19-BFD7-8D46D530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0A2A5-4956-426E-9D2F-8CCC8808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261D8-9F78-4163-904C-ADCEF345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6FCEB-C315-4F02-85A0-9723E765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00AC-1D42-4C94-AC2F-FE280F38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AB840-0241-4479-B882-8A4100A1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D2385-4CB9-4588-814D-7A9F8A06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CCB3A-CB49-4971-89B4-ED3A6C07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006E1-5111-490A-B754-86E0D4BC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AD42B-FD5E-417B-816F-3E4E67E9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6C086-6EA8-4E80-A46D-FB4E37A4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76D31-58CB-4252-B945-96ACF4F2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E09DD-692E-45E1-B304-7A9921A6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ADA48-D1F3-47B4-8E5E-E455729B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A6702-C40C-4CCB-8F81-294A5444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5304-C2DD-4950-9310-13A31F00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CED49-4BE5-4D8D-93A1-D2F3DFDB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E52AD-DB34-486D-AAF6-A6445DE7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3A1E3-C2D6-4AEE-816D-ABF33077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3C1B0-3D21-4C77-84FD-A17267C9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E2C20-FE61-4DEF-8A79-8AD0AA7C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CAB8E-037B-4C0B-9F92-C397C851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9669C-CB91-435C-938A-0DC2D282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05DBC-B660-4D23-9B8C-FDAA6F81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FF7A5-282A-4F6A-B33E-2AE02C31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63E2F-F479-4378-ABC6-0C9B2312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E992-7D0B-466D-ACE8-C045C472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8DC41-4721-4DA2-B468-B36AC887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E57E6-0AA1-40BD-9AD7-BCB3B240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CBDFF-BFB5-4C8A-BF6E-00055A63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3A410-FF66-40E7-A99F-C22E724F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33194-12EF-439A-9768-E48040C6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3125E-3DCE-43F5-B242-4BD1EB56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8486C-5F6C-431C-9E87-47C6081B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2E4B8-9E56-40E6-901D-A490194F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53F8C-D1ED-45DA-9A59-4DA36F2D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BE5DF-AFE2-478D-869F-02241893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5815-7001-4205-B469-356C6890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69A16-D521-40F5-B97C-80BDB116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D91B6-2297-48F1-978F-B0408AF7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1A7FD-67DD-4389-B0D8-FEDB4988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BCE4E-859C-4AB0-B98A-D30F65F0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B6BE2-C6FE-4394-85C6-9D566E9D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E3FD1-BA44-4E5E-AA23-F6D4240D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D74BA-462D-499A-9280-FA25D326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73266-445E-4A66-AAE4-55F33C42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9A4B3-6200-4B68-8BD4-E70ACA1E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86916-F628-46D1-9F8A-F019C0E9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42236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5624280"/>
            <a:ext cx="16765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624280"/>
            <a:ext cx="28958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624280"/>
            <a:ext cx="17528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09FB-AA4D-48D7-9090-4F7B6EBCB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240" indent="-253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592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236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64984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2B39-EE2B-40F9-B9F8-AA4F5CB57439}" type="slidenum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240" indent="-253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592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236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64984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A4C7-F638-4812-8D98-1EF67C2B74B9}" type="slidenum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240" indent="-253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592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236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64984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5A32-B98A-406D-944A-9339F3C3DE68}" type="slidenum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240" indent="-253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592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236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564984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4D7B-7F7D-4BE6-9DB1-373D5585E10F}" type="slidenum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240" indent="-253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592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236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564984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EE30-139C-4107-A72D-9C92B71FD1A8}" type="slidenum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7720" y="142236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56720" y="5609880"/>
            <a:ext cx="21337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609880"/>
            <a:ext cx="28958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609880"/>
            <a:ext cx="1828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2CDC-0589-4440-9879-85FB32A26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240" indent="-253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592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236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64984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4C7F-F93A-4BC2-8FFD-D1E307B104F2}" type="slidenum">
              <a:rPr b="0" lang="zh-CN" sz="10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240" indent="-253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592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236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64984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CD56-CAE9-4E15-8965-599A84D4F261}" type="slidenum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240" indent="-253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592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236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64984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1B15-D8F4-4D0A-9466-29038760501A}" type="slidenum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240" indent="-253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592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236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64984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365C-AA10-49D1-966C-AA8D6F3F82AC}" type="slidenum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240" indent="-253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592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236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64984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E641-5507-4F3E-9512-22DC61E91877}" type="slidenum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240" indent="-253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592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236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64984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DDF0-EF04-4036-A0CA-CE4F341C67E0}" type="slidenum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240" indent="-253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592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236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03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64984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64984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8ABB-C429-4211-B5E4-719C623896D0}" type="slidenum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矩形 1"/>
          <p:cNvSpPr/>
          <p:nvPr/>
        </p:nvSpPr>
        <p:spPr>
          <a:xfrm>
            <a:off x="2678760" y="30492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国风之笔墨卷香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3"/>
          <p:cNvSpPr/>
          <p:nvPr/>
        </p:nvSpPr>
        <p:spPr>
          <a:xfrm>
            <a:off x="256320" y="5562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一下添加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标题和文本格式的设置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默认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首页主标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加粗；副标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加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页标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）加粗；内页内容文字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号（宋体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1752480" y="240048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谢谢关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143000" y="51055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23760" y="168120"/>
            <a:ext cx="72964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3360" y="1128600"/>
            <a:ext cx="793728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yingxiao/   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6985080" y="297000"/>
            <a:ext cx="1235160" cy="309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09:14:2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16:2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