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24B-DA08-4F10-AA57-150AAED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D81-9073-4FBF-89E9-C456EDAA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1E5-C957-4364-BC44-256C1E7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226-FC8A-49E4-93B4-59D36BA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C031-D358-4903-AB34-2CA4E66B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A68-2AEF-4439-BE95-3734B8C2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9C1-41BF-463C-A54E-C3863AB0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7375-17F1-44FF-836F-FF606079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33E-6D14-48B8-ADC7-190C211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C1B6-42AF-496A-860D-FFED9AE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AE0-464D-4881-B672-C9524FA5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1CF-CC53-46F9-BC1A-B482CBB8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1477-2B12-49C0-B7FD-77009B5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B9B-5246-4E18-8F00-103B100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D68F-F8E3-41E8-A7EA-C92D6B92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A567-06E0-42C1-91AA-53BB4C77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5662-F6ED-4D27-BC3B-E9E38D58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A08-C9F6-40BD-98BA-82E19799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559D-BE90-4E57-8F17-F7EEF12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BC9-B366-44A1-8135-D118C092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833-6357-4B88-9562-4BD8B4F3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A94-E026-46F0-A01D-C7E2A7F1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7F9-B0B3-4942-A74D-509DC0C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64C-8F9F-4778-87A1-BB122B99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960-5302-4CB1-8601-2C7CD6A8C9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0246-C026-4CC3-9F39-72AA1B2D3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A47-3E19-4612-BC06-57DC7E4CA2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C784-CD89-4FC4-B03D-313EF02A51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3200" y="212760"/>
            <a:ext cx="8353440" cy="6396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440" y="6553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52080" y="531720"/>
            <a:ext cx="47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中国结</a:t>
            </a:r>
            <a:r>
              <a:rPr b="1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D268-4282-4183-9614-38E690213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