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612313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6A6-8CE2-404A-8D3B-34C0B1E6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378-3E21-42CE-B3FD-4D7ED3E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C49-CF04-440E-B819-A4F28394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5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0600" y="155376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5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0600" y="3849840"/>
            <a:ext cx="278532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2EE-7A94-4468-97BE-D86B9AE7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722-AEDD-40B5-AAEC-6005D288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5FD-0218-46E4-987B-73C20C5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0FA-5C63-4A88-9C51-965C954F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92AB-871D-45BD-93F0-E40CEBE4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0600" y="266760"/>
            <a:ext cx="865044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206-3C94-4590-A46F-A082D526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623-5E20-42FC-A074-D0FCA5B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384984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647-629F-4D24-B28A-0CE30AA0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060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1553760"/>
            <a:ext cx="4221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0600" y="3849840"/>
            <a:ext cx="865044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9174-4FBD-4389-903A-EA364C8B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0600" y="266760"/>
            <a:ext cx="8650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600" y="1553760"/>
            <a:ext cx="8650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60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4280" y="6065640"/>
            <a:ext cx="304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9320" y="6065640"/>
            <a:ext cx="22417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5791-16AE-4B85-B739-E79AAF21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54400" y="313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90000" y="2251080"/>
            <a:ext cx="3310200" cy="3900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14880" y="90360"/>
            <a:ext cx="345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总结会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183960"/>
            <a:ext cx="862956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480" y="1233000"/>
            <a:ext cx="9385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659720" y="324000"/>
            <a:ext cx="1461960" cy="339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B4A-74B9-4D3C-A74F-163E7C1B23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78360" y="235080"/>
            <a:ext cx="652680" cy="568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迷你简汉真广标"/>
              </a:rPr>
              <a:t>新春年会—总结大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1640" y="977400"/>
            <a:ext cx="5761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添加栏目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8:11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