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6FB-DD00-456F-830F-A4027918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4FD-BB93-4BB0-96CD-3041B7D2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10D-4E1E-46CE-B639-E71C0AE5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156-B5D9-4453-87FC-88C03455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7687-4E31-4566-AEA2-DABEE9A6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47BE-97C1-47DC-957B-4230D81E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458C-B005-4939-8C4A-1332FC57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7A3E-1CFE-4873-83DE-A4C350A5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4040-D3F4-4C86-87B0-1BF9D45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86E7-EF2C-45D2-9C92-4D4A3CE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0F01-CD47-4638-949C-82D32169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375-AE70-4841-BC35-77AE41BE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C79A-6A20-4DB9-BC2A-9E1D09D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276B-7808-4988-B7D3-7C7DB802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1BA-A224-4492-BFD3-98E4F1EF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5D02-A788-42F2-AC5E-129AA0A8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F8FC-4E9E-46F1-A9CD-C4B77356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9D5-5E9F-4AB6-AB1E-C4AF3DC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55C-5267-4D62-9837-F99F6D20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517-92F8-449B-80ED-630A9436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142-0AFD-4EBE-9A5A-22AA34C9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746-67E4-4D2C-BF4B-DEC4C34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174-2539-47BA-A31B-A03255DA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B8A-A3C9-4C1B-B8F0-71685750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A77E-D482-49D5-A65A-8E2C9B658994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262A-DD4F-4440-BAD4-A25677D1FC3C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F156-EC21-474A-B577-80551199E928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571720"/>
            <a:ext cx="2849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571720"/>
            <a:ext cx="21002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8C37-295D-408F-BEA4-DDF4EB8397AD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g_blurred_backgrounds_5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妩媚紫渐变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31840" y="5667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wg_blurred_backgrounds_5"/>
          <p:cNvPicPr/>
          <p:nvPr/>
        </p:nvPicPr>
        <p:blipFill>
          <a:blip r:embed="rId1"/>
          <a:srcRect l="0" t="0" r="0" b="79490"/>
          <a:stretch/>
        </p:blipFill>
        <p:spPr>
          <a:xfrm>
            <a:off x="0" y="4778280"/>
            <a:ext cx="89996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640" y="240840"/>
            <a:ext cx="678672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63640" y="1403280"/>
            <a:ext cx="678672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wg_blurred_backgrounds_5"/>
          <p:cNvPicPr/>
          <p:nvPr/>
        </p:nvPicPr>
        <p:blipFill>
          <a:blip r:embed="rId1"/>
          <a:srcRect l="52658" t="0" r="29523" b="0"/>
          <a:stretch/>
        </p:blipFill>
        <p:spPr>
          <a:xfrm>
            <a:off x="0" y="3240"/>
            <a:ext cx="16034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384800" y="1990800"/>
            <a:ext cx="10587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467160" y="3392640"/>
            <a:ext cx="1587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41640" y="1990800"/>
            <a:ext cx="1060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2638440" y="1179360"/>
            <a:ext cx="3332160" cy="3332160"/>
          </a:xfrm>
          <a:custGeom>
            <a:avLst/>
            <a:gdLst>
              <a:gd name="textAreaLeft" fmla="*/ 487800 w 3332160"/>
              <a:gd name="textAreaRight" fmla="*/ 2844360 w 333216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19625" y="14829"/>
                </a:moveTo>
                <a:cubicBezTo>
                  <a:pt x="20203" y="13564"/>
                  <a:pt x="20502" y="12190"/>
                  <a:pt x="20502" y="10800"/>
                </a:cubicBezTo>
                <a:cubicBezTo>
                  <a:pt x="20502" y="5441"/>
                  <a:pt x="16158" y="1098"/>
                  <a:pt x="10800" y="1098"/>
                </a:cubicBezTo>
                <a:cubicBezTo>
                  <a:pt x="10799" y="1098"/>
                  <a:pt x="10798" y="1098"/>
                  <a:pt x="10798" y="1098"/>
                </a:cubicBezTo>
                <a:lnTo>
                  <a:pt x="10798" y="0"/>
                </a:lnTo>
                <a:cubicBezTo>
                  <a:pt x="10798" y="0"/>
                  <a:pt x="10799" y="0"/>
                  <a:pt x="10799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347"/>
                  <a:pt x="21267" y="13877"/>
                  <a:pt x="20624" y="15285"/>
                </a:cubicBezTo>
                <a:lnTo>
                  <a:pt x="23080" y="16407"/>
                </a:lnTo>
                <a:lnTo>
                  <a:pt x="18775" y="18012"/>
                </a:lnTo>
                <a:lnTo>
                  <a:pt x="17169" y="13708"/>
                </a:lnTo>
                <a:lnTo>
                  <a:pt x="19625" y="14829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2576520" y="1284120"/>
            <a:ext cx="3332160" cy="3332160"/>
          </a:xfrm>
          <a:custGeom>
            <a:avLst/>
            <a:gdLst>
              <a:gd name="textAreaLeft" fmla="*/ 487800 w 3332160"/>
              <a:gd name="textAreaRight" fmla="*/ 2844360 w 333216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2898" y="16429"/>
                </a:moveTo>
                <a:cubicBezTo>
                  <a:pt x="4718" y="18984"/>
                  <a:pt x="7662" y="20502"/>
                  <a:pt x="10800" y="20502"/>
                </a:cubicBezTo>
                <a:cubicBezTo>
                  <a:pt x="14265" y="20502"/>
                  <a:pt x="17468" y="18653"/>
                  <a:pt x="19201" y="15652"/>
                </a:cubicBezTo>
                <a:lnTo>
                  <a:pt x="20152" y="16201"/>
                </a:lnTo>
                <a:cubicBezTo>
                  <a:pt x="18222" y="19542"/>
                  <a:pt x="14657" y="21600"/>
                  <a:pt x="10800" y="21600"/>
                </a:cubicBezTo>
                <a:cubicBezTo>
                  <a:pt x="7307" y="21600"/>
                  <a:pt x="4030" y="19911"/>
                  <a:pt x="2003" y="17066"/>
                </a:cubicBezTo>
                <a:lnTo>
                  <a:pt x="-196" y="18633"/>
                </a:lnTo>
                <a:lnTo>
                  <a:pt x="565" y="14102"/>
                </a:lnTo>
                <a:lnTo>
                  <a:pt x="5097" y="14862"/>
                </a:lnTo>
                <a:lnTo>
                  <a:pt x="2898" y="16429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2514600" y="1179360"/>
            <a:ext cx="3333600" cy="3332160"/>
          </a:xfrm>
          <a:custGeom>
            <a:avLst/>
            <a:gdLst>
              <a:gd name="textAreaLeft" fmla="*/ 488160 w 3333600"/>
              <a:gd name="textAreaRight" fmla="*/ 2845440 w 333360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9878" y="1141"/>
                </a:moveTo>
                <a:cubicBezTo>
                  <a:pt x="4899" y="1616"/>
                  <a:pt x="1098" y="5798"/>
                  <a:pt x="1098" y="10800"/>
                </a:cubicBezTo>
                <a:cubicBezTo>
                  <a:pt x="1098" y="12503"/>
                  <a:pt x="1546" y="14176"/>
                  <a:pt x="2397" y="15651"/>
                </a:cubicBezTo>
                <a:lnTo>
                  <a:pt x="1446" y="16200"/>
                </a:lnTo>
                <a:cubicBezTo>
                  <a:pt x="499" y="14558"/>
                  <a:pt x="0" y="12695"/>
                  <a:pt x="0" y="10800"/>
                </a:cubicBezTo>
                <a:cubicBezTo>
                  <a:pt x="0" y="5232"/>
                  <a:pt x="4232" y="577"/>
                  <a:pt x="9774" y="48"/>
                </a:cubicBezTo>
                <a:lnTo>
                  <a:pt x="9517" y="-2639"/>
                </a:lnTo>
                <a:lnTo>
                  <a:pt x="13060" y="286"/>
                </a:lnTo>
                <a:lnTo>
                  <a:pt x="10135" y="3829"/>
                </a:lnTo>
                <a:lnTo>
                  <a:pt x="9878" y="1141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53830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 rot="5400000">
            <a:off x="910440" y="147960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175248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066760" y="132084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5400000">
            <a:off x="911160" y="2680560"/>
            <a:ext cx="1359000" cy="95076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116000" y="2952720"/>
            <a:ext cx="95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066760" y="251928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 rot="5400000">
            <a:off x="910440" y="387684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116000" y="414972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2066760" y="3718080"/>
            <a:ext cx="58374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1440" y="165240"/>
            <a:ext cx="7196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5360" y="1112400"/>
            <a:ext cx="782820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6880320" y="291960"/>
            <a:ext cx="1217520" cy="30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wg_blurred_backgrounds_5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558800" y="5238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0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