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2022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042-E0E6-44F6-A212-6C1F0B81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07080"/>
            <a:ext cx="822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F83-97D9-4079-8360-76041C8E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19B-5288-428D-8E4E-697CE078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070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070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070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8C1-8FA9-419D-88C5-1CA43AC9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BDF-6B47-4785-8A6F-B2BD7070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92B-FC04-4FDA-A9F4-7163FAA2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32A-2A62-433D-B3F8-3F9B3DFF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6DF-3EC5-4BAF-A2DE-B74E26F2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BB06-BB66-4FC6-980E-5B1DA564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CC9-9919-4B5B-B7F7-D0E7FE7F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9B0-4D2F-498A-8944-A6D90B41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07080"/>
            <a:ext cx="822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1F9-452D-4214-BB2B-3D0E4CB5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36880"/>
            <a:ext cx="21337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36880"/>
            <a:ext cx="28958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36880"/>
            <a:ext cx="21337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5FE2-D0FA-4C19-947B-530584B67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963720"/>
            <a:ext cx="8928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252360"/>
            <a:ext cx="1388880" cy="265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404-C055-47CB-8CBA-8462D4ED31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044360"/>
            <a:ext cx="842472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252360"/>
            <a:ext cx="1388880" cy="265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541440" y="3203640"/>
            <a:ext cx="828180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6:26:4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3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