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C62-F194-4A38-AE2B-2F85C98B9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7B6-5E2B-449B-839C-99B01882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C5B-BC77-4CF9-9F1C-02E8F934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DC8-0199-4E03-B6D9-DE721377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F357-338F-4BFE-A329-6E5E7BBE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4369-5C2D-48D6-B89E-D28D1B7C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A73C-011C-4C8E-8394-EFD695FE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5D10-E192-4E7B-9117-C2707759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151D-C25C-4148-9C1A-C0D3B590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8034-8107-4425-99FD-5DA57E1D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4409-B3FF-4186-B3BC-FE1E4A29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6D9-0A84-44D6-AA55-910C60CF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2B12-B44D-41BF-BCE1-47F9CFEA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40AE-D44A-427D-AC7D-B961D92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46C8-2766-445D-93F0-C9A5673B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A2FB-3C24-4D7E-92B5-86C2432E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7657-BDD4-43C8-8A36-CB7DB48F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E87-B01C-4016-854C-07C190C6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BB4-9E91-41F0-B6B9-736B623F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FC7-70C2-4F47-B8BC-BB07E8DE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723-99A8-4EA4-BC7D-F1BE9732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65C1-BFB9-4597-8D85-EA196F3D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F87-7BC3-41A4-B07C-26F5A847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6E67-D6C4-4C50-936B-52423E11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9759-F65F-4D66-AE51-AE512D20C34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6723-9585-4B91-875B-1295258BF0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5793480" y="2421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中秋佳节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/>
          <p:cNvSpPr/>
          <p:nvPr/>
        </p:nvSpPr>
        <p:spPr>
          <a:xfrm>
            <a:off x="221760" y="3573360"/>
            <a:ext cx="8899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bfbfbf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bfbfbf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bfbfbf"/>
                </a:solidFill>
                <a:latin typeface="Calibri"/>
              </a:rPr>
              <a:t>模板：</a:t>
            </a:r>
            <a:r>
              <a:rPr b="0" lang="en-US" sz="400" spc="-1" strike="noStrike">
                <a:solidFill>
                  <a:srgbClr val="bfbfbf"/>
                </a:solidFill>
                <a:latin typeface="Calibri"/>
              </a:rPr>
              <a:t>www.1ppt.com/jieri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3449880" y="17035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佳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76776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767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39040" y="4221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39040" y="522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848040" y="234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991680" y="443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4740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128120" y="5079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864120" y="5084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136040" y="90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055240" y="354060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508200" y="3933720"/>
            <a:ext cx="729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354280" y="3870360"/>
            <a:ext cx="729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965640" y="3905280"/>
            <a:ext cx="7290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923840" y="479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288480" y="4797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084920" y="558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9904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7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5351760" y="17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655400" y="162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23410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50180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71148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106640" y="65484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20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