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2CA-05DE-4BA6-9962-025ED573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7E5-83D7-4FF8-84AA-1856F58A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E6D-BDC1-4B6E-800E-09CA4505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B76-A20B-43A6-81AC-6B341C5E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D10-9A1C-4AB7-88BD-C3C3E2C3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6CA-D207-4B53-8E55-28F28285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3E4-3E04-499F-80B4-964ED90E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09D-B631-49E8-ADCC-6E57A863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560-BF22-4FBD-8670-42AEAB8E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7A3-65A3-47A8-B4F2-779EFF1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349-C5B6-4D03-81C7-DCD07834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F79-E902-44B2-8212-D6B81BC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9968-82ED-4044-8E44-DD7E50230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08000" y="-2700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429080" y="3286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560" y="44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植物学百合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0021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8BF-37B4-495C-89D9-76B527E834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6:36:19Z</dcterms:created>
  <dc:creator/>
  <dc:description/>
  <dc:language>en-US</dc:language>
  <cp:lastModifiedBy>fnzxedu.com</cp:lastModifiedBy>
  <dcterms:modified xsi:type="dcterms:W3CDTF">2015-07-20T11:48:20Z</dcterms:modified>
  <cp:revision>3</cp:revision>
  <dc:subject/>
  <dc:title>更多精品资源尽在20学库网 http://www.20xk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