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F91-DCF9-4CE1-8F70-3C122E7A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BF1-2C2B-49F5-B503-3277BD2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B7C-5C84-4C56-909B-CB512A08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857-BA52-46C6-8899-58604E46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B0A-C2A1-4533-B7E3-BBB54770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264-0810-4664-B909-8460DA7F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4411-43DB-4802-848C-2CC02AB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A8A6-87CE-41A1-A58C-776BA9D5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215-83FE-428E-9FD1-6F97E54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17C-E718-4007-A828-BC89D37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35E4-84D4-4C48-B0AE-4133863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F47-1E16-482D-A83E-0FC3CCC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D762-AE91-45CA-B029-45FFEAE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F6C-9A07-44EF-BB43-66AC0E5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B80C-BE1D-4E27-ABBA-3F9E32AE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6863-17B4-4E02-B8EC-6AFD5EC8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1EC-46F6-4D68-9935-C6301E09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AD5-6560-4EEA-9553-B8B979E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BC1-D1A8-4054-8F73-19CE708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EE6-E997-41D4-9FFE-C6328525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B4B-56B6-4826-AE75-DC7656D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7BA-CDBC-4E04-A3B4-1163FCB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B27-9135-4F97-862A-18C7252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C95-E1EF-437D-B7DE-1C2ADB8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60E4-387A-4F83-8B5B-8489DA89B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80360" y="61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华文隶书"/>
                <a:ea typeface="华文隶书"/>
              </a:rPr>
              <a:t>By L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858-871F-4BAD-AA52-8678C093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>
            <a:off x="828720" y="1844640"/>
            <a:ext cx="7777080" cy="26607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365120" y="197496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278136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852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组织结构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47640" y="907920"/>
            <a:ext cx="6119640" cy="4824360"/>
            <a:chOff x="1547640" y="907920"/>
            <a:chExt cx="6119640" cy="4824360"/>
          </a:xfrm>
        </p:grpSpPr>
        <p:sp>
          <p:nvSpPr>
            <p:cNvPr id="89" name="_s1043"/>
            <p:cNvSpPr/>
            <p:nvPr/>
          </p:nvSpPr>
          <p:spPr>
            <a:xfrm>
              <a:off x="3132000" y="907920"/>
              <a:ext cx="2952720" cy="720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154764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277164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3"/>
            <p:cNvSpPr/>
            <p:nvPr/>
          </p:nvSpPr>
          <p:spPr>
            <a:xfrm>
              <a:off x="414000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3"/>
            <p:cNvSpPr/>
            <p:nvPr/>
          </p:nvSpPr>
          <p:spPr>
            <a:xfrm>
              <a:off x="5435280" y="2563560"/>
              <a:ext cx="863640" cy="3168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3"/>
            <p:cNvSpPr/>
            <p:nvPr/>
          </p:nvSpPr>
          <p:spPr>
            <a:xfrm>
              <a:off x="6804000" y="2563560"/>
              <a:ext cx="86328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"/>
            <p:cNvCxnSpPr/>
            <p:nvPr/>
          </p:nvCxnSpPr>
          <p:spPr>
            <a:xfrm>
              <a:off x="1978920" y="1987200"/>
              <a:ext cx="5256720" cy="1080"/>
            </a:xfrm>
            <a:prstGeom prst="straightConnector1">
              <a:avLst/>
            </a:prstGeom>
            <a:ln w="25560">
              <a:solidFill>
                <a:srgbClr val="99cc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572000" y="1628640"/>
              <a:ext cx="0" cy="9349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9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3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564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42920" y="907920"/>
            <a:ext cx="7128000" cy="4608360"/>
            <a:chOff x="1042920" y="907920"/>
            <a:chExt cx="7128000" cy="4608360"/>
          </a:xfrm>
        </p:grpSpPr>
        <p:sp>
          <p:nvSpPr>
            <p:cNvPr id="102" name="_s1037"/>
            <p:cNvSpPr/>
            <p:nvPr/>
          </p:nvSpPr>
          <p:spPr>
            <a:xfrm>
              <a:off x="7307280" y="2636640"/>
              <a:ext cx="863640" cy="287964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2879640"/>
                <a:gd name="textAreaBottom" fmla="*/ 2837520 h 2879640"/>
              </a:gdLst>
              <a:ahLst/>
              <a:rect l="textAreaLeft" t="textAreaTop" r="textAreaRight" b="textAreaBottom"/>
              <a:pathLst>
                <a:path w="21600" h="72000">
                  <a:moveTo>
                    <a:pt x="3600" y="0"/>
                  </a:moveTo>
                  <a:arcTo wR="3600" hR="3600" stAng="16200000" swAng="-5400000"/>
                  <a:lnTo>
                    <a:pt x="0" y="68400"/>
                  </a:lnTo>
                  <a:arcTo wR="3600" hR="3600" stAng="10800000" swAng="-5400000"/>
                  <a:lnTo>
                    <a:pt x="18000" y="72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42920" y="907920"/>
              <a:ext cx="6625080" cy="4608360"/>
              <a:chOff x="1042920" y="907920"/>
              <a:chExt cx="6625080" cy="4608360"/>
            </a:xfrm>
          </p:grpSpPr>
          <p:sp>
            <p:nvSpPr>
              <p:cNvPr id="104" name="_s1037"/>
              <p:cNvSpPr/>
              <p:nvPr/>
            </p:nvSpPr>
            <p:spPr>
              <a:xfrm>
                <a:off x="2770200" y="907920"/>
                <a:ext cx="3817800" cy="936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_s1037"/>
              <p:cNvSpPr/>
              <p:nvPr/>
            </p:nvSpPr>
            <p:spPr>
              <a:xfrm>
                <a:off x="104292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_s1037"/>
              <p:cNvSpPr/>
              <p:nvPr/>
            </p:nvSpPr>
            <p:spPr>
              <a:xfrm>
                <a:off x="269856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_s1037"/>
              <p:cNvSpPr/>
              <p:nvPr/>
            </p:nvSpPr>
            <p:spPr>
              <a:xfrm>
                <a:off x="435456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_s1037"/>
              <p:cNvSpPr/>
              <p:nvPr/>
            </p:nvSpPr>
            <p:spPr>
              <a:xfrm>
                <a:off x="586728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/>
              <p:nvPr/>
            </p:nvCxnSpPr>
            <p:spPr>
              <a:xfrm>
                <a:off x="1546200" y="2131560"/>
                <a:ext cx="6122160" cy="108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0" name=""/>
              <p:cNvCxnSpPr/>
              <p:nvPr/>
            </p:nvCxnSpPr>
            <p:spPr>
              <a:xfrm>
                <a:off x="154584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1" name=""/>
              <p:cNvCxnSpPr/>
              <p:nvPr/>
            </p:nvCxnSpPr>
            <p:spPr>
              <a:xfrm>
                <a:off x="313020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>
                <a:off x="471456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629892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4" name=""/>
              <p:cNvCxnSpPr/>
              <p:nvPr/>
            </p:nvCxnSpPr>
            <p:spPr>
              <a:xfrm>
                <a:off x="766728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5" name=""/>
              <p:cNvCxnSpPr/>
              <p:nvPr/>
            </p:nvCxnSpPr>
            <p:spPr>
              <a:xfrm>
                <a:off x="4714560" y="1771200"/>
                <a:ext cx="1080" cy="36108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403280" y="1197000"/>
            <a:ext cx="6119640" cy="4608360"/>
            <a:chOff x="1403280" y="1197000"/>
            <a:chExt cx="6119640" cy="4608360"/>
          </a:xfrm>
        </p:grpSpPr>
        <p:sp>
          <p:nvSpPr>
            <p:cNvPr id="117" name=""/>
            <p:cNvSpPr/>
            <p:nvPr/>
          </p:nvSpPr>
          <p:spPr>
            <a:xfrm>
              <a:off x="3132000" y="1197000"/>
              <a:ext cx="2808360" cy="719280"/>
            </a:xfrm>
            <a:prstGeom prst="flowChartAlternateProcess">
              <a:avLst/>
            </a:prstGeom>
            <a:gradFill rotWithShape="0">
              <a:gsLst>
                <a:gs pos="0">
                  <a:srgbClr val="99cc00">
                    <a:alpha val="87058"/>
                  </a:srgbClr>
                </a:gs>
                <a:gs pos="50000">
                  <a:srgbClr val="ffffff"/>
                </a:gs>
                <a:gs pos="100000">
                  <a:srgbClr val="99cc00">
                    <a:alpha val="87058"/>
                  </a:srgbClr>
                </a:gs>
              </a:gsLst>
              <a:lin ang="54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7280" y="2708280"/>
              <a:ext cx="86328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564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59640" y="2708280"/>
              <a:ext cx="86328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4920" y="2276640"/>
              <a:ext cx="525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0360" y="191628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492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728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9272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95280" y="692280"/>
            <a:ext cx="8424720" cy="4825440"/>
            <a:chOff x="395280" y="692280"/>
            <a:chExt cx="8424720" cy="4825440"/>
          </a:xfrm>
        </p:grpSpPr>
        <p:sp>
          <p:nvSpPr>
            <p:cNvPr id="131" name=""/>
            <p:cNvSpPr/>
            <p:nvPr/>
          </p:nvSpPr>
          <p:spPr>
            <a:xfrm>
              <a:off x="3564000" y="692280"/>
              <a:ext cx="2016000" cy="1080720"/>
            </a:xfrm>
            <a:prstGeom prst="flowChartMultidocumen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565000"/>
              <a:ext cx="2016360" cy="1080720"/>
            </a:xfrm>
            <a:prstGeom prst="flowChartMultidocumen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28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0000" y="2565000"/>
              <a:ext cx="2016360" cy="1080720"/>
            </a:xfrm>
            <a:prstGeom prst="flowChartMultidocumen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7164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672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360" y="4365360"/>
              <a:ext cx="143964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56000" y="2060280"/>
              <a:ext cx="41050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116000" y="3860280"/>
              <a:ext cx="6985080" cy="7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6000" y="206028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59640" y="206028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393192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4000" y="393192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3860640"/>
              <a:ext cx="0" cy="504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01080" y="386064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162864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6000" y="350028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2720" y="342864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720" y="4869000"/>
            <a:ext cx="2016000" cy="1152360"/>
          </a:xfrm>
          <a:prstGeom prst="flowChartAlternateProcess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6920" y="692280"/>
            <a:ext cx="7848720" cy="5329080"/>
            <a:chOff x="826920" y="692280"/>
            <a:chExt cx="7848720" cy="5329080"/>
          </a:xfrm>
        </p:grpSpPr>
        <p:sp>
          <p:nvSpPr>
            <p:cNvPr id="151" name=""/>
            <p:cNvSpPr/>
            <p:nvPr/>
          </p:nvSpPr>
          <p:spPr>
            <a:xfrm>
              <a:off x="3635280" y="692280"/>
              <a:ext cx="2016000" cy="1152360"/>
            </a:xfrm>
            <a:prstGeom prst="flowChartAlternateProcess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2781360"/>
              <a:ext cx="201600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5280" y="2708280"/>
              <a:ext cx="201600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280" y="2781360"/>
              <a:ext cx="201636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69000"/>
              <a:ext cx="2016000" cy="1152360"/>
            </a:xfrm>
            <a:prstGeom prst="flowChartAlternateProcess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6920" y="4869000"/>
              <a:ext cx="2016000" cy="1152360"/>
            </a:xfrm>
            <a:prstGeom prst="flowChartAlternateProcess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34920" y="227664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3280" y="1844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3280" y="38610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34920" y="227664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96000" y="227664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4920" y="436572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6000" y="436572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4920" y="436572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236-55E6-44F6-9595-216F72047E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24000" y="189000"/>
            <a:ext cx="8602560" cy="6400800"/>
            <a:chOff x="324000" y="189000"/>
            <a:chExt cx="8602560" cy="6400800"/>
          </a:xfrm>
        </p:grpSpPr>
        <p:grpSp>
          <p:nvGrpSpPr>
            <p:cNvPr id="169" name=""/>
            <p:cNvGrpSpPr/>
            <p:nvPr/>
          </p:nvGrpSpPr>
          <p:grpSpPr>
            <a:xfrm>
              <a:off x="468360" y="189000"/>
              <a:ext cx="8458200" cy="6400800"/>
              <a:chOff x="468360" y="189000"/>
              <a:chExt cx="8458200" cy="6400800"/>
            </a:xfrm>
          </p:grpSpPr>
          <p:sp>
            <p:nvSpPr>
              <p:cNvPr id="170" name=""/>
              <p:cNvSpPr/>
              <p:nvPr/>
            </p:nvSpPr>
            <p:spPr>
              <a:xfrm>
                <a:off x="4049640" y="189000"/>
                <a:ext cx="11430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06440" y="64620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06440" y="171288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49640" y="1179720"/>
                <a:ext cx="99072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06440" y="224640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25960" y="2322720"/>
                <a:ext cx="99072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06440" y="1179720"/>
                <a:ext cx="160020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88280" y="722520"/>
                <a:ext cx="106668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88280" y="1712880"/>
                <a:ext cx="106668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88280" y="2627280"/>
                <a:ext cx="106668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83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25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90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68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78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878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973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4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97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07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168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263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358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456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590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4944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01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545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689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596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83160" y="493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83160" y="1484280"/>
                <a:ext cx="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83160" y="262728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06640" y="798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83160" y="87480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06640" y="2398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06640" y="1332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06640" y="1865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87880" y="79848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87880" y="13320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83160" y="18655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83160" y="27799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4680" y="18655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4680" y="18655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54160" y="3084480"/>
                <a:ext cx="76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54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876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97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06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164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259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92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6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5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454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549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1644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742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3280" y="4608720"/>
                <a:ext cx="769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636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5436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450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38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642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786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6444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6936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32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4000" y="3213360"/>
              <a:ext cx="360360" cy="11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11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