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5322-2BA8-4791-8E62-98E82F3A8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5C9C-CBAE-46F2-9C6C-304F61D6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B26F-6DF3-4336-9AB0-0B6C3C8BE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EC49-E978-45C1-A122-35C4C0E98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65C4-8B50-45C6-A679-DFCE8712F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12FC-E28A-4E39-A5B7-5C4DD2EB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E1BF-EF9A-4A1C-8E52-22E97233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9663-5F50-48A7-A888-0457DF09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AF5A-506B-42C6-A492-D4189A5C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D5A4-1737-4EA3-87B7-9D50E723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4D4F-229B-42B4-8C4A-B07AD092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EA56-1E33-4EFC-BD49-E485533F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C973-AD27-4088-9FC1-331AC675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F25A-6DF5-4FAE-BD5F-EE913D36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DAC9-66DD-42E8-82BA-D5B04BE4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6A59-1332-461F-9693-7D6BC52BB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0F43-6498-4697-9C5C-EFC5D083B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BAD3-C246-442C-8A4C-0428DA6A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DAB3-4FD5-4662-AEC8-EC772A7D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A9FD-B5E9-4180-8468-F9E68EB5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A9BD-2CB2-43E1-A519-0E2B9DC0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BABF-04EB-4669-8B83-E1645B06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FC66-78A3-4EAB-8549-4BC42F4C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F367-C4D8-44CE-A3FB-80D271BD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F81B-F515-42F6-9D11-C32D6D61C71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1E27-59EE-43ED-B0D4-4B125FEDFA5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C16D-6CA3-4F6F-8F97-74B86143648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4"/>
          <p:cNvSpPr/>
          <p:nvPr/>
        </p:nvSpPr>
        <p:spPr>
          <a:xfrm>
            <a:off x="0" y="-14400"/>
            <a:ext cx="9144000" cy="87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"/>
          <p:cNvSpPr/>
          <p:nvPr/>
        </p:nvSpPr>
        <p:spPr>
          <a:xfrm>
            <a:off x="-7920" y="6041880"/>
            <a:ext cx="9188280" cy="81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 flipH="1">
            <a:off x="3314880" y="6345360"/>
            <a:ext cx="5829120" cy="27612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1" descr="png素材 (276).png"/>
          <p:cNvPicPr/>
          <p:nvPr/>
        </p:nvPicPr>
        <p:blipFill>
          <a:blip r:embed="rId4"/>
          <a:stretch/>
        </p:blipFill>
        <p:spPr>
          <a:xfrm>
            <a:off x="0" y="3240"/>
            <a:ext cx="785880" cy="784080"/>
          </a:xfrm>
          <a:prstGeom prst="rect">
            <a:avLst/>
          </a:prstGeom>
          <a:ln w="0">
            <a:noFill/>
          </a:ln>
        </p:spPr>
      </p:pic>
      <p:sp>
        <p:nvSpPr>
          <p:cNvPr id="87" name="Freeform 2670"/>
          <p:cNvSpPr/>
          <p:nvPr/>
        </p:nvSpPr>
        <p:spPr>
          <a:xfrm>
            <a:off x="2786040" y="6273720"/>
            <a:ext cx="403200" cy="406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1"/>
          <p:cNvGrpSpPr/>
          <p:nvPr/>
        </p:nvGrpSpPr>
        <p:grpSpPr>
          <a:xfrm>
            <a:off x="676440" y="1600200"/>
            <a:ext cx="7708680" cy="3905280"/>
            <a:chOff x="676440" y="1600200"/>
            <a:chExt cx="7708680" cy="3905280"/>
          </a:xfrm>
        </p:grpSpPr>
        <p:grpSp>
          <p:nvGrpSpPr>
            <p:cNvPr id="89" name="组合 57"/>
            <p:cNvGrpSpPr/>
            <p:nvPr/>
          </p:nvGrpSpPr>
          <p:grpSpPr>
            <a:xfrm>
              <a:off x="6415200" y="2592000"/>
              <a:ext cx="1969920" cy="1971000"/>
              <a:chOff x="6415200" y="2592000"/>
              <a:chExt cx="1969920" cy="1971000"/>
            </a:xfrm>
          </p:grpSpPr>
          <p:sp>
            <p:nvSpPr>
              <p:cNvPr id="90" name="任意多边形 58"/>
              <p:cNvSpPr/>
              <p:nvPr/>
            </p:nvSpPr>
            <p:spPr>
              <a:xfrm>
                <a:off x="6415200" y="2592000"/>
                <a:ext cx="1969920" cy="1971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任意多边形 59"/>
              <p:cNvSpPr/>
              <p:nvPr/>
            </p:nvSpPr>
            <p:spPr>
              <a:xfrm>
                <a:off x="6415200" y="2592000"/>
                <a:ext cx="1036800" cy="1971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椭圆 60"/>
              <p:cNvSpPr/>
              <p:nvPr/>
            </p:nvSpPr>
            <p:spPr>
              <a:xfrm>
                <a:off x="7659360" y="3467880"/>
                <a:ext cx="207360" cy="2188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组合 61"/>
            <p:cNvGrpSpPr/>
            <p:nvPr/>
          </p:nvGrpSpPr>
          <p:grpSpPr>
            <a:xfrm>
              <a:off x="676440" y="2677680"/>
              <a:ext cx="1947960" cy="1819080"/>
              <a:chOff x="676440" y="2677680"/>
              <a:chExt cx="1947960" cy="1819080"/>
            </a:xfrm>
          </p:grpSpPr>
          <p:sp>
            <p:nvSpPr>
              <p:cNvPr id="94" name="任意多边形 62"/>
              <p:cNvSpPr/>
              <p:nvPr/>
            </p:nvSpPr>
            <p:spPr>
              <a:xfrm>
                <a:off x="676440" y="2677680"/>
                <a:ext cx="1947960" cy="1819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任意多边形 63"/>
              <p:cNvSpPr/>
              <p:nvPr/>
            </p:nvSpPr>
            <p:spPr>
              <a:xfrm>
                <a:off x="676440" y="2677680"/>
                <a:ext cx="1082160" cy="1819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直接连接符 64"/>
            <p:cNvSpPr/>
            <p:nvPr/>
          </p:nvSpPr>
          <p:spPr>
            <a:xfrm flipV="1">
              <a:off x="2624400" y="3576960"/>
              <a:ext cx="4323960" cy="9720"/>
            </a:xfrm>
            <a:prstGeom prst="line">
              <a:avLst/>
            </a:prstGeom>
            <a:ln w="76320">
              <a:solidFill>
                <a:srgbClr val="a5a5a5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组合 65"/>
            <p:cNvGrpSpPr/>
            <p:nvPr/>
          </p:nvGrpSpPr>
          <p:grpSpPr>
            <a:xfrm>
              <a:off x="5644440" y="1600200"/>
              <a:ext cx="869040" cy="3905280"/>
              <a:chOff x="5644440" y="1600200"/>
              <a:chExt cx="869040" cy="3905280"/>
            </a:xfrm>
          </p:grpSpPr>
          <p:sp>
            <p:nvSpPr>
              <p:cNvPr id="98" name="任意多边形 66"/>
              <p:cNvSpPr/>
              <p:nvPr/>
            </p:nvSpPr>
            <p:spPr>
              <a:xfrm>
                <a:off x="5644440" y="1653840"/>
                <a:ext cx="523440" cy="3851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6480">
                <a:solidFill>
                  <a:srgbClr val="ff9f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任意多边形 67"/>
              <p:cNvSpPr/>
              <p:nvPr/>
            </p:nvSpPr>
            <p:spPr>
              <a:xfrm>
                <a:off x="5656680" y="1600200"/>
                <a:ext cx="856800" cy="1910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6480">
                <a:solidFill>
                  <a:srgbClr val="ff9f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任意多边形 68"/>
              <p:cNvSpPr/>
              <p:nvPr/>
            </p:nvSpPr>
            <p:spPr>
              <a:xfrm flipV="1">
                <a:off x="5656680" y="3532680"/>
                <a:ext cx="856800" cy="1910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6480">
                <a:solidFill>
                  <a:srgbClr val="ff9fb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组合 69"/>
            <p:cNvGrpSpPr/>
            <p:nvPr/>
          </p:nvGrpSpPr>
          <p:grpSpPr>
            <a:xfrm>
              <a:off x="4359600" y="1906200"/>
              <a:ext cx="783360" cy="3342240"/>
              <a:chOff x="4359600" y="1906200"/>
              <a:chExt cx="783360" cy="3342240"/>
            </a:xfrm>
          </p:grpSpPr>
          <p:sp>
            <p:nvSpPr>
              <p:cNvPr id="102" name="任意多边形 70"/>
              <p:cNvSpPr/>
              <p:nvPr/>
            </p:nvSpPr>
            <p:spPr>
              <a:xfrm>
                <a:off x="4359600" y="1952280"/>
                <a:ext cx="471960" cy="3296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648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任意多边形 71"/>
              <p:cNvSpPr/>
              <p:nvPr/>
            </p:nvSpPr>
            <p:spPr>
              <a:xfrm>
                <a:off x="4370760" y="1906200"/>
                <a:ext cx="772200" cy="163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648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任意多边形 102"/>
              <p:cNvSpPr/>
              <p:nvPr/>
            </p:nvSpPr>
            <p:spPr>
              <a:xfrm flipV="1">
                <a:off x="4370760" y="3559320"/>
                <a:ext cx="772200" cy="1634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648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组合 103"/>
            <p:cNvGrpSpPr/>
            <p:nvPr/>
          </p:nvGrpSpPr>
          <p:grpSpPr>
            <a:xfrm>
              <a:off x="2989080" y="1991880"/>
              <a:ext cx="783360" cy="3170880"/>
              <a:chOff x="2989080" y="1991880"/>
              <a:chExt cx="783360" cy="3170880"/>
            </a:xfrm>
          </p:grpSpPr>
          <p:sp>
            <p:nvSpPr>
              <p:cNvPr id="106" name="任意多边形 104"/>
              <p:cNvSpPr/>
              <p:nvPr/>
            </p:nvSpPr>
            <p:spPr>
              <a:xfrm>
                <a:off x="2989080" y="2035440"/>
                <a:ext cx="471960" cy="3127320"/>
              </a:xfrm>
              <a:prstGeom prst="pie">
                <a:avLst/>
              </a:prstGeom>
              <a:solidFill>
                <a:srgbClr val="ffffff"/>
              </a:solidFill>
              <a:ln w="648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任意多边形 105"/>
              <p:cNvSpPr/>
              <p:nvPr/>
            </p:nvSpPr>
            <p:spPr>
              <a:xfrm>
                <a:off x="3000240" y="1991880"/>
                <a:ext cx="772200" cy="1550880"/>
              </a:xfrm>
              <a:prstGeom prst="pie">
                <a:avLst/>
              </a:prstGeom>
              <a:solidFill>
                <a:srgbClr val="ffffff"/>
              </a:solidFill>
              <a:ln w="648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任意多边形 106"/>
              <p:cNvSpPr/>
              <p:nvPr/>
            </p:nvSpPr>
            <p:spPr>
              <a:xfrm flipV="1">
                <a:off x="3000240" y="3561120"/>
                <a:ext cx="772200" cy="1550880"/>
              </a:xfrm>
              <a:prstGeom prst="pie">
                <a:avLst/>
              </a:prstGeom>
              <a:solidFill>
                <a:srgbClr val="ffffff"/>
              </a:solidFill>
              <a:ln w="648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TextBox 107"/>
            <p:cNvSpPr/>
            <p:nvPr/>
          </p:nvSpPr>
          <p:spPr>
            <a:xfrm>
              <a:off x="4966560" y="1814040"/>
              <a:ext cx="48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cc3300"/>
                  </a:solidFill>
                  <a:latin typeface="微软雅黑"/>
                  <a:ea typeface="微软雅黑"/>
                </a:rPr>
                <a:t>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cc3300"/>
                  </a:solidFill>
                  <a:latin typeface="微软雅黑"/>
                  <a:ea typeface="微软雅黑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108"/>
            <p:cNvSpPr/>
            <p:nvPr/>
          </p:nvSpPr>
          <p:spPr>
            <a:xfrm>
              <a:off x="5172840" y="3888000"/>
              <a:ext cx="48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cc3300"/>
                  </a:solidFill>
                  <a:latin typeface="微软雅黑"/>
                  <a:ea typeface="微软雅黑"/>
                </a:rPr>
                <a:t>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cc3300"/>
                  </a:solidFill>
                  <a:latin typeface="微软雅黑"/>
                  <a:ea typeface="微软雅黑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109"/>
            <p:cNvSpPr/>
            <p:nvPr/>
          </p:nvSpPr>
          <p:spPr>
            <a:xfrm>
              <a:off x="3498120" y="1986840"/>
              <a:ext cx="48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110"/>
            <p:cNvSpPr/>
            <p:nvPr/>
          </p:nvSpPr>
          <p:spPr>
            <a:xfrm>
              <a:off x="3877200" y="3801600"/>
              <a:ext cx="48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111"/>
            <p:cNvSpPr/>
            <p:nvPr/>
          </p:nvSpPr>
          <p:spPr>
            <a:xfrm>
              <a:off x="2202480" y="2089080"/>
              <a:ext cx="48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112"/>
            <p:cNvSpPr/>
            <p:nvPr/>
          </p:nvSpPr>
          <p:spPr>
            <a:xfrm>
              <a:off x="2581560" y="3903840"/>
              <a:ext cx="48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203480" y="1054080"/>
            <a:ext cx="65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组织架构图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320" y="6262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7147-ED04-4E7A-AC11-7E17636A3B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40:27Z</dcterms:modified>
  <cp:revision>106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Presentation">
    <vt:lpwstr>锐普图表</vt:lpwstr>
  </property>
</Properties>
</file>