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608C-2E0E-4BFA-A0B2-94B406E6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B1F4-7BD4-43E0-9AEF-E195C169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40E3-778D-42DD-A04E-2AB15F5B8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4FE0-7BCF-4F59-9E3C-8FD717443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B046-1C43-47B0-B50B-2E3A1747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CBA0-13FE-4E0B-A1E6-3A26A6B5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1AA7-5207-4130-A0EC-7056BCF0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0287-CADA-48E6-864E-9F7F3A0C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42B5-BAC7-4B2D-A0C0-07CC94A0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890E-87ED-48DA-89F2-2B8F47A8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3A32-FC85-43DF-9C58-E38756AD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6404-10A0-44A5-B582-385FA549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4626-A560-403A-A3A2-9A9449F1222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5239-C2D4-4709-9143-49FFF2F9D6C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0"/>
            <a:ext cx="9153360" cy="3598920"/>
          </a:xfrm>
          <a:prstGeom prst="rect">
            <a:avLst/>
          </a:prstGeom>
          <a:solidFill>
            <a:srgbClr val="fdd6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7"/>
          <p:cNvSpPr/>
          <p:nvPr/>
        </p:nvSpPr>
        <p:spPr>
          <a:xfrm>
            <a:off x="-6480" y="4311720"/>
            <a:ext cx="9150480" cy="2546280"/>
          </a:xfrm>
          <a:prstGeom prst="rect">
            <a:avLst/>
          </a:prstGeom>
          <a:solidFill>
            <a:srgbClr val="aacd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419640" y="3598920"/>
            <a:ext cx="2304720" cy="3259080"/>
            <a:chOff x="3419640" y="3598920"/>
            <a:chExt cx="2304720" cy="3259080"/>
          </a:xfrm>
        </p:grpSpPr>
        <p:sp>
          <p:nvSpPr>
            <p:cNvPr id="44" name="圆角矩形 4"/>
            <p:cNvSpPr/>
            <p:nvPr/>
          </p:nvSpPr>
          <p:spPr>
            <a:xfrm>
              <a:off x="3419640" y="3598920"/>
              <a:ext cx="2304720" cy="3259080"/>
            </a:xfrm>
            <a:custGeom>
              <a:avLst/>
              <a:gdLst>
                <a:gd name="textAreaLeft" fmla="*/ 65880 w 2304720"/>
                <a:gd name="textAreaRight" fmla="*/ 2238840 w 2304720"/>
                <a:gd name="textAreaTop" fmla="*/ 65880 h 3259080"/>
                <a:gd name="textAreaBottom" fmla="*/ 3193200 h 3259080"/>
              </a:gdLst>
              <a:ahLst/>
              <a:rect l="textAreaLeft" t="textAreaTop" r="textAreaRight" b="textAreaBottom"/>
              <a:pathLst>
                <a:path w="21600" h="30543">
                  <a:moveTo>
                    <a:pt x="2118" y="0"/>
                  </a:moveTo>
                  <a:arcTo wR="2118" hR="2118" stAng="16200000" swAng="-5400000"/>
                  <a:lnTo>
                    <a:pt x="0" y="28425"/>
                  </a:lnTo>
                  <a:arcTo wR="2118" hR="2118" stAng="10800000" swAng="-5400000"/>
                  <a:lnTo>
                    <a:pt x="19482" y="30543"/>
                  </a:lnTo>
                  <a:arcTo wR="2118" hR="2118" stAng="5400000" swAng="-5400000"/>
                  <a:lnTo>
                    <a:pt x="21600" y="2118"/>
                  </a:lnTo>
                  <a:arcTo wR="2118" hR="2118" stAng="0" swAng="-5400000"/>
                  <a:close/>
                </a:path>
              </a:pathLst>
            </a:custGeom>
            <a:solidFill>
              <a:srgbClr val="019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5894280" y="3598920"/>
            <a:ext cx="2305080" cy="3259080"/>
            <a:chOff x="5894280" y="3598920"/>
            <a:chExt cx="2305080" cy="3259080"/>
          </a:xfrm>
        </p:grpSpPr>
        <p:sp>
          <p:nvSpPr>
            <p:cNvPr id="46" name="圆角矩形 5"/>
            <p:cNvSpPr/>
            <p:nvPr/>
          </p:nvSpPr>
          <p:spPr>
            <a:xfrm>
              <a:off x="5894280" y="3598920"/>
              <a:ext cx="2305080" cy="3259080"/>
            </a:xfrm>
            <a:custGeom>
              <a:avLst/>
              <a:gdLst>
                <a:gd name="textAreaLeft" fmla="*/ 65880 w 2305080"/>
                <a:gd name="textAreaRight" fmla="*/ 2239200 w 2305080"/>
                <a:gd name="textAreaTop" fmla="*/ 65880 h 3259080"/>
                <a:gd name="textAreaBottom" fmla="*/ 3193200 h 3259080"/>
              </a:gdLst>
              <a:ahLst/>
              <a:rect l="textAreaLeft" t="textAreaTop" r="textAreaRight" b="textAreaBottom"/>
              <a:pathLst>
                <a:path w="21600" h="30538">
                  <a:moveTo>
                    <a:pt x="2118" y="0"/>
                  </a:moveTo>
                  <a:arcTo wR="2118" hR="2118" stAng="16200000" swAng="-5400000"/>
                  <a:lnTo>
                    <a:pt x="0" y="28420"/>
                  </a:lnTo>
                  <a:arcTo wR="2118" hR="2118" stAng="10800000" swAng="-5400000"/>
                  <a:lnTo>
                    <a:pt x="19482" y="30538"/>
                  </a:lnTo>
                  <a:arcTo wR="2118" hR="2118" stAng="5400000" swAng="-5400000"/>
                  <a:lnTo>
                    <a:pt x="21600" y="2118"/>
                  </a:lnTo>
                  <a:arcTo wR="2118" hR="2118" stAng="0" swAng="-5400000"/>
                  <a:close/>
                </a:path>
              </a:pathLst>
            </a:custGeom>
            <a:solidFill>
              <a:srgbClr val="fff2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944640" y="3598920"/>
            <a:ext cx="2305080" cy="3259080"/>
            <a:chOff x="944640" y="3598920"/>
            <a:chExt cx="2305080" cy="3259080"/>
          </a:xfrm>
        </p:grpSpPr>
        <p:sp>
          <p:nvSpPr>
            <p:cNvPr id="48" name="圆角矩形 13"/>
            <p:cNvSpPr/>
            <p:nvPr/>
          </p:nvSpPr>
          <p:spPr>
            <a:xfrm>
              <a:off x="944640" y="3598920"/>
              <a:ext cx="2305080" cy="3259080"/>
            </a:xfrm>
            <a:custGeom>
              <a:avLst/>
              <a:gdLst>
                <a:gd name="textAreaLeft" fmla="*/ 65880 w 2305080"/>
                <a:gd name="textAreaRight" fmla="*/ 2239200 w 2305080"/>
                <a:gd name="textAreaTop" fmla="*/ 65880 h 3259080"/>
                <a:gd name="textAreaBottom" fmla="*/ 3193200 h 3259080"/>
              </a:gdLst>
              <a:ahLst/>
              <a:rect l="textAreaLeft" t="textAreaTop" r="textAreaRight" b="textAreaBottom"/>
              <a:pathLst>
                <a:path w="21600" h="30538">
                  <a:moveTo>
                    <a:pt x="2118" y="0"/>
                  </a:moveTo>
                  <a:arcTo wR="2118" hR="2118" stAng="16200000" swAng="-5400000"/>
                  <a:lnTo>
                    <a:pt x="0" y="28420"/>
                  </a:lnTo>
                  <a:arcTo wR="2118" hR="2118" stAng="10800000" swAng="-5400000"/>
                  <a:lnTo>
                    <a:pt x="19482" y="30538"/>
                  </a:lnTo>
                  <a:arcTo wR="2118" hR="2118" stAng="5400000" swAng="-5400000"/>
                  <a:lnTo>
                    <a:pt x="21600" y="2118"/>
                  </a:lnTo>
                  <a:arcTo wR="2118" hR="2118" stAng="0" swAng="-5400000"/>
                  <a:close/>
                </a:path>
              </a:pathLst>
            </a:custGeom>
            <a:solidFill>
              <a:srgbClr val="277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矩形 1"/>
          <p:cNvSpPr/>
          <p:nvPr/>
        </p:nvSpPr>
        <p:spPr>
          <a:xfrm>
            <a:off x="3233520" y="1484280"/>
            <a:ext cx="16070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项目汇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**</a:t>
            </a:r>
            <a:r>
              <a:rPr b="0" lang="zh-CN" sz="18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工程项目开发小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-158760" y="1049400"/>
            <a:ext cx="4154400" cy="2546280"/>
          </a:xfrm>
          <a:prstGeom prst="rect">
            <a:avLst/>
          </a:prstGeom>
          <a:ln w="0">
            <a:noFill/>
          </a:ln>
        </p:spPr>
      </p:pic>
      <p:sp>
        <p:nvSpPr>
          <p:cNvPr id="51" name="矩形 14"/>
          <p:cNvSpPr/>
          <p:nvPr/>
        </p:nvSpPr>
        <p:spPr>
          <a:xfrm>
            <a:off x="2892600" y="2662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42600" y="26028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阿狸项目卡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4"/>
          <p:cNvSpPr/>
          <p:nvPr/>
        </p:nvSpPr>
        <p:spPr>
          <a:xfrm>
            <a:off x="-6480" y="0"/>
            <a:ext cx="91504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2"/>
          <p:cNvSpPr/>
          <p:nvPr/>
        </p:nvSpPr>
        <p:spPr>
          <a:xfrm>
            <a:off x="-6480" y="0"/>
            <a:ext cx="9150480" cy="4311720"/>
          </a:xfrm>
          <a:prstGeom prst="rect">
            <a:avLst/>
          </a:prstGeom>
          <a:solidFill>
            <a:srgbClr val="fdd6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419640" y="3598920"/>
            <a:ext cx="2304720" cy="3259080"/>
            <a:chOff x="3419640" y="3598920"/>
            <a:chExt cx="2304720" cy="3259080"/>
          </a:xfrm>
        </p:grpSpPr>
        <p:sp>
          <p:nvSpPr>
            <p:cNvPr id="57" name="圆角矩形 9"/>
            <p:cNvSpPr/>
            <p:nvPr/>
          </p:nvSpPr>
          <p:spPr>
            <a:xfrm>
              <a:off x="3419640" y="3598920"/>
              <a:ext cx="2304720" cy="3259080"/>
            </a:xfrm>
            <a:custGeom>
              <a:avLst/>
              <a:gdLst>
                <a:gd name="textAreaLeft" fmla="*/ 65880 w 2304720"/>
                <a:gd name="textAreaRight" fmla="*/ 2238840 w 2304720"/>
                <a:gd name="textAreaTop" fmla="*/ 65880 h 3259080"/>
                <a:gd name="textAreaBottom" fmla="*/ 3193200 h 3259080"/>
              </a:gdLst>
              <a:ahLst/>
              <a:rect l="textAreaLeft" t="textAreaTop" r="textAreaRight" b="textAreaBottom"/>
              <a:pathLst>
                <a:path w="21600" h="30543">
                  <a:moveTo>
                    <a:pt x="2118" y="0"/>
                  </a:moveTo>
                  <a:arcTo wR="2118" hR="2118" stAng="16200000" swAng="-5400000"/>
                  <a:lnTo>
                    <a:pt x="0" y="28425"/>
                  </a:lnTo>
                  <a:arcTo wR="2118" hR="2118" stAng="10800000" swAng="-5400000"/>
                  <a:lnTo>
                    <a:pt x="19482" y="30543"/>
                  </a:lnTo>
                  <a:arcTo wR="2118" hR="2118" stAng="5400000" swAng="-5400000"/>
                  <a:lnTo>
                    <a:pt x="21600" y="2118"/>
                  </a:lnTo>
                  <a:arcTo wR="2118" hR="2118" stAng="0" swAng="-5400000"/>
                  <a:close/>
                </a:path>
              </a:pathLst>
            </a:custGeom>
            <a:solidFill>
              <a:srgbClr val="019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Box 11"/>
          <p:cNvSpPr/>
          <p:nvPr/>
        </p:nvSpPr>
        <p:spPr>
          <a:xfrm>
            <a:off x="539640" y="474336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Xenu</a:t>
            </a:r>
            <a:r>
              <a:rPr b="0" lang="zh-CN" sz="2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对于链接测试的自动生成结果记录后保存到测试质量报告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3"/>
          <p:cNvSpPr/>
          <p:nvPr/>
        </p:nvSpPr>
        <p:spPr>
          <a:xfrm>
            <a:off x="3564000" y="4581360"/>
            <a:ext cx="151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链接测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表单测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00160" y="692280"/>
            <a:ext cx="8743680" cy="2601720"/>
            <a:chOff x="200160" y="692280"/>
            <a:chExt cx="8743680" cy="2601720"/>
          </a:xfrm>
        </p:grpSpPr>
        <p:pic>
          <p:nvPicPr>
            <p:cNvPr id="61" name="Picture 1" descr=""/>
            <p:cNvPicPr/>
            <p:nvPr/>
          </p:nvPicPr>
          <p:blipFill>
            <a:blip r:embed="rId1"/>
            <a:stretch/>
          </p:blipFill>
          <p:spPr>
            <a:xfrm>
              <a:off x="200160" y="692280"/>
              <a:ext cx="4202280" cy="2601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62" name="Picture 2" descr=""/>
            <p:cNvPicPr/>
            <p:nvPr/>
          </p:nvPicPr>
          <p:blipFill>
            <a:blip r:embed="rId2"/>
            <a:stretch/>
          </p:blipFill>
          <p:spPr>
            <a:xfrm>
              <a:off x="4591800" y="692280"/>
              <a:ext cx="4352040" cy="2601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63" name="TextBox 15"/>
          <p:cNvSpPr/>
          <p:nvPr/>
        </p:nvSpPr>
        <p:spPr>
          <a:xfrm>
            <a:off x="6443640" y="4770360"/>
            <a:ext cx="23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表单测试中的项目按照测试方案说明中的索引条目逐条进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16"/>
          <p:cNvSpPr/>
          <p:nvPr/>
        </p:nvSpPr>
        <p:spPr>
          <a:xfrm>
            <a:off x="0" y="357336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12"/>
          <p:cNvSpPr/>
          <p:nvPr/>
        </p:nvSpPr>
        <p:spPr>
          <a:xfrm>
            <a:off x="-6480" y="0"/>
            <a:ext cx="9150480" cy="6858000"/>
          </a:xfrm>
          <a:prstGeom prst="rect">
            <a:avLst/>
          </a:prstGeom>
          <a:solidFill>
            <a:srgbClr val="aacd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3"/>
          <p:cNvSpPr/>
          <p:nvPr/>
        </p:nvSpPr>
        <p:spPr>
          <a:xfrm>
            <a:off x="-6480" y="3598920"/>
            <a:ext cx="915048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894280" y="3598920"/>
            <a:ext cx="2305080" cy="3259080"/>
            <a:chOff x="5894280" y="3598920"/>
            <a:chExt cx="2305080" cy="3259080"/>
          </a:xfrm>
        </p:grpSpPr>
        <p:sp>
          <p:nvSpPr>
            <p:cNvPr id="68" name="圆角矩形 9"/>
            <p:cNvSpPr/>
            <p:nvPr/>
          </p:nvSpPr>
          <p:spPr>
            <a:xfrm>
              <a:off x="5894280" y="3598920"/>
              <a:ext cx="2305080" cy="3259080"/>
            </a:xfrm>
            <a:custGeom>
              <a:avLst/>
              <a:gdLst>
                <a:gd name="textAreaLeft" fmla="*/ 65880 w 2305080"/>
                <a:gd name="textAreaRight" fmla="*/ 2239200 w 2305080"/>
                <a:gd name="textAreaTop" fmla="*/ 65880 h 3259080"/>
                <a:gd name="textAreaBottom" fmla="*/ 3193200 h 3259080"/>
              </a:gdLst>
              <a:ahLst/>
              <a:rect l="textAreaLeft" t="textAreaTop" r="textAreaRight" b="textAreaBottom"/>
              <a:pathLst>
                <a:path w="21600" h="30538">
                  <a:moveTo>
                    <a:pt x="2118" y="0"/>
                  </a:moveTo>
                  <a:arcTo wR="2118" hR="2118" stAng="16200000" swAng="-5400000"/>
                  <a:lnTo>
                    <a:pt x="0" y="28420"/>
                  </a:lnTo>
                  <a:arcTo wR="2118" hR="2118" stAng="10800000" swAng="-5400000"/>
                  <a:lnTo>
                    <a:pt x="19482" y="30538"/>
                  </a:lnTo>
                  <a:arcTo wR="2118" hR="2118" stAng="5400000" swAng="-5400000"/>
                  <a:lnTo>
                    <a:pt x="21600" y="2118"/>
                  </a:lnTo>
                  <a:arcTo wR="2118" hR="2118" stAng="0" swAng="-5400000"/>
                  <a:close/>
                </a:path>
              </a:pathLst>
            </a:custGeom>
            <a:solidFill>
              <a:srgbClr val="fff2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Box 11"/>
          <p:cNvSpPr/>
          <p:nvPr/>
        </p:nvSpPr>
        <p:spPr>
          <a:xfrm>
            <a:off x="1692360" y="692280"/>
            <a:ext cx="3456000" cy="60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基本实现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发布微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转发微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加好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收听关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排行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搜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未完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个人标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用户自定义皮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同道中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6"/>
          <p:cNvSpPr/>
          <p:nvPr/>
        </p:nvSpPr>
        <p:spPr>
          <a:xfrm>
            <a:off x="5796000" y="692280"/>
            <a:ext cx="34560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预计剩余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测试查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细节修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酌情考虑未完成的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整理文档和代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12"/>
          <p:cNvSpPr/>
          <p:nvPr/>
        </p:nvSpPr>
        <p:spPr>
          <a:xfrm>
            <a:off x="-6480" y="0"/>
            <a:ext cx="9150480" cy="6858000"/>
          </a:xfrm>
          <a:prstGeom prst="rect">
            <a:avLst/>
          </a:prstGeom>
          <a:solidFill>
            <a:srgbClr val="2774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187280" y="1393920"/>
            <a:ext cx="2305080" cy="3259080"/>
            <a:chOff x="1187280" y="1393920"/>
            <a:chExt cx="2305080" cy="3259080"/>
          </a:xfrm>
        </p:grpSpPr>
        <p:sp>
          <p:nvSpPr>
            <p:cNvPr id="73" name="圆角矩形 10"/>
            <p:cNvSpPr/>
            <p:nvPr/>
          </p:nvSpPr>
          <p:spPr>
            <a:xfrm>
              <a:off x="1187280" y="1393920"/>
              <a:ext cx="2305080" cy="3259080"/>
            </a:xfrm>
            <a:custGeom>
              <a:avLst/>
              <a:gdLst>
                <a:gd name="textAreaLeft" fmla="*/ 65880 w 2305080"/>
                <a:gd name="textAreaRight" fmla="*/ 2239200 w 2305080"/>
                <a:gd name="textAreaTop" fmla="*/ 65880 h 3259080"/>
                <a:gd name="textAreaBottom" fmla="*/ 3193200 h 3259080"/>
              </a:gdLst>
              <a:ahLst/>
              <a:rect l="textAreaLeft" t="textAreaTop" r="textAreaRight" b="textAreaBottom"/>
              <a:pathLst>
                <a:path w="21600" h="30538">
                  <a:moveTo>
                    <a:pt x="2118" y="0"/>
                  </a:moveTo>
                  <a:arcTo wR="2118" hR="2118" stAng="16200000" swAng="-5400000"/>
                  <a:lnTo>
                    <a:pt x="0" y="28420"/>
                  </a:lnTo>
                  <a:arcTo wR="2118" hR="2118" stAng="10800000" swAng="-5400000"/>
                  <a:lnTo>
                    <a:pt x="19482" y="30538"/>
                  </a:lnTo>
                  <a:arcTo wR="2118" hR="2118" stAng="5400000" swAng="-5400000"/>
                  <a:lnTo>
                    <a:pt x="21600" y="2118"/>
                  </a:lnTo>
                  <a:arcTo wR="2118" hR="2118" stAng="0" swAng="-5400000"/>
                  <a:close/>
                </a:path>
              </a:pathLst>
            </a:custGeom>
            <a:solidFill>
              <a:srgbClr val="dc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TextBox 13"/>
          <p:cNvSpPr/>
          <p:nvPr/>
        </p:nvSpPr>
        <p:spPr>
          <a:xfrm>
            <a:off x="566640" y="2492280"/>
            <a:ext cx="61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残暴组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397160" y="247644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76" name="TextBox 15"/>
          <p:cNvSpPr/>
          <p:nvPr/>
        </p:nvSpPr>
        <p:spPr>
          <a:xfrm>
            <a:off x="7101000" y="4680000"/>
            <a:ext cx="61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围观组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5003640" y="469908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78" name="TextBox 17"/>
          <p:cNvSpPr/>
          <p:nvPr/>
        </p:nvSpPr>
        <p:spPr>
          <a:xfrm>
            <a:off x="7101000" y="203040"/>
            <a:ext cx="61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情侣组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5003640" y="236520"/>
            <a:ext cx="1933560" cy="1933560"/>
          </a:xfrm>
          <a:prstGeom prst="rect">
            <a:avLst/>
          </a:prstGeom>
          <a:ln w="0">
            <a:noFill/>
          </a:ln>
        </p:spPr>
      </p:pic>
      <p:sp>
        <p:nvSpPr>
          <p:cNvPr id="80" name="TextBox 19"/>
          <p:cNvSpPr/>
          <p:nvPr/>
        </p:nvSpPr>
        <p:spPr>
          <a:xfrm>
            <a:off x="7101000" y="2492280"/>
            <a:ext cx="61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苦力组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"/>
          <p:cNvPicPr/>
          <p:nvPr/>
        </p:nvPicPr>
        <p:blipFill>
          <a:blip r:embed="rId4"/>
          <a:stretch/>
        </p:blipFill>
        <p:spPr>
          <a:xfrm>
            <a:off x="5003640" y="244800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82" name="直接连接符 2"/>
          <p:cNvSpPr/>
          <p:nvPr/>
        </p:nvSpPr>
        <p:spPr>
          <a:xfrm flipV="1">
            <a:off x="3301920" y="1203480"/>
            <a:ext cx="1701720" cy="2225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24"/>
          <p:cNvSpPr/>
          <p:nvPr/>
        </p:nvSpPr>
        <p:spPr>
          <a:xfrm>
            <a:off x="3301920" y="3429000"/>
            <a:ext cx="1701720" cy="222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26"/>
          <p:cNvSpPr/>
          <p:nvPr/>
        </p:nvSpPr>
        <p:spPr>
          <a:xfrm flipV="1">
            <a:off x="3301920" y="3419640"/>
            <a:ext cx="1701720" cy="9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8000" y="5842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8F52-B603-41D3-85DA-A87BB3476E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744B-B5CC-46F2-A17E-009CCE34025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0" y="0"/>
            <a:ext cx="9153360" cy="3598920"/>
          </a:xfrm>
          <a:prstGeom prst="rect">
            <a:avLst/>
          </a:prstGeom>
          <a:solidFill>
            <a:srgbClr val="fff2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/>
          <p:cNvSpPr/>
          <p:nvPr/>
        </p:nvSpPr>
        <p:spPr>
          <a:xfrm>
            <a:off x="-6480" y="3598920"/>
            <a:ext cx="9150480" cy="3259080"/>
          </a:xfrm>
          <a:prstGeom prst="rect">
            <a:avLst/>
          </a:prstGeom>
          <a:solidFill>
            <a:srgbClr val="019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419640" y="3598920"/>
            <a:ext cx="2304720" cy="3259080"/>
            <a:chOff x="3419640" y="3598920"/>
            <a:chExt cx="2304720" cy="3259080"/>
          </a:xfrm>
        </p:grpSpPr>
        <p:sp>
          <p:nvSpPr>
            <p:cNvPr id="93" name="圆角矩形 4"/>
            <p:cNvSpPr/>
            <p:nvPr/>
          </p:nvSpPr>
          <p:spPr>
            <a:xfrm>
              <a:off x="3419640" y="3598920"/>
              <a:ext cx="2304720" cy="3259080"/>
            </a:xfrm>
            <a:custGeom>
              <a:avLst/>
              <a:gdLst>
                <a:gd name="textAreaLeft" fmla="*/ 65880 w 2304720"/>
                <a:gd name="textAreaRight" fmla="*/ 2238840 w 2304720"/>
                <a:gd name="textAreaTop" fmla="*/ 65880 h 3259080"/>
                <a:gd name="textAreaBottom" fmla="*/ 3193200 h 3259080"/>
              </a:gdLst>
              <a:ahLst/>
              <a:rect l="textAreaLeft" t="textAreaTop" r="textAreaRight" b="textAreaBottom"/>
              <a:pathLst>
                <a:path w="21600" h="30543">
                  <a:moveTo>
                    <a:pt x="2118" y="0"/>
                  </a:moveTo>
                  <a:arcTo wR="2118" hR="2118" stAng="16200000" swAng="-5400000"/>
                  <a:lnTo>
                    <a:pt x="0" y="28425"/>
                  </a:lnTo>
                  <a:arcTo wR="2118" hR="2118" stAng="10800000" swAng="-5400000"/>
                  <a:lnTo>
                    <a:pt x="19482" y="30543"/>
                  </a:lnTo>
                  <a:arcTo wR="2118" hR="2118" stAng="5400000" swAng="-5400000"/>
                  <a:lnTo>
                    <a:pt x="21600" y="2118"/>
                  </a:lnTo>
                  <a:arcTo wR="2118" hR="2118" stAng="0" swAng="-5400000"/>
                  <a:close/>
                </a:path>
              </a:pathLst>
            </a:custGeom>
            <a:solidFill>
              <a:srgbClr val="dc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894280" y="3598920"/>
            <a:ext cx="2305080" cy="3259080"/>
            <a:chOff x="5894280" y="3598920"/>
            <a:chExt cx="2305080" cy="3259080"/>
          </a:xfrm>
        </p:grpSpPr>
        <p:sp>
          <p:nvSpPr>
            <p:cNvPr id="95" name="圆角矩形 5"/>
            <p:cNvSpPr/>
            <p:nvPr/>
          </p:nvSpPr>
          <p:spPr>
            <a:xfrm>
              <a:off x="5894280" y="3598920"/>
              <a:ext cx="2305080" cy="3259080"/>
            </a:xfrm>
            <a:custGeom>
              <a:avLst/>
              <a:gdLst>
                <a:gd name="textAreaLeft" fmla="*/ 65880 w 2305080"/>
                <a:gd name="textAreaRight" fmla="*/ 2239200 w 2305080"/>
                <a:gd name="textAreaTop" fmla="*/ 65880 h 3259080"/>
                <a:gd name="textAreaBottom" fmla="*/ 3193200 h 3259080"/>
              </a:gdLst>
              <a:ahLst/>
              <a:rect l="textAreaLeft" t="textAreaTop" r="textAreaRight" b="textAreaBottom"/>
              <a:pathLst>
                <a:path w="21600" h="30538">
                  <a:moveTo>
                    <a:pt x="2118" y="0"/>
                  </a:moveTo>
                  <a:arcTo wR="2118" hR="2118" stAng="16200000" swAng="-5400000"/>
                  <a:lnTo>
                    <a:pt x="0" y="28420"/>
                  </a:lnTo>
                  <a:arcTo wR="2118" hR="2118" stAng="10800000" swAng="-5400000"/>
                  <a:lnTo>
                    <a:pt x="19482" y="30538"/>
                  </a:lnTo>
                  <a:arcTo wR="2118" hR="2118" stAng="5400000" swAng="-5400000"/>
                  <a:lnTo>
                    <a:pt x="21600" y="2118"/>
                  </a:lnTo>
                  <a:arcTo wR="2118" hR="2118" stAng="0" swAng="-5400000"/>
                  <a:close/>
                </a:path>
              </a:pathLst>
            </a:custGeom>
            <a:solidFill>
              <a:srgbClr val="dc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44640" y="3598920"/>
            <a:ext cx="2305080" cy="3259080"/>
            <a:chOff x="944640" y="3598920"/>
            <a:chExt cx="2305080" cy="3259080"/>
          </a:xfrm>
        </p:grpSpPr>
        <p:sp>
          <p:nvSpPr>
            <p:cNvPr id="97" name="圆角矩形 13"/>
            <p:cNvSpPr/>
            <p:nvPr/>
          </p:nvSpPr>
          <p:spPr>
            <a:xfrm>
              <a:off x="944640" y="3598920"/>
              <a:ext cx="2305080" cy="3259080"/>
            </a:xfrm>
            <a:custGeom>
              <a:avLst/>
              <a:gdLst>
                <a:gd name="textAreaLeft" fmla="*/ 65880 w 2305080"/>
                <a:gd name="textAreaRight" fmla="*/ 2239200 w 2305080"/>
                <a:gd name="textAreaTop" fmla="*/ 65880 h 3259080"/>
                <a:gd name="textAreaBottom" fmla="*/ 3193200 h 3259080"/>
              </a:gdLst>
              <a:ahLst/>
              <a:rect l="textAreaLeft" t="textAreaTop" r="textAreaRight" b="textAreaBottom"/>
              <a:pathLst>
                <a:path w="21600" h="30538">
                  <a:moveTo>
                    <a:pt x="2118" y="0"/>
                  </a:moveTo>
                  <a:arcTo wR="2118" hR="2118" stAng="16200000" swAng="-5400000"/>
                  <a:lnTo>
                    <a:pt x="0" y="28420"/>
                  </a:lnTo>
                  <a:arcTo wR="2118" hR="2118" stAng="10800000" swAng="-5400000"/>
                  <a:lnTo>
                    <a:pt x="19482" y="30538"/>
                  </a:lnTo>
                  <a:arcTo wR="2118" hR="2118" stAng="5400000" swAng="-5400000"/>
                  <a:lnTo>
                    <a:pt x="21600" y="2118"/>
                  </a:lnTo>
                  <a:arcTo wR="2118" hR="2118" stAng="0" swAng="-5400000"/>
                  <a:close/>
                </a:path>
              </a:pathLst>
            </a:custGeom>
            <a:solidFill>
              <a:srgbClr val="dc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矩形 1"/>
          <p:cNvSpPr/>
          <p:nvPr/>
        </p:nvSpPr>
        <p:spPr>
          <a:xfrm>
            <a:off x="3871800" y="2649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谢谢大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rcRect l="0" t="0" r="-2021" b="0"/>
          <a:stretch/>
        </p:blipFill>
        <p:spPr>
          <a:xfrm>
            <a:off x="2646360" y="720720"/>
            <a:ext cx="4157640" cy="1916280"/>
          </a:xfrm>
          <a:prstGeom prst="rect">
            <a:avLst/>
          </a:prstGeom>
          <a:ln w="0">
            <a:noFill/>
          </a:ln>
        </p:spPr>
      </p:pic>
      <p:sp>
        <p:nvSpPr>
          <p:cNvPr id="100" name="矩形 12"/>
          <p:cNvSpPr/>
          <p:nvPr/>
        </p:nvSpPr>
        <p:spPr>
          <a:xfrm>
            <a:off x="3260880" y="3244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13:12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5:59Z</dcterms:modified>
  <cp:revision>2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