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A17-64E1-4F20-8D23-16375CF7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52A-4850-4430-8136-D6E7FD68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832-A3CE-486E-8B1F-36C91C94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C3E-2A3F-4E8C-94B7-B56E0E5A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14C-CB41-4011-8ADC-F19A7A8F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6B11-451D-4121-B7D7-E940F2E4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3FB-6228-40BB-9558-7722AC2B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2C5-2CD5-4512-A60A-B8188C13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47B-D091-488C-A76C-EDA16B69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B60-C07F-45B4-A379-F0ACC11C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233-7A8D-4405-A1F8-2737D7A2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0081-7EDC-4197-95BC-951C4A14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E4C8-8182-440D-82FE-625FE2CC9378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8c8"/>
                </a:solidFill>
                <a:latin typeface="Calibri"/>
                <a:ea typeface="PMingLiU"/>
              </a:rPr>
              <a:t>北极熊动物卡通</a:t>
            </a:r>
            <a:r>
              <a:rPr b="0" lang="zh-CN" sz="4000" spc="-1" strike="noStrike">
                <a:solidFill>
                  <a:srgbClr val="0088c8"/>
                </a:solidFill>
                <a:latin typeface="Calibri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19280"/>
            <a:ext cx="64008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8c8"/>
                </a:solidFill>
                <a:latin typeface="Calibri"/>
                <a:ea typeface="PMingLiU"/>
              </a:rPr>
              <a:t>Company N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88c8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23840"/>
            <a:ext cx="8229600" cy="31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8c8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28608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20D-1A90-4C69-8B4E-C1082B7886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11280" y="206280"/>
            <a:ext cx="6275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88c8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1200240"/>
            <a:ext cx="62755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8c8"/>
                </a:solidFill>
                <a:latin typeface="Calibri"/>
                <a:ea typeface="PMingLiU"/>
              </a:rPr>
              <a:t>Lorem ipsum dolor sit amet, consectetur adipisicing elit, sed do eiusmod tempor incididunt ut labore et dolore magna aliqu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00:1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49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