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DD4-C3C7-4841-84E1-FA31959B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E5D-4097-46DB-B0DA-9F5331C3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F7B-B257-4D89-878B-DCF853E6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084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516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88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084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516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DB7-3063-4CB8-BF9B-263DB15E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4346-9E8F-4DBC-A7B8-D0975F2E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8104-4028-4FDD-B63E-D5DDEBC2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A7F9-ED7A-4669-8C82-544F2206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E89A-0402-49E4-9A2A-EE6629D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3CD8-40BC-403E-BDF8-AB930F0A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FF9C-528E-437F-8944-E643A1ED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9D8A-4D33-4DFA-BF81-DF6A0AD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5FE-CE83-41E0-A0CB-51268B4A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6F9-C899-42AA-8885-5FB635D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D2F1-9595-4A7B-B4F2-F69AA2A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F733-1A06-44A6-91B5-780BE3D9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B3E1-8F6E-4C7F-840F-75F31CF8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084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95160" y="837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88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084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95160" y="1195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257A-9BB0-4737-B38B-E810230D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678-E9AF-43D4-B0B2-B173B392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E05-C1F3-4577-AFDB-21EEBF7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C6D-5672-47B4-9DA0-9EA3054D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741-21F7-4D78-945A-16CF3E81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2CD-A96A-4157-9743-5BB61D0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6840" y="1195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AD6-0029-4B3D-B64A-3C6BEA7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88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6840" y="837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880" y="1195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E97-355B-45C1-B1D1-3D9A18C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A105-FE91-48F1-924F-A0AB97786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8D40-3E3D-4235-AFBD-1BA516977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Eras Bold ITC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Eras Bold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Eras Bold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owlarama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Eras Bold ITC"/>
              </a:rPr>
              <a:t>Your Subtitle Goes Here</a:t>
            </a: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pic>
        <p:nvPicPr>
          <p:cNvPr id="84" name="strike" descr=""/>
          <p:cNvPicPr/>
          <p:nvPr/>
        </p:nvPicPr>
        <p:blipFill>
          <a:blip r:embed="rId2"/>
          <a:stretch/>
        </p:blipFill>
        <p:spPr>
          <a:xfrm>
            <a:off x="914400" y="-304920"/>
            <a:ext cx="10363320" cy="876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2040" y="12700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保龄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体育运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89" name="bowling_text_rotate_ball_hg_wht" descr=""/>
          <p:cNvPicPr/>
          <p:nvPr/>
        </p:nvPicPr>
        <p:blipFill>
          <a:blip r:embed="rId2"/>
          <a:stretch/>
        </p:blipFill>
        <p:spPr>
          <a:xfrm>
            <a:off x="6286680" y="5565600"/>
            <a:ext cx="1709640" cy="121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owler_concentrating_hg_wht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pic>
        <p:nvPicPr>
          <p:cNvPr id="94" name="strike" descr=""/>
          <p:cNvPicPr/>
          <p:nvPr/>
        </p:nvPicPr>
        <p:blipFill>
          <a:blip r:embed="rId3"/>
          <a:stretch/>
        </p:blipFill>
        <p:spPr>
          <a:xfrm>
            <a:off x="838080" y="-304920"/>
            <a:ext cx="103633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97" name="bowling_pins_split_hg_wht" descr=""/>
          <p:cNvPicPr/>
          <p:nvPr/>
        </p:nvPicPr>
        <p:blipFill>
          <a:blip r:embed="rId2"/>
          <a:stretch/>
        </p:blipFill>
        <p:spPr>
          <a:xfrm>
            <a:off x="6284880" y="5578560"/>
            <a:ext cx="171756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98B-6C5A-441D-A345-3A1857D7E2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</a:endParaRPr>
          </a:p>
        </p:txBody>
      </p:sp>
      <p:pic>
        <p:nvPicPr>
          <p:cNvPr id="103" name="strike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666880" cy="2255760"/>
          </a:xfrm>
          <a:prstGeom prst="rect">
            <a:avLst/>
          </a:prstGeom>
          <a:ln w="0">
            <a:noFill/>
          </a:ln>
        </p:spPr>
      </p:pic>
      <p:pic>
        <p:nvPicPr>
          <p:cNvPr id="104" name="bowlarama_prt" descr=""/>
          <p:cNvPicPr/>
          <p:nvPr/>
        </p:nvPicPr>
        <p:blipFill>
          <a:blip r:embed="rId2"/>
          <a:stretch/>
        </p:blipFill>
        <p:spPr>
          <a:xfrm>
            <a:off x="6095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bowlarama_qx" descr=""/>
          <p:cNvPicPr/>
          <p:nvPr/>
        </p:nvPicPr>
        <p:blipFill>
          <a:blip r:embed="rId3"/>
          <a:stretch/>
        </p:blipFill>
        <p:spPr>
          <a:xfrm>
            <a:off x="3048120" y="2209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6" name="bowlarama_sld" descr=""/>
          <p:cNvPicPr/>
          <p:nvPr/>
        </p:nvPicPr>
        <p:blipFill>
          <a:blip r:embed="rId4"/>
          <a:stretch/>
        </p:blipFill>
        <p:spPr>
          <a:xfrm>
            <a:off x="6095880" y="2209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7" name="bowlarama_trs" descr=""/>
          <p:cNvPicPr/>
          <p:nvPr/>
        </p:nvPicPr>
        <p:blipFill>
          <a:blip r:embed="rId5"/>
          <a:stretch/>
        </p:blipFill>
        <p:spPr>
          <a:xfrm>
            <a:off x="3048120" y="4495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8" name="bowling_text_rotate_ball_hg_wht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1710000" cy="1216080"/>
          </a:xfrm>
          <a:prstGeom prst="rect">
            <a:avLst/>
          </a:prstGeom>
          <a:ln w="0">
            <a:noFill/>
          </a:ln>
        </p:spPr>
      </p:pic>
      <p:pic>
        <p:nvPicPr>
          <p:cNvPr id="109" name="bowler_concentrating_hg_wht" descr=""/>
          <p:cNvPicPr/>
          <p:nvPr/>
        </p:nvPicPr>
        <p:blipFill>
          <a:blip r:embed="rId7"/>
          <a:stretch/>
        </p:blipFill>
        <p:spPr>
          <a:xfrm>
            <a:off x="152280" y="1447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0" name="bowling_pins_split_hg_wht" descr=""/>
          <p:cNvPicPr/>
          <p:nvPr/>
        </p:nvPicPr>
        <p:blipFill>
          <a:blip r:embed="rId8"/>
          <a:stretch/>
        </p:blipFill>
        <p:spPr>
          <a:xfrm>
            <a:off x="152280" y="3200400"/>
            <a:ext cx="1717920" cy="1055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152280"/>
            <a:ext cx="2210040" cy="990720"/>
          </a:xfrm>
          <a:prstGeom prst="wedgeRectCallout">
            <a:avLst>
              <a:gd name="adj1" fmla="val -81898"/>
              <a:gd name="adj2" fmla="val 98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152280"/>
            <a:ext cx="22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re are many amusing bowling animations on the Platinum Site. Search Bloodhound for Bowling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0:50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0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