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E84A-C324-4476-B8F5-9BADF52E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46C-D621-4600-9245-05AAC4BD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3F6D-6C35-4DBE-BB08-87B8C7F8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E9E6-C8BF-40A8-A250-7E7C2654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6906-E6F6-4C04-AB1C-A7BFD64D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256F-8915-4AB7-879B-A2DBD6DD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16F5-B868-402E-A549-6B2A583A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867A-44B7-49DA-8053-CF079ED1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1C83-FA7A-4D9E-8A8A-7CE8CBEA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C331-A8EB-4D75-8BD8-6015F0CA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2BFC-9CAF-433B-A0A7-603547DC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F47E-4DF3-49FA-B7F5-F8881296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FA96-402B-4737-BFA8-CF7E68F4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A6C7-95BA-4465-AC71-F4F54ED9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FAB5-A7B7-4C3F-8E3D-753A36A0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AAF9-B01E-4FD3-A668-8DEB7DF1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F3A9-7CD1-430A-809D-A48058DD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2860-5BE6-4D28-9461-CEF63285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204-BE30-43DE-BF32-EB7D371F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AF17-A2CE-472C-A193-59AE17F1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BFC-E519-41A8-AFB1-AE9167FD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BC74-285E-44FC-B9EC-B8AD1D71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260-EEE1-4F14-BBD5-B698B7BD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DF4-2AE7-47E0-B4B8-D26E5058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268F-3707-493A-8D5D-4087ADB21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ffc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CE73-1375-4C49-B0FD-122708DF1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c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ff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cc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cc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cc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 Black"/>
              </a:rPr>
              <a:t>Stairs To</a:t>
            </a:r>
            <a:br>
              <a:rPr sz="4400"/>
            </a:br>
            <a:r>
              <a:rPr b="1" lang="en-US" sz="4400" spc="-1" strike="noStrike">
                <a:solidFill>
                  <a:srgbClr val="ccffcc"/>
                </a:solidFill>
                <a:latin typeface="Arial Black"/>
              </a:rPr>
              <a:t>Success</a:t>
            </a:r>
            <a:endParaRPr b="1" lang="en-US" sz="4400" spc="-1" strike="noStrike">
              <a:solidFill>
                <a:srgbClr val="ccff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2120" y="2743200"/>
            <a:ext cx="3581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Your Sub Title Here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1080" y="14436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成功阶梯企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Your Main Point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Your Sub Points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r Main Point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Sub Point Here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cc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A01-30E1-4446-B9B0-A4D2788F3B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NSITION</a:t>
            </a:r>
            <a:br>
              <a:rPr sz="4400"/>
            </a:b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PAGE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7:13:3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15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