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CED8-63A4-4774-BEFD-2359EE03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00200" y="56887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494A-BFF9-4055-B398-7515C413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4128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0C10C-6B28-4A9A-B00B-2A2DBD7B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386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770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002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386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770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9BC6-679D-4518-A52E-D449034B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518148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438A9-6599-4CAE-8840-B78D35E9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84128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1600200" y="56887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84128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386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877000" y="541008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16002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7386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877000" y="5688720"/>
            <a:ext cx="20361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6D4B0-A025-4DD2-A243-AEA9DD3E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63E84-00BA-4166-98F9-50B7CDB0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A173-1F35-4C46-B0A2-BEC6A05B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518148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9A08-CF92-4111-883A-4C0C23AE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CFE6-71B7-40BA-9097-AC9BD723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41280" y="568872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409F1-86D4-4313-B485-580FE5A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0020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41280" y="5410080"/>
            <a:ext cx="3086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00200" y="5688720"/>
            <a:ext cx="6324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837D7-C136-48BE-B051-CAEF88B0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262080"/>
          <a:ext cx="9144000" cy="10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2080"/>
                    <a:ext cx="9144000" cy="10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7120-A415-453A-814D-FE4501C92371}" type="slidenum">
              <a:rPr b="0" lang="en-US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5943240" y="647676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46ca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46ca6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5983" r="0" b="0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9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0" name="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28440" y="1688040"/>
                <a:ext cx="9115560" cy="1022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0" y="4689000"/>
            <a:ext cx="9144000" cy="2168640"/>
            <a:chOff x="0" y="4689000"/>
            <a:chExt cx="9144000" cy="2168640"/>
          </a:xfrm>
        </p:grpSpPr>
        <p:grpSp>
          <p:nvGrpSpPr>
            <p:cNvPr id="54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5" name="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8440" y="5037840"/>
                <a:ext cx="9115560" cy="10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0" y="4689000"/>
              <a:ext cx="9097920" cy="406440"/>
              <a:chOff x="0" y="4689000"/>
              <a:chExt cx="9097920" cy="406440"/>
            </a:xfrm>
          </p:grpSpPr>
          <p:sp>
            <p:nvSpPr>
              <p:cNvPr id="58" name=""/>
              <p:cNvSpPr/>
              <p:nvPr/>
            </p:nvSpPr>
            <p:spPr>
              <a:xfrm flipV="1">
                <a:off x="0" y="4688280"/>
                <a:ext cx="9097920" cy="3474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4732920"/>
                <a:ext cx="9097920" cy="3618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1" name="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160" y="2286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492480" y="42696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51051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46ca6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46ca6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784160" y="10666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测量血压背景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066680" y="2362320"/>
            <a:ext cx="7016760" cy="2971800"/>
            <a:chOff x="1066680" y="2362320"/>
            <a:chExt cx="7016760" cy="2971800"/>
          </a:xfrm>
        </p:grpSpPr>
        <p:sp>
          <p:nvSpPr>
            <p:cNvPr id="284" name=""/>
            <p:cNvSpPr/>
            <p:nvPr/>
          </p:nvSpPr>
          <p:spPr>
            <a:xfrm>
              <a:off x="3052800" y="3098880"/>
              <a:ext cx="465120" cy="53172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67400" y="3098880"/>
              <a:ext cx="463320" cy="5317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973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db52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276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56080" y="2508480"/>
              <a:ext cx="1727280" cy="173340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0"/>
                  </a:srgbClr>
                </a:gs>
                <a:gs pos="100000">
                  <a:srgbClr val="8b721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19800" y="2584440"/>
              <a:ext cx="155556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96969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66680" y="2362320"/>
              <a:ext cx="1986120" cy="1994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97000" y="2492640"/>
              <a:ext cx="1725480" cy="1733400"/>
            </a:xfrm>
            <a:prstGeom prst="ellipse">
              <a:avLst/>
            </a:prstGeom>
            <a:gradFill rotWithShape="0">
              <a:gsLst>
                <a:gs pos="0">
                  <a:srgbClr val="505050"/>
                </a:gs>
                <a:gs pos="50000">
                  <a:srgbClr val="969696"/>
                </a:gs>
                <a:gs pos="100000">
                  <a:srgbClr val="5050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98440" y="249552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e5e5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82680" y="257976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307880" y="2602080"/>
              <a:ext cx="1503360" cy="1511280"/>
              <a:chOff x="1307880" y="2602080"/>
              <a:chExt cx="1503360" cy="1511280"/>
            </a:xfrm>
          </p:grpSpPr>
          <p:sp>
            <p:nvSpPr>
              <p:cNvPr id="297" name=""/>
              <p:cNvSpPr/>
              <p:nvPr/>
            </p:nvSpPr>
            <p:spPr>
              <a:xfrm>
                <a:off x="13078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3269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3424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4241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ac8de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2720" y="2368800"/>
              <a:ext cx="1986120" cy="1993680"/>
            </a:xfrm>
            <a:prstGeom prst="ellipse">
              <a:avLst/>
            </a:prstGeom>
            <a:gradFill rotWithShape="0">
              <a:gsLst>
                <a:gs pos="0">
                  <a:srgbClr val="3f5c66"/>
                </a:gs>
                <a:gs pos="100000">
                  <a:srgbClr val="8ac8de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13040" y="2498760"/>
              <a:ext cx="1725480" cy="1733760"/>
            </a:xfrm>
            <a:prstGeom prst="ellipse">
              <a:avLst/>
            </a:prstGeom>
            <a:gradFill rotWithShape="0">
              <a:gsLst>
                <a:gs pos="0">
                  <a:srgbClr val="4a6b77"/>
                </a:gs>
                <a:gs pos="50000">
                  <a:srgbClr val="8ac8de"/>
                </a:gs>
                <a:gs pos="100000">
                  <a:srgbClr val="4a6b7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4480" y="2502000"/>
              <a:ext cx="1725840" cy="1733400"/>
            </a:xfrm>
            <a:prstGeom prst="ellipse">
              <a:avLst/>
            </a:prstGeom>
            <a:gradFill rotWithShape="0">
              <a:gsLst>
                <a:gs pos="0">
                  <a:srgbClr val="8ac8de">
                    <a:alpha val="0"/>
                  </a:srgbClr>
                </a:gs>
                <a:gs pos="100000">
                  <a:srgbClr val="577e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8720" y="2584440"/>
              <a:ext cx="1554120" cy="1560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824280" y="2602080"/>
              <a:ext cx="1503360" cy="1511280"/>
              <a:chOff x="3824280" y="2602080"/>
              <a:chExt cx="1503360" cy="1511280"/>
            </a:xfrm>
          </p:grpSpPr>
          <p:sp>
            <p:nvSpPr>
              <p:cNvPr id="307" name=""/>
              <p:cNvSpPr/>
              <p:nvPr/>
            </p:nvSpPr>
            <p:spPr>
              <a:xfrm>
                <a:off x="3824280" y="2602080"/>
                <a:ext cx="15033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3360" y="2610360"/>
                <a:ext cx="14670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58840" y="2624760"/>
                <a:ext cx="13950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940560" y="2663640"/>
                <a:ext cx="124020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6348240" y="2602080"/>
              <a:ext cx="1505160" cy="1511280"/>
              <a:chOff x="6348240" y="2602080"/>
              <a:chExt cx="1505160" cy="1511280"/>
            </a:xfrm>
          </p:grpSpPr>
          <p:sp>
            <p:nvSpPr>
              <p:cNvPr id="312" name=""/>
              <p:cNvSpPr/>
              <p:nvPr/>
            </p:nvSpPr>
            <p:spPr>
              <a:xfrm>
                <a:off x="6348240" y="2602080"/>
                <a:ext cx="1505160" cy="15112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367320" y="2610360"/>
                <a:ext cx="1468800" cy="1473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382800" y="2624760"/>
                <a:ext cx="1396800" cy="13770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64880" y="2663640"/>
                <a:ext cx="1241640" cy="1117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1110960" y="4857840"/>
              <a:ext cx="18925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255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56360" y="4857840"/>
              <a:ext cx="1890720" cy="47628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758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9832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19400" y="3160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371600" y="1447920"/>
            <a:ext cx="7086600" cy="4476600"/>
            <a:chOff x="1371600" y="1447920"/>
            <a:chExt cx="7086600" cy="4476600"/>
          </a:xfrm>
        </p:grpSpPr>
        <p:sp>
          <p:nvSpPr>
            <p:cNvPr id="324" name=""/>
            <p:cNvSpPr/>
            <p:nvPr/>
          </p:nvSpPr>
          <p:spPr>
            <a:xfrm>
              <a:off x="1371600" y="18860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ddb523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1320" y="34099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20876400">
              <a:off x="3621240" y="4876920"/>
              <a:ext cx="1438200" cy="66672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52840" y="3657600"/>
              <a:ext cx="1704960" cy="1706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3360" y="3667320"/>
              <a:ext cx="1665360" cy="1663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91000" y="3683160"/>
              <a:ext cx="1584360" cy="15555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83160" y="3727440"/>
              <a:ext cx="1409400" cy="1262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970440" y="428472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20826600">
              <a:off x="1778040" y="4267080"/>
              <a:ext cx="1133280" cy="6094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1701720" y="3276720"/>
              <a:ext cx="1371240" cy="1441080"/>
              <a:chOff x="1701720" y="3276720"/>
              <a:chExt cx="1371240" cy="1441080"/>
            </a:xfrm>
          </p:grpSpPr>
          <p:sp>
            <p:nvSpPr>
              <p:cNvPr id="334" name=""/>
              <p:cNvSpPr/>
              <p:nvPr/>
            </p:nvSpPr>
            <p:spPr>
              <a:xfrm>
                <a:off x="1701720" y="3276720"/>
                <a:ext cx="1371240" cy="144108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9720" y="3285000"/>
                <a:ext cx="1337040" cy="1404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32680" y="3298320"/>
                <a:ext cx="1271880" cy="13143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804320" y="3335040"/>
                <a:ext cx="1132200" cy="1065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982160" y="3782880"/>
                <a:ext cx="773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600200" y="2511720"/>
              <a:ext cx="914400" cy="5331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76520" y="1905120"/>
              <a:ext cx="1023840" cy="10238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89120" y="190980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0280" y="1920960"/>
              <a:ext cx="950760" cy="9334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4280" y="1946520"/>
              <a:ext cx="847800" cy="757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73440" y="22543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867040" y="1981440"/>
              <a:ext cx="685800" cy="228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9440" y="1447920"/>
              <a:ext cx="682560" cy="682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98800" y="1451160"/>
              <a:ext cx="665280" cy="6667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05280" y="1457280"/>
              <a:ext cx="633240" cy="6224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041640" y="1476360"/>
              <a:ext cx="563400" cy="503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59640" y="167184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53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b3cd"/>
                </a:gs>
                <a:gs pos="100000">
                  <a:srgbClr val="99669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db523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ddb523">
                    <a:alpha val="0"/>
                  </a:srgbClr>
                </a:gs>
                <a:gs pos="100000">
                  <a:srgbClr val="8b721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78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219320" y="1676520"/>
            <a:ext cx="6781320" cy="4006440"/>
            <a:chOff x="1219320" y="1676520"/>
            <a:chExt cx="6781320" cy="4006440"/>
          </a:xfrm>
        </p:grpSpPr>
        <p:sp>
          <p:nvSpPr>
            <p:cNvPr id="385" name=""/>
            <p:cNvSpPr/>
            <p:nvPr/>
          </p:nvSpPr>
          <p:spPr>
            <a:xfrm>
              <a:off x="12193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99669b"/>
                </a:gs>
                <a:gs pos="100000">
                  <a:srgbClr val="f1ebf1"/>
                </a:gs>
              </a:gsLst>
              <a:lin ang="5400000"/>
            </a:gradFill>
            <a:ln w="25560">
              <a:solidFill>
                <a:srgbClr val="996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386" name="" descr=""/>
            <p:cNvPicPr/>
            <p:nvPr/>
          </p:nvPicPr>
          <p:blipFill>
            <a:blip r:embed="rId1"/>
            <a:stretch/>
          </p:blipFill>
          <p:spPr>
            <a:xfrm>
              <a:off x="1404000" y="2292840"/>
              <a:ext cx="292824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152748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2f47"/>
                </a:gs>
                <a:gs pos="50000">
                  <a:srgbClr val="99669b"/>
                </a:gs>
                <a:gs pos="100000">
                  <a:srgbClr val="462f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09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9348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71720" y="1861200"/>
              <a:ext cx="3328920" cy="3821760"/>
            </a:xfrm>
            <a:custGeom>
              <a:avLst/>
              <a:gdLst>
                <a:gd name="textAreaLeft" fmla="*/ 88560 w 3328920"/>
                <a:gd name="textAreaRight" fmla="*/ 3240360 w 332892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7">
                  <a:moveTo>
                    <a:pt x="1967" y="0"/>
                  </a:moveTo>
                  <a:arcTo wR="1967" hR="1967" stAng="16200000" swAng="-5400000"/>
                  <a:lnTo>
                    <a:pt x="0" y="22830"/>
                  </a:lnTo>
                  <a:arcTo wR="1967" hR="1967" stAng="10800000" swAng="-5400000"/>
                  <a:lnTo>
                    <a:pt x="19633" y="2479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deeef4"/>
                </a:gs>
              </a:gsLst>
              <a:lin ang="5400000"/>
            </a:gradFill>
            <a:ln w="25560">
              <a:solidFill>
                <a:srgbClr val="8ac8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aphicFrame>
          <p:nvGraphicFramePr>
            <p:cNvPr id="391" name=""/>
            <p:cNvGraphicFramePr/>
            <p:nvPr/>
          </p:nvGraphicFramePr>
          <p:xfrm>
            <a:off x="4856400" y="2292840"/>
            <a:ext cx="2928600" cy="3281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56400" y="2292840"/>
                      <a:ext cx="2928600" cy="32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3" name=""/>
            <p:cNvSpPr/>
            <p:nvPr/>
          </p:nvSpPr>
          <p:spPr>
            <a:xfrm>
              <a:off x="4980240" y="167652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103360" y="179964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445880" y="179964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9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0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1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2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3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0" y="1752480"/>
            <a:ext cx="9144000" cy="4188960"/>
            <a:chOff x="0" y="1752480"/>
            <a:chExt cx="9144000" cy="4188960"/>
          </a:xfrm>
        </p:grpSpPr>
        <p:grpSp>
          <p:nvGrpSpPr>
            <p:cNvPr id="44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44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1379520" y="2609640"/>
              <a:ext cx="1931760" cy="3265200"/>
              <a:chOff x="1379520" y="2609640"/>
              <a:chExt cx="1931760" cy="326520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1785240" y="3450240"/>
                <a:ext cx="1526040" cy="2424600"/>
                <a:chOff x="1785240" y="3450240"/>
                <a:chExt cx="1526040" cy="2424600"/>
              </a:xfrm>
            </p:grpSpPr>
            <p:grpSp>
              <p:nvGrpSpPr>
                <p:cNvPr id="449" name=""/>
                <p:cNvGrpSpPr/>
                <p:nvPr/>
              </p:nvGrpSpPr>
              <p:grpSpPr>
                <a:xfrm>
                  <a:off x="1785240" y="3607920"/>
                  <a:ext cx="1420200" cy="2266920"/>
                  <a:chOff x="1785240" y="3607920"/>
                  <a:chExt cx="1420200" cy="22669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rot="3876600">
                    <a:off x="13575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rot="3876600">
                    <a:off x="27248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2221560" y="3450240"/>
                  <a:ext cx="1089720" cy="1739520"/>
                  <a:chOff x="2221560" y="3450240"/>
                  <a:chExt cx="1089720" cy="173952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18928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V="1" rot="3876600">
                    <a:off x="29268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1379520" y="2609640"/>
                <a:ext cx="1270440" cy="1309320"/>
                <a:chOff x="1379520" y="2609640"/>
                <a:chExt cx="1270440" cy="13093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3795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4634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4634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5181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461" name=""/>
                <p:cNvGrpSpPr/>
                <p:nvPr/>
              </p:nvGrpSpPr>
              <p:grpSpPr>
                <a:xfrm>
                  <a:off x="1533240" y="2768040"/>
                  <a:ext cx="962280" cy="992880"/>
                  <a:chOff x="1533240" y="2768040"/>
                  <a:chExt cx="962280" cy="99288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15332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15454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15552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16077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6" name=""/>
              <p:cNvSpPr/>
              <p:nvPr/>
            </p:nvSpPr>
            <p:spPr>
              <a:xfrm rot="3925800">
                <a:off x="174636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3925800">
                <a:off x="2207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3127320" y="2609640"/>
              <a:ext cx="1931040" cy="3265200"/>
              <a:chOff x="3127320" y="2609640"/>
              <a:chExt cx="1931040" cy="326520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3531960" y="3450240"/>
                <a:ext cx="1526400" cy="2424600"/>
                <a:chOff x="3531960" y="3450240"/>
                <a:chExt cx="1526400" cy="242460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3531960" y="3607920"/>
                  <a:ext cx="1420200" cy="2266920"/>
                  <a:chOff x="3531960" y="3607920"/>
                  <a:chExt cx="1420200" cy="226692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 rot="3876600">
                    <a:off x="310428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 rot="3876600">
                    <a:off x="4471560" y="537372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" name=""/>
                <p:cNvGrpSpPr/>
                <p:nvPr/>
              </p:nvGrpSpPr>
              <p:grpSpPr>
                <a:xfrm>
                  <a:off x="3968280" y="3450240"/>
                  <a:ext cx="1090080" cy="1739520"/>
                  <a:chOff x="3968280" y="3450240"/>
                  <a:chExt cx="1090080" cy="17395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3639960" y="413100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V="1" rot="3876600">
                    <a:off x="4673880" y="481212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3127320" y="2609640"/>
                <a:ext cx="1270440" cy="1309320"/>
                <a:chOff x="3127320" y="2609640"/>
                <a:chExt cx="1270440" cy="13093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127320" y="260964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11200" y="26946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211200" y="269748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265920" y="275256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3281040" y="2768040"/>
                  <a:ext cx="962280" cy="992880"/>
                  <a:chOff x="3281040" y="2768040"/>
                  <a:chExt cx="962280" cy="99288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3281040" y="276804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293280" y="277344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3303000" y="278280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3355560" y="280836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7" name=""/>
              <p:cNvSpPr/>
              <p:nvPr/>
            </p:nvSpPr>
            <p:spPr>
              <a:xfrm rot="3925800">
                <a:off x="348768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rot="3925800">
                <a:off x="394992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4930920" y="2609640"/>
              <a:ext cx="1931760" cy="3265200"/>
              <a:chOff x="4930920" y="2609640"/>
              <a:chExt cx="1931760" cy="32652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5336640" y="3450240"/>
                <a:ext cx="1526040" cy="2424600"/>
                <a:chOff x="5336640" y="3450240"/>
                <a:chExt cx="1526040" cy="24246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5336640" y="3607920"/>
                  <a:ext cx="1420200" cy="2266920"/>
                  <a:chOff x="5336640" y="3607920"/>
                  <a:chExt cx="1420200" cy="22669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 rot="3876600">
                    <a:off x="4908960" y="44949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 rot="3876600">
                    <a:off x="6276240" y="53740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5772960" y="3450240"/>
                  <a:ext cx="1089720" cy="1739520"/>
                  <a:chOff x="5772960" y="3450240"/>
                  <a:chExt cx="1089720" cy="173952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 flipV="1" rot="3876600">
                    <a:off x="5444280" y="41310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 rot="3876600">
                    <a:off x="6478200" y="48132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7" name=""/>
              <p:cNvGrpSpPr/>
              <p:nvPr/>
            </p:nvGrpSpPr>
            <p:grpSpPr>
              <a:xfrm>
                <a:off x="4930920" y="2609640"/>
                <a:ext cx="1272240" cy="1309320"/>
                <a:chOff x="4930920" y="2609640"/>
                <a:chExt cx="1272240" cy="1309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930920" y="260964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015160" y="26946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015160" y="269748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69880" y="275256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503" name=""/>
                <p:cNvGrpSpPr/>
                <p:nvPr/>
              </p:nvGrpSpPr>
              <p:grpSpPr>
                <a:xfrm>
                  <a:off x="5085000" y="2768040"/>
                  <a:ext cx="963720" cy="992880"/>
                  <a:chOff x="5085000" y="2768040"/>
                  <a:chExt cx="963720" cy="992880"/>
                </a:xfrm>
              </p:grpSpPr>
              <p:sp>
                <p:nvSpPr>
                  <p:cNvPr id="504" name=""/>
                  <p:cNvSpPr/>
                  <p:nvPr/>
                </p:nvSpPr>
                <p:spPr>
                  <a:xfrm>
                    <a:off x="5085000" y="276804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5097240" y="277344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5107320" y="278280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5159520" y="280836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8" name=""/>
              <p:cNvSpPr/>
              <p:nvPr/>
            </p:nvSpPr>
            <p:spPr>
              <a:xfrm rot="3925800">
                <a:off x="5301000" y="4426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3925800">
                <a:off x="5762880" y="4147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6707160" y="2465280"/>
              <a:ext cx="2122200" cy="3476160"/>
              <a:chOff x="6707160" y="2465280"/>
              <a:chExt cx="2122200" cy="3476160"/>
            </a:xfrm>
          </p:grpSpPr>
          <p:grpSp>
            <p:nvGrpSpPr>
              <p:cNvPr id="511" name=""/>
              <p:cNvGrpSpPr/>
              <p:nvPr/>
            </p:nvGrpSpPr>
            <p:grpSpPr>
              <a:xfrm>
                <a:off x="7303320" y="3516840"/>
                <a:ext cx="1526040" cy="2424600"/>
                <a:chOff x="7303320" y="3516840"/>
                <a:chExt cx="1526040" cy="2424600"/>
              </a:xfrm>
            </p:grpSpPr>
            <p:grpSp>
              <p:nvGrpSpPr>
                <p:cNvPr id="512" name=""/>
                <p:cNvGrpSpPr/>
                <p:nvPr/>
              </p:nvGrpSpPr>
              <p:grpSpPr>
                <a:xfrm>
                  <a:off x="7303320" y="3674520"/>
                  <a:ext cx="1420200" cy="2266920"/>
                  <a:chOff x="7303320" y="3674520"/>
                  <a:chExt cx="1420200" cy="22669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 rot="3876600">
                    <a:off x="6875640" y="456156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3876600">
                    <a:off x="8242920" y="544068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5" name=""/>
                <p:cNvGrpSpPr/>
                <p:nvPr/>
              </p:nvGrpSpPr>
              <p:grpSpPr>
                <a:xfrm>
                  <a:off x="7739640" y="3516840"/>
                  <a:ext cx="1089720" cy="1739520"/>
                  <a:chOff x="7739640" y="3516840"/>
                  <a:chExt cx="1089720" cy="1739520"/>
                </a:xfrm>
              </p:grpSpPr>
              <p:sp>
                <p:nvSpPr>
                  <p:cNvPr id="516" name=""/>
                  <p:cNvSpPr/>
                  <p:nvPr/>
                </p:nvSpPr>
                <p:spPr>
                  <a:xfrm flipV="1" rot="3876600">
                    <a:off x="7410960" y="419760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V="1" rot="3876600">
                    <a:off x="8444880" y="487980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8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707160" y="246528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08680" y="256860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810480" y="257148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263664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523" name=""/>
              <p:cNvGrpSpPr/>
              <p:nvPr/>
            </p:nvGrpSpPr>
            <p:grpSpPr>
              <a:xfrm>
                <a:off x="6892920" y="2655720"/>
                <a:ext cx="1157400" cy="1190160"/>
                <a:chOff x="6892920" y="2655720"/>
                <a:chExt cx="1157400" cy="119016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6892920" y="265572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907680" y="266220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919560" y="267372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982560" y="270396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"/>
              <p:cNvSpPr/>
              <p:nvPr/>
            </p:nvSpPr>
            <p:spPr>
              <a:xfrm rot="3925800">
                <a:off x="7253280" y="45698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rot="3925800">
                <a:off x="7713720" y="42904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46ca6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1719000" y="1752480"/>
              <a:ext cx="6056640" cy="407880"/>
              <a:chOff x="1719000" y="1752480"/>
              <a:chExt cx="6056640" cy="407880"/>
            </a:xfrm>
          </p:grpSpPr>
          <p:sp>
            <p:nvSpPr>
              <p:cNvPr id="531" name=""/>
              <p:cNvSpPr/>
              <p:nvPr/>
            </p:nvSpPr>
            <p:spPr>
              <a:xfrm>
                <a:off x="171900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47292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219280" y="179208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09560" y="1752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46ca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cxnSp>
            <p:nvCxnSpPr>
              <p:cNvPr id="535" name=""/>
              <p:cNvCxnSpPr>
                <a:stCxn id="531" idx="3"/>
                <a:endCxn id="532" idx="1"/>
              </p:cNvCxnSpPr>
              <p:nvPr/>
            </p:nvCxnSpPr>
            <p:spPr>
              <a:xfrm>
                <a:off x="2455560" y="1976040"/>
                <a:ext cx="98640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  <p:cxnSp>
            <p:nvCxnSpPr>
              <p:cNvPr id="536" name=""/>
              <p:cNvCxnSpPr>
                <a:stCxn id="532" idx="3"/>
                <a:endCxn id="533" idx="1"/>
              </p:cNvCxnSpPr>
              <p:nvPr/>
            </p:nvCxnSpPr>
            <p:spPr>
              <a:xfrm>
                <a:off x="4209480" y="1976040"/>
                <a:ext cx="97812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  <p:cxnSp>
            <p:nvCxnSpPr>
              <p:cNvPr id="537" name=""/>
              <p:cNvCxnSpPr/>
              <p:nvPr/>
            </p:nvCxnSpPr>
            <p:spPr>
              <a:xfrm>
                <a:off x="5955840" y="1980720"/>
                <a:ext cx="978120" cy="1080"/>
              </a:xfrm>
              <a:prstGeom prst="straightConnector1">
                <a:avLst/>
              </a:prstGeom>
              <a:ln w="9360">
                <a:solidFill>
                  <a:srgbClr val="046ca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371600" y="2057400"/>
            <a:ext cx="6858000" cy="3428640"/>
            <a:chOff x="1371600" y="2057400"/>
            <a:chExt cx="6858000" cy="3428640"/>
          </a:xfrm>
        </p:grpSpPr>
        <p:sp>
          <p:nvSpPr>
            <p:cNvPr id="540" name=""/>
            <p:cNvSpPr/>
            <p:nvPr/>
          </p:nvSpPr>
          <p:spPr>
            <a:xfrm>
              <a:off x="5666400" y="2826720"/>
              <a:ext cx="2563200" cy="2659320"/>
            </a:xfrm>
            <a:custGeom>
              <a:avLst/>
              <a:gdLst>
                <a:gd name="textAreaLeft" fmla="*/ 0 w 2563200"/>
                <a:gd name="textAreaRight" fmla="*/ 2563560 w 256320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b793b8"/>
                </a:gs>
                <a:gs pos="100000">
                  <a:srgbClr val="99669b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190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6ca65"/>
                </a:gs>
                <a:gs pos="100000">
                  <a:srgbClr val="ddb52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71600" y="2826720"/>
              <a:ext cx="2701440" cy="2659320"/>
            </a:xfrm>
            <a:custGeom>
              <a:avLst/>
              <a:gdLst>
                <a:gd name="textAreaLeft" fmla="*/ 0 w 2701440"/>
                <a:gd name="textAreaRight" fmla="*/ 2701800 w 2701440"/>
                <a:gd name="textAreaTop" fmla="*/ 0 h 2659320"/>
                <a:gd name="textAreaBottom" fmla="*/ 2659680 h 265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acd7e7"/>
                </a:gs>
                <a:gs pos="100000">
                  <a:srgbClr val="8ac8de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57932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d7e7"/>
                </a:gs>
                <a:gs pos="100000">
                  <a:srgbClr val="8ac8de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68784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6ca65"/>
                </a:gs>
                <a:gs pos="100000">
                  <a:srgbClr val="ddb52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05000" y="2057400"/>
              <a:ext cx="1870200" cy="527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793b8"/>
                </a:gs>
                <a:gs pos="100000">
                  <a:srgbClr val="99669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"/>
          <p:cNvSpPr/>
          <p:nvPr/>
        </p:nvSpPr>
        <p:spPr>
          <a:xfrm>
            <a:off x="630396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08360" y="3129120"/>
            <a:ext cx="1611360" cy="273816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160"/>
              <a:gd name="textAreaBottom" fmla="*/ 2673360 h 2738160"/>
            </a:gdLst>
            <a:ahLst/>
            <a:rect l="textAreaLeft" t="textAreaTop" r="textAreaRight" b="textAreaBottom"/>
            <a:pathLst>
              <a:path w="21600" h="36701">
                <a:moveTo>
                  <a:pt x="2969" y="0"/>
                </a:moveTo>
                <a:arcTo wR="2969" hR="2969" stAng="16200000" swAng="-5400000"/>
                <a:lnTo>
                  <a:pt x="0" y="33732"/>
                </a:lnTo>
                <a:arcTo wR="2969" hR="2969" stAng="10800000" swAng="-5400000"/>
                <a:lnTo>
                  <a:pt x="18631" y="3670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925720" y="3129120"/>
            <a:ext cx="1563840" cy="273816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160"/>
              <a:gd name="textAreaBottom" fmla="*/ 2675520 h 2738160"/>
            </a:gdLst>
            <a:ahLst/>
            <a:rect l="textAreaLeft" t="textAreaTop" r="textAreaRight" b="textAreaBottom"/>
            <a:pathLst>
              <a:path w="21600" h="37816">
                <a:moveTo>
                  <a:pt x="2969" y="0"/>
                </a:moveTo>
                <a:arcTo wR="2969" hR="2969" stAng="16200000" swAng="-5400000"/>
                <a:lnTo>
                  <a:pt x="0" y="34847"/>
                </a:lnTo>
                <a:arcTo wR="2969" hR="2969" stAng="10800000" swAng="-5400000"/>
                <a:lnTo>
                  <a:pt x="18631" y="378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219320" y="3129120"/>
            <a:ext cx="1620720" cy="273816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160"/>
              <a:gd name="textAreaBottom" fmla="*/ 2673000 h 2738160"/>
            </a:gdLst>
            <a:ahLst/>
            <a:rect l="textAreaLeft" t="textAreaTop" r="textAreaRight" b="textAreaBottom"/>
            <a:pathLst>
              <a:path w="21600" h="36489">
                <a:moveTo>
                  <a:pt x="2969" y="0"/>
                </a:moveTo>
                <a:arcTo wR="2969" hR="2969" stAng="16200000" swAng="-5400000"/>
                <a:lnTo>
                  <a:pt x="0" y="33520"/>
                </a:lnTo>
                <a:arcTo wR="2969" hR="2969" stAng="10800000" swAng="-5400000"/>
                <a:lnTo>
                  <a:pt x="18631" y="3648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280160" y="1558800"/>
            <a:ext cx="6214680" cy="1324440"/>
            <a:chOff x="1280160" y="1558800"/>
            <a:chExt cx="6214680" cy="1324440"/>
          </a:xfrm>
        </p:grpSpPr>
        <p:sp>
          <p:nvSpPr>
            <p:cNvPr id="552" name=""/>
            <p:cNvSpPr/>
            <p:nvPr/>
          </p:nvSpPr>
          <p:spPr>
            <a:xfrm rot="3418800">
              <a:off x="1487880" y="176652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55310"/>
                </a:gs>
              </a:gsLst>
              <a:lin ang="198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2410920" y="1939680"/>
              <a:ext cx="901080" cy="124200"/>
              <a:chOff x="2410920" y="1939680"/>
              <a:chExt cx="901080" cy="124200"/>
            </a:xfrm>
          </p:grpSpPr>
          <p:sp>
            <p:nvSpPr>
              <p:cNvPr id="554" name=""/>
              <p:cNvSpPr/>
              <p:nvPr/>
            </p:nvSpPr>
            <p:spPr>
              <a:xfrm>
                <a:off x="241092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49732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17556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24828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 rot="3418800">
              <a:off x="3152520" y="1704240"/>
              <a:ext cx="874080" cy="970920"/>
            </a:xfrm>
            <a:prstGeom prst="rect">
              <a:avLst/>
            </a:prstGeom>
            <a:solidFill>
              <a:srgbClr val="99669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075560" y="1939680"/>
              <a:ext cx="901080" cy="124200"/>
              <a:chOff x="4075560" y="1939680"/>
              <a:chExt cx="901080" cy="124200"/>
            </a:xfrm>
          </p:grpSpPr>
          <p:sp>
            <p:nvSpPr>
              <p:cNvPr id="560" name=""/>
              <p:cNvSpPr/>
              <p:nvPr/>
            </p:nvSpPr>
            <p:spPr>
              <a:xfrm>
                <a:off x="4075560" y="193968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161960" y="1940400"/>
                <a:ext cx="7470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40200" y="194148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912920" y="198036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 rot="3418800">
              <a:off x="4747680" y="17042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655310"/>
                </a:gs>
              </a:gsLst>
              <a:lin ang="1980000"/>
            </a:gra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5740200" y="1939680"/>
              <a:ext cx="1178280" cy="124200"/>
              <a:chOff x="5740200" y="1939680"/>
              <a:chExt cx="1178280" cy="124200"/>
            </a:xfrm>
          </p:grpSpPr>
          <p:sp>
            <p:nvSpPr>
              <p:cNvPr id="566" name=""/>
              <p:cNvSpPr/>
              <p:nvPr/>
            </p:nvSpPr>
            <p:spPr>
              <a:xfrm>
                <a:off x="5740200" y="193968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53240" y="1940400"/>
                <a:ext cx="97704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39920" y="194148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835320" y="198036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 rot="3418800">
              <a:off x="6412320" y="1704240"/>
              <a:ext cx="874080" cy="970920"/>
            </a:xfrm>
            <a:prstGeom prst="rect">
              <a:avLst/>
            </a:prstGeom>
            <a:solidFill>
              <a:srgbClr val="99669b"/>
            </a:solidFill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5948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904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8366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532200" y="2054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6012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2950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99068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685920" y="334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164600" y="1081440"/>
            <a:ext cx="6879600" cy="4804560"/>
            <a:chOff x="1164600" y="1081440"/>
            <a:chExt cx="6879600" cy="4804560"/>
          </a:xfrm>
        </p:grpSpPr>
        <p:sp>
          <p:nvSpPr>
            <p:cNvPr id="581" name=""/>
            <p:cNvSpPr/>
            <p:nvPr/>
          </p:nvSpPr>
          <p:spPr>
            <a:xfrm>
              <a:off x="2362320" y="429732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01600">
              <a:off x="1506600" y="210780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01600">
              <a:off x="1563480" y="19458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01600">
              <a:off x="1477800" y="193176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rot="20602200">
              <a:off x="1455840" y="196272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01600">
              <a:off x="1487520" y="194292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20602200">
              <a:off x="1469880" y="195048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01600">
              <a:off x="3024360" y="26604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39640" y="2882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44760" y="19684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20920" y="24256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346800" y="295884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539200">
              <a:off x="1482120" y="196128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46520" y="344016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920920" y="3416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68440" y="417816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63320" y="40258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01600">
              <a:off x="3125880" y="291312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22920" y="383544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1590840" y="1492200"/>
            <a:ext cx="5419080" cy="4755960"/>
            <a:chOff x="1590840" y="1492200"/>
            <a:chExt cx="5419080" cy="4755960"/>
          </a:xfrm>
        </p:grpSpPr>
        <p:sp>
          <p:nvSpPr>
            <p:cNvPr id="602" name=""/>
            <p:cNvSpPr/>
            <p:nvPr/>
          </p:nvSpPr>
          <p:spPr>
            <a:xfrm>
              <a:off x="5257080" y="2297880"/>
              <a:ext cx="695880" cy="192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53240" y="3876840"/>
              <a:ext cx="1177200" cy="326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302080" y="5774040"/>
              <a:ext cx="1707840" cy="474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804680" y="4496760"/>
              <a:ext cx="1387080" cy="3848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3770000">
              <a:off x="4833360" y="3775320"/>
              <a:ext cx="899280" cy="17964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856000">
              <a:off x="2973240" y="3354480"/>
              <a:ext cx="945720" cy="162000"/>
            </a:xfrm>
            <a:prstGeom prst="rect">
              <a:avLst/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3852000" y="2131560"/>
              <a:ext cx="1594800" cy="1719360"/>
              <a:chOff x="3852000" y="2131560"/>
              <a:chExt cx="1594800" cy="1719360"/>
            </a:xfrm>
          </p:grpSpPr>
          <p:sp>
            <p:nvSpPr>
              <p:cNvPr id="609" name=""/>
              <p:cNvSpPr/>
              <p:nvPr/>
            </p:nvSpPr>
            <p:spPr>
              <a:xfrm rot="18394200">
                <a:off x="4952160" y="2330280"/>
                <a:ext cx="557640" cy="123120"/>
              </a:xfrm>
              <a:prstGeom prst="rect">
                <a:avLst/>
              </a:prstGeom>
              <a:gradFill rotWithShape="0">
                <a:gsLst>
                  <a:gs pos="0">
                    <a:srgbClr val="454545"/>
                  </a:gs>
                  <a:gs pos="50000">
                    <a:srgbClr val="969696"/>
                  </a:gs>
                  <a:gs pos="100000">
                    <a:srgbClr val="454545"/>
                  </a:gs>
                </a:gsLst>
                <a:lin ang="860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852000" y="2364120"/>
                <a:ext cx="1507680" cy="1486800"/>
                <a:chOff x="3852000" y="2364120"/>
                <a:chExt cx="1507680" cy="14868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852000" y="2364120"/>
                  <a:ext cx="1507680" cy="1486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024080" y="2388600"/>
                  <a:ext cx="1163160" cy="560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3890160" y="3011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5164920" y="1492200"/>
              <a:ext cx="871200" cy="807120"/>
              <a:chOff x="5164920" y="1492200"/>
              <a:chExt cx="871200" cy="807120"/>
            </a:xfrm>
          </p:grpSpPr>
          <p:grpSp>
            <p:nvGrpSpPr>
              <p:cNvPr id="615" name=""/>
              <p:cNvGrpSpPr/>
              <p:nvPr/>
            </p:nvGrpSpPr>
            <p:grpSpPr>
              <a:xfrm>
                <a:off x="5172480" y="1492200"/>
                <a:ext cx="816120" cy="807120"/>
                <a:chOff x="5172480" y="1492200"/>
                <a:chExt cx="816120" cy="8071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5172480" y="1492200"/>
                  <a:ext cx="816120" cy="80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c8de"/>
                    </a:gs>
                    <a:gs pos="100000">
                      <a:srgbClr val="3e5a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265720" y="1505520"/>
                  <a:ext cx="629640" cy="3045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ac8d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5164920" y="1802880"/>
                <a:ext cx="871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590840" y="2733480"/>
              <a:ext cx="1633680" cy="1676880"/>
              <a:chOff x="1590840" y="2733480"/>
              <a:chExt cx="1633680" cy="1676880"/>
            </a:xfrm>
          </p:grpSpPr>
          <p:grpSp>
            <p:nvGrpSpPr>
              <p:cNvPr id="620" name=""/>
              <p:cNvGrpSpPr/>
              <p:nvPr/>
            </p:nvGrpSpPr>
            <p:grpSpPr>
              <a:xfrm>
                <a:off x="1590840" y="2733480"/>
                <a:ext cx="1633680" cy="1676880"/>
                <a:chOff x="1590840" y="2733480"/>
                <a:chExt cx="1633680" cy="16768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1590840" y="2733480"/>
                  <a:ext cx="1633680" cy="167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9b"/>
                    </a:gs>
                    <a:gs pos="100000">
                      <a:srgbClr val="6e497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777320" y="2761200"/>
                  <a:ext cx="1260360" cy="6328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669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3" name=""/>
              <p:cNvSpPr/>
              <p:nvPr/>
            </p:nvSpPr>
            <p:spPr>
              <a:xfrm>
                <a:off x="1629000" y="347796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5108400" y="3913920"/>
              <a:ext cx="1885320" cy="1863000"/>
              <a:chOff x="5108400" y="3913920"/>
              <a:chExt cx="1885320" cy="18630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5108400" y="3913920"/>
                <a:ext cx="1885320" cy="1863000"/>
                <a:chOff x="5108400" y="3913920"/>
                <a:chExt cx="1885320" cy="186300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5108400" y="3913920"/>
                  <a:ext cx="1885320" cy="1863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77621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5323680" y="3944520"/>
                  <a:ext cx="1454400" cy="7030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ddb5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"/>
              <p:cNvSpPr/>
              <p:nvPr/>
            </p:nvSpPr>
            <p:spPr>
              <a:xfrm>
                <a:off x="5327640" y="472104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981080" y="2176560"/>
            <a:ext cx="5410080" cy="664920"/>
            <a:chOff x="1981080" y="2176560"/>
            <a:chExt cx="5410080" cy="664920"/>
          </a:xfrm>
        </p:grpSpPr>
        <p:grpSp>
          <p:nvGrpSpPr>
            <p:cNvPr id="111" name=""/>
            <p:cNvGrpSpPr/>
            <p:nvPr/>
          </p:nvGrpSpPr>
          <p:grpSpPr>
            <a:xfrm>
              <a:off x="1981080" y="2176560"/>
              <a:ext cx="762120" cy="664920"/>
              <a:chOff x="1981080" y="2176560"/>
              <a:chExt cx="762120" cy="664920"/>
            </a:xfrm>
          </p:grpSpPr>
          <p:sp>
            <p:nvSpPr>
              <p:cNvPr id="112" name=""/>
              <p:cNvSpPr/>
              <p:nvPr/>
            </p:nvSpPr>
            <p:spPr>
              <a:xfrm>
                <a:off x="1987200" y="21877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981080" y="21765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025360" y="22158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db523"/>
                  </a:gs>
                  <a:gs pos="100000">
                    <a:srgbClr val="65531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590560" y="27856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4520" y="22525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79800" y="227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981080" y="3090960"/>
            <a:ext cx="5410080" cy="664920"/>
            <a:chOff x="1981080" y="3090960"/>
            <a:chExt cx="5410080" cy="664920"/>
          </a:xfrm>
        </p:grpSpPr>
        <p:grpSp>
          <p:nvGrpSpPr>
            <p:cNvPr id="119" name=""/>
            <p:cNvGrpSpPr/>
            <p:nvPr/>
          </p:nvGrpSpPr>
          <p:grpSpPr>
            <a:xfrm>
              <a:off x="1981080" y="3090960"/>
              <a:ext cx="762120" cy="664920"/>
              <a:chOff x="1981080" y="3090960"/>
              <a:chExt cx="762120" cy="664920"/>
            </a:xfrm>
          </p:grpSpPr>
          <p:sp>
            <p:nvSpPr>
              <p:cNvPr id="120" name=""/>
              <p:cNvSpPr/>
              <p:nvPr/>
            </p:nvSpPr>
            <p:spPr>
              <a:xfrm>
                <a:off x="1987200" y="31021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981080" y="30909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025360" y="31302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590560" y="370008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4520" y="31669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9800" y="3188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981080" y="3983040"/>
            <a:ext cx="5410080" cy="665280"/>
            <a:chOff x="1981080" y="3983040"/>
            <a:chExt cx="5410080" cy="665280"/>
          </a:xfrm>
        </p:grpSpPr>
        <p:grpSp>
          <p:nvGrpSpPr>
            <p:cNvPr id="127" name=""/>
            <p:cNvGrpSpPr/>
            <p:nvPr/>
          </p:nvGrpSpPr>
          <p:grpSpPr>
            <a:xfrm>
              <a:off x="1981080" y="3983040"/>
              <a:ext cx="762120" cy="665280"/>
              <a:chOff x="1981080" y="3983040"/>
              <a:chExt cx="762120" cy="665280"/>
            </a:xfrm>
          </p:grpSpPr>
          <p:sp>
            <p:nvSpPr>
              <p:cNvPr id="128" name=""/>
              <p:cNvSpPr/>
              <p:nvPr/>
            </p:nvSpPr>
            <p:spPr>
              <a:xfrm>
                <a:off x="1987200" y="39942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981080" y="39830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25360" y="40222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db523"/>
                  </a:gs>
                  <a:gs pos="100000">
                    <a:srgbClr val="655310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590560" y="4592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4520" y="40593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9800" y="4081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981080" y="4897440"/>
            <a:ext cx="5410080" cy="665280"/>
            <a:chOff x="1981080" y="4897440"/>
            <a:chExt cx="5410080" cy="665280"/>
          </a:xfrm>
        </p:grpSpPr>
        <p:grpSp>
          <p:nvGrpSpPr>
            <p:cNvPr id="135" name=""/>
            <p:cNvGrpSpPr/>
            <p:nvPr/>
          </p:nvGrpSpPr>
          <p:grpSpPr>
            <a:xfrm>
              <a:off x="1981080" y="4897440"/>
              <a:ext cx="762120" cy="665280"/>
              <a:chOff x="1981080" y="4897440"/>
              <a:chExt cx="762120" cy="665280"/>
            </a:xfrm>
          </p:grpSpPr>
          <p:sp>
            <p:nvSpPr>
              <p:cNvPr id="136" name=""/>
              <p:cNvSpPr/>
              <p:nvPr/>
            </p:nvSpPr>
            <p:spPr>
              <a:xfrm>
                <a:off x="1987200" y="49086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981080" y="48974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5360" y="493668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590560" y="55069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4520" y="497376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46ca6"/>
                  </a:solidFill>
                  <a:latin typeface="Arial"/>
                </a:rPr>
                <a:t>Click to add 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79800" y="49957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ddb52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FCB1-93BE-4E50-B97C-F41553D269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2133720" y="2971800"/>
            <a:ext cx="49528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46ca6"/>
                    </a:gs>
                    <a:gs pos="100000">
                      <a:srgbClr val="6da9ca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46ca6"/>
                  </a:gs>
                  <a:gs pos="100000">
                    <a:srgbClr val="6da9ca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4120" y="1523880"/>
            <a:ext cx="82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99669b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99669b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99669b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99669b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1143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905120" y="1600200"/>
            <a:ext cx="5867280" cy="1301760"/>
            <a:chOff x="1905120" y="1600200"/>
            <a:chExt cx="5867280" cy="1301760"/>
          </a:xfrm>
        </p:grpSpPr>
        <p:sp>
          <p:nvSpPr>
            <p:cNvPr id="147" name=""/>
            <p:cNvSpPr/>
            <p:nvPr/>
          </p:nvSpPr>
          <p:spPr>
            <a:xfrm>
              <a:off x="1905120" y="160020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2033280" y="1719720"/>
              <a:ext cx="1130760" cy="1064520"/>
              <a:chOff x="2033280" y="1719720"/>
              <a:chExt cx="1130760" cy="1064520"/>
            </a:xfrm>
          </p:grpSpPr>
          <p:sp>
            <p:nvSpPr>
              <p:cNvPr id="149" name=""/>
              <p:cNvSpPr/>
              <p:nvPr/>
            </p:nvSpPr>
            <p:spPr>
              <a:xfrm>
                <a:off x="2033280" y="171972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5f8b9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03840" y="178812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ee0ec"/>
                  </a:gs>
                  <a:gs pos="50000">
                    <a:srgbClr val="8ac8de">
                      <a:alpha val="0"/>
                    </a:srgbClr>
                  </a:gs>
                  <a:gs pos="100000">
                    <a:srgbClr val="bee0e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59280" y="20091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318840" y="1801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905120" y="3130560"/>
            <a:ext cx="5867280" cy="1301760"/>
            <a:chOff x="1905120" y="3130560"/>
            <a:chExt cx="5867280" cy="1301760"/>
          </a:xfrm>
        </p:grpSpPr>
        <p:sp>
          <p:nvSpPr>
            <p:cNvPr id="154" name=""/>
            <p:cNvSpPr/>
            <p:nvPr/>
          </p:nvSpPr>
          <p:spPr>
            <a:xfrm>
              <a:off x="1905120" y="313056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033280" y="3250080"/>
              <a:ext cx="1130760" cy="1064520"/>
              <a:chOff x="2033280" y="3250080"/>
              <a:chExt cx="1130760" cy="1064520"/>
            </a:xfrm>
          </p:grpSpPr>
          <p:sp>
            <p:nvSpPr>
              <p:cNvPr id="156" name=""/>
              <p:cNvSpPr/>
              <p:nvPr/>
            </p:nvSpPr>
            <p:spPr>
              <a:xfrm>
                <a:off x="2033280" y="32500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5c85f"/>
                  </a:gs>
                  <a:gs pos="100000">
                    <a:srgbClr val="ddb523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103840" y="331848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b523">
                      <a:alpha val="0"/>
                    </a:srgbClr>
                  </a:gs>
                  <a:gs pos="100000">
                    <a:srgbClr val="efde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159280" y="354096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318840" y="330876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905120" y="4670280"/>
            <a:ext cx="5867280" cy="1301760"/>
            <a:chOff x="1905120" y="4670280"/>
            <a:chExt cx="5867280" cy="1301760"/>
          </a:xfrm>
        </p:grpSpPr>
        <p:sp>
          <p:nvSpPr>
            <p:cNvPr id="161" name=""/>
            <p:cNvSpPr/>
            <p:nvPr/>
          </p:nvSpPr>
          <p:spPr>
            <a:xfrm>
              <a:off x="1905120" y="46702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2033280" y="4789800"/>
              <a:ext cx="1130760" cy="1064520"/>
              <a:chOff x="2033280" y="4789800"/>
              <a:chExt cx="1130760" cy="1064520"/>
            </a:xfrm>
          </p:grpSpPr>
          <p:sp>
            <p:nvSpPr>
              <p:cNvPr id="163" name=""/>
              <p:cNvSpPr/>
              <p:nvPr/>
            </p:nvSpPr>
            <p:spPr>
              <a:xfrm>
                <a:off x="2033280" y="47898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bbbbb"/>
                  </a:gs>
                  <a:gs pos="100000">
                    <a:srgbClr val="96969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103840" y="48582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>
                      <a:alpha val="0"/>
                    </a:srgbClr>
                  </a:gs>
                  <a:gs pos="100000">
                    <a:srgbClr val="cbcbc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159280" y="508068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318840" y="484848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3400560"/>
            <a:ext cx="2286000" cy="2666880"/>
            <a:chOff x="1219320" y="3400560"/>
            <a:chExt cx="2286000" cy="2666880"/>
          </a:xfrm>
        </p:grpSpPr>
        <p:sp>
          <p:nvSpPr>
            <p:cNvPr id="169" name=""/>
            <p:cNvSpPr/>
            <p:nvPr/>
          </p:nvSpPr>
          <p:spPr>
            <a:xfrm>
              <a:off x="121932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14720" y="3600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298680" y="3303720"/>
            <a:ext cx="90360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9dbe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3124080" y="1676520"/>
            <a:ext cx="2998440" cy="1601280"/>
            <a:chOff x="3124080" y="1676520"/>
            <a:chExt cx="2998440" cy="1601280"/>
          </a:xfrm>
        </p:grpSpPr>
        <p:grpSp>
          <p:nvGrpSpPr>
            <p:cNvPr id="173" name=""/>
            <p:cNvGrpSpPr/>
            <p:nvPr/>
          </p:nvGrpSpPr>
          <p:grpSpPr>
            <a:xfrm>
              <a:off x="3124080" y="1676520"/>
              <a:ext cx="2998440" cy="1601280"/>
              <a:chOff x="3124080" y="1676520"/>
              <a:chExt cx="2998440" cy="160128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3124080" y="1819440"/>
                <a:ext cx="2998440" cy="1458360"/>
                <a:chOff x="3124080" y="1819440"/>
                <a:chExt cx="2998440" cy="14583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156840" y="18658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5710"/>
                    </a:gs>
                    <a:gs pos="100000">
                      <a:srgbClr val="ddb52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124080" y="18194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b523"/>
                    </a:gs>
                    <a:gs pos="100000">
                      <a:srgbClr val="eedd9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265200" y="16765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ac8de"/>
                  </a:gs>
                  <a:gs pos="100000">
                    <a:srgbClr val="3f5c6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0120" y="16844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eaf2"/>
                  </a:gs>
                  <a:gs pos="100000">
                    <a:srgbClr val="8ac8de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327120" y="16970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48235"/>
                    </a:srgbClr>
                  </a:gs>
                  <a:gs pos="100000">
                    <a:srgbClr val="6c9da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458880" y="17240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ac8de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3958920" y="18766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5638680" y="3400560"/>
            <a:ext cx="2286000" cy="2666880"/>
            <a:chOff x="5638680" y="3400560"/>
            <a:chExt cx="2286000" cy="2666880"/>
          </a:xfrm>
        </p:grpSpPr>
        <p:sp>
          <p:nvSpPr>
            <p:cNvPr id="183" name=""/>
            <p:cNvSpPr/>
            <p:nvPr/>
          </p:nvSpPr>
          <p:spPr>
            <a:xfrm>
              <a:off x="5638680" y="34005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86360" y="362916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4950720" y="33037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3e6b8"/>
              </a:gs>
              <a:gs pos="100000">
                <a:srgbClr val="ddb52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88" name="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4b3e0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ac8de"/>
                </a:gs>
                <a:gs pos="100000">
                  <a:srgbClr val="2b3e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669b"/>
                </a:gs>
                <a:gs pos="100000">
                  <a:srgbClr val="3624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63320" y="2367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79440" y="2577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778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46ca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6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046ca6"/>
              </a:solidFill>
              <a:miter/>
            </a:ln>
          </p:spPr>
        </p:cxnSp>
        <p:sp>
          <p:nvSpPr>
            <p:cNvPr id="207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10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34680" y="32634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34680" y="3769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34680" y="42768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62f47"/>
                </a:gs>
                <a:gs pos="50000">
                  <a:srgbClr val="99669b"/>
                </a:gs>
                <a:gs pos="100000">
                  <a:srgbClr val="462f4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2720" y="19634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d"/>
                </a:gs>
                <a:gs pos="50000">
                  <a:srgbClr val="44bd41"/>
                </a:gs>
                <a:gs pos="100000">
                  <a:srgbClr val="1f571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12720" y="5510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219320" y="2209680"/>
            <a:ext cx="6705000" cy="3352680"/>
            <a:chOff x="1219320" y="2209680"/>
            <a:chExt cx="6705000" cy="3352680"/>
          </a:xfrm>
        </p:grpSpPr>
        <p:sp>
          <p:nvSpPr>
            <p:cNvPr id="230" name=""/>
            <p:cNvSpPr/>
            <p:nvPr/>
          </p:nvSpPr>
          <p:spPr>
            <a:xfrm flipH="1" rot="16200000">
              <a:off x="3000600" y="3256560"/>
              <a:ext cx="46044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rot="5400000">
              <a:off x="5604840" y="3206160"/>
              <a:ext cx="459000" cy="29664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rot="10800000">
              <a:off x="4313520" y="4609800"/>
              <a:ext cx="442440" cy="306360"/>
            </a:xfrm>
            <a:prstGeom prst="upArrow">
              <a:avLst>
                <a:gd name="adj1" fmla="val 51676"/>
                <a:gd name="adj2" fmla="val 100000"/>
              </a:avLst>
            </a:prstGeom>
            <a:solidFill>
              <a:srgbClr val="996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82560" y="2209680"/>
              <a:ext cx="2325600" cy="24004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14320" y="2344680"/>
              <a:ext cx="2060280" cy="212544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db52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6720" y="2471760"/>
              <a:ext cx="1815840" cy="18777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76112"/>
                </a:gs>
                <a:gs pos="50000">
                  <a:srgbClr val="ddb523"/>
                </a:gs>
                <a:gs pos="100000">
                  <a:srgbClr val="7761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55880" y="2595600"/>
              <a:ext cx="1577520" cy="163188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19320" y="370836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219320" y="3208320"/>
              <a:ext cx="16585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709720"/>
              <a:ext cx="16585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5600" y="370836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95600" y="3208320"/>
              <a:ext cx="1728720" cy="5713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95600" y="2709720"/>
              <a:ext cx="1728720" cy="569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f5c66"/>
                </a:gs>
                <a:gs pos="50000">
                  <a:srgbClr val="8ac8de"/>
                </a:gs>
                <a:gs pos="100000">
                  <a:srgbClr val="3f5c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5164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79560" y="5062320"/>
              <a:ext cx="3523680" cy="50004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7580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7580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7580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73040" y="28558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73040" y="33559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73040" y="38541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db523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46ca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4920" y="2362320"/>
            <a:ext cx="6748920" cy="3352680"/>
            <a:chOff x="1294920" y="2362320"/>
            <a:chExt cx="6748920" cy="3352680"/>
          </a:xfrm>
        </p:grpSpPr>
        <p:sp>
          <p:nvSpPr>
            <p:cNvPr id="256" name=""/>
            <p:cNvSpPr/>
            <p:nvPr/>
          </p:nvSpPr>
          <p:spPr>
            <a:xfrm>
              <a:off x="7518240" y="2362320"/>
              <a:ext cx="5191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27400" y="2362320"/>
              <a:ext cx="301644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994440" y="3203640"/>
              <a:ext cx="5205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78240" y="3203640"/>
              <a:ext cx="324180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470640" y="4035600"/>
              <a:ext cx="5173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9720" y="4869000"/>
              <a:ext cx="52092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9280" y="4873680"/>
              <a:ext cx="368136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1307880" y="4869000"/>
              <a:ext cx="20224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294920" y="4038840"/>
              <a:ext cx="285588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1295280" y="3210120"/>
              <a:ext cx="368784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295280" y="2368800"/>
              <a:ext cx="451944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57280" y="2362320"/>
              <a:ext cx="0" cy="87156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57280" y="3233880"/>
              <a:ext cx="0" cy="81756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57280" y="4051440"/>
              <a:ext cx="0" cy="8161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7280" y="4869000"/>
              <a:ext cx="0" cy="816120"/>
            </a:xfrm>
            <a:prstGeom prst="line">
              <a:avLst/>
            </a:prstGeom>
            <a:ln w="9360">
              <a:solidFill>
                <a:srgbClr val="046ca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5920" y="2525760"/>
              <a:ext cx="165888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032080" y="2903760"/>
              <a:ext cx="2497320" cy="30456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79680" y="3743280"/>
              <a:ext cx="2721240" cy="2984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35200" y="4035600"/>
              <a:ext cx="345924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37000" y="4578480"/>
              <a:ext cx="2944800" cy="2984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787480" y="5415120"/>
              <a:ext cx="3168720" cy="29700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6160" y="2686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96160" y="35132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6160" y="43768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96160" y="5183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46ca6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294920" y="5703840"/>
              <a:ext cx="1461960" cy="0"/>
            </a:xfrm>
            <a:prstGeom prst="line">
              <a:avLst/>
            </a:prstGeom>
            <a:ln w="9360">
              <a:solidFill>
                <a:srgbClr val="046c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27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