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960-AEF4-4EBF-A12D-1A2AE6B2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5AF3-FDEA-4121-BBDB-4F6D7ABA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B00B-13EA-4326-B43E-5F597986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DFB2-8175-466D-984E-D8ABD7A3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8C0E-E745-4F7E-AE18-DDE3D212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3A0C-9E99-4909-A885-C21AFF54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1674-9B6E-4EBE-8BA6-CAEF7B00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ECE7-6D09-48CB-A423-81854ED0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BAC1-CF8F-42EB-98CC-7BC8DA1A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B21F-E500-48F1-A8A4-5B40ADDD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A38F-B12B-4447-BFA8-E9455954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E451-7670-4859-9151-B3A671D2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B485-B89A-4568-8D52-3EC17799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7283-7A9E-4C77-9313-E42404D6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EDD6-55F3-421F-80EA-36F69911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28F2-E73E-4619-9FB7-ACA2ED88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A307-52B9-4846-9BF7-A3460027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A0ED-240C-4739-8668-7DA618B9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347A-E59D-4FCE-80D9-C762A7C1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B8A2-BFFD-44A2-BECB-9CA77CDA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0F68-8A78-4D4D-B323-99A6500F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67FC-EE8F-4131-88DC-2F46FD7F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C1D-DE09-4399-8F0F-DFDC1BF4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612C-A8B1-4D50-B260-07FD63D2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3434-3E7B-4DFE-AC42-E8DEF233759C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2E4A-031C-4A45-8050-DB6D8E4E6B6D}" type="slidenum">
              <a:rPr b="0" lang="en-US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5181480"/>
            <a:ext cx="739152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  <a:ea typeface="宋体"/>
              </a:rPr>
              <a:t>Circular Hypnotic Kitty</a:t>
            </a:r>
            <a:endParaRPr b="0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66680" y="60199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mpact"/>
                <a:ea typeface="宋体"/>
              </a:rPr>
              <a:t>Your Subtitle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be0e3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bbe0e3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36320" y="380880"/>
            <a:ext cx="322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催眠猫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60948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7920" y="1218960"/>
            <a:ext cx="5410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9" name="Picture 3" descr="kittycat"/>
          <p:cNvPicPr/>
          <p:nvPr/>
        </p:nvPicPr>
        <p:blipFill>
          <a:blip r:embed="rId2"/>
          <a:stretch/>
        </p:blipFill>
        <p:spPr>
          <a:xfrm>
            <a:off x="2830680" y="1327320"/>
            <a:ext cx="5018040" cy="43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Impact"/>
              <a:ea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33526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BCE8-0657-4587-95E4-C21B825289D7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4191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121896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7:03:5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10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