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3353-273F-4CF9-B3AD-AC81862E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CE0-8E32-453B-824A-44AA51AC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DF8-42C9-4EDE-9DD1-8A95A039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8E3-17CF-49DE-958B-BA0A422C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27DD-21C9-431D-AB7D-E545AF02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E28D-AD16-4218-991A-989E36D7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135C-782B-4DA0-8C49-F083E1F3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9366-718A-4103-959C-253E4CB4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4A67-6766-4C91-911F-9AD04778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CFAE-E9C3-41B6-A99D-105B158B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3A1B-79CE-4339-963E-62796631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FA4-A37C-4794-82EA-584B98AA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8AB6-955B-4D1A-8549-FD2ADB75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C29A-CE4B-473F-9B05-412E6D47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13E8-BBDA-41F7-BBFB-5852242A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0F0B-2EF4-4D90-9C90-0F4553FB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36B8-645B-4ABF-9135-136F09D3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9A7-245F-4ADE-A327-093469C8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02B-C2BF-45A9-B8E9-3AD25727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87D-D3AE-4651-82AE-E15B23E4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0AA-4756-4DAA-9CCD-86887E11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478B-8C29-4DFE-B4A8-AF31DB2B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3B8E-E443-4B2E-8DC2-F391C881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BD8-4B62-4F72-BBE5-C2E0E99F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0FC1-0833-4367-B29C-38E1318DE4E2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BA1C-7811-40C2-AEF9-F4A799B9941A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11080" y="29257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彩色条纹简历背景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36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1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c0c0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3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36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4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5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6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7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8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c0c0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02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10" name="Freeform 89"/>
            <p:cNvSpPr/>
            <p:nvPr/>
          </p:nvSpPr>
          <p:spPr>
            <a:xfrm>
              <a:off x="5653080" y="3098880"/>
              <a:ext cx="1352520" cy="111924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363636"/>
                </a:gs>
                <a:gs pos="100000">
                  <a:srgbClr val="797979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1" name="Freeform 90"/>
            <p:cNvSpPr/>
            <p:nvPr/>
          </p:nvSpPr>
          <p:spPr>
            <a:xfrm>
              <a:off x="6557760" y="449748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777777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2" name="Freeform 91"/>
            <p:cNvSpPr/>
            <p:nvPr/>
          </p:nvSpPr>
          <p:spPr>
            <a:xfrm>
              <a:off x="5495760" y="4089240"/>
              <a:ext cx="1190520" cy="133524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9d9d9d"/>
                </a:gs>
                <a:gs pos="100000">
                  <a:srgbClr val="d4d4d4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3" name="Freeform 92"/>
            <p:cNvSpPr/>
            <p:nvPr/>
          </p:nvSpPr>
          <p:spPr>
            <a:xfrm>
              <a:off x="6886080" y="3274920"/>
              <a:ext cx="1208160" cy="132408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949494"/>
                </a:gs>
                <a:gs pos="100000">
                  <a:srgbClr val="5e5e5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C10-D9D9-4C49-B98D-560C1D2192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5651640" y="299736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76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c0c0c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8" name="WordArt 5"/>
          <p:cNvSpPr txBox="1"/>
          <p:nvPr/>
        </p:nvSpPr>
        <p:spPr>
          <a:xfrm>
            <a:off x="6129360" y="3711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76000"/>
                    </a:srgbClr>
                  </a:outerShdw>
                </a:effectLst>
                <a:latin typeface="黑体"/>
              </a:rPr>
              <a:t>Thanks!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c0c0c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777777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02Z</dcterms:modified>
  <cp:revision>1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6204000000000001024140</vt:lpwstr>
  </property>
</Properties>
</file>