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F26-7553-40DA-8F34-1D373DCC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CA3-1C02-4007-B0AD-3B0EB954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DB0-C75A-4452-86CA-843F8ACE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47C-FC84-492F-97B6-4A006123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549-43DC-4408-8567-0846BF61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52388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992040"/>
            <a:ext cx="2747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298-4186-4AE3-9F42-23BAC52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78A-320A-43F0-996F-EA2537A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EBF-2F27-4D80-872B-2D55A4D8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8AA-407E-404B-BECB-24847EF1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A32-347A-4754-9EB5-810F72D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9204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BE5-0704-4980-BA03-663322A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644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92040"/>
            <a:ext cx="85341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9AA-B473-4D57-B918-D14745F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467400"/>
            <a:ext cx="9144000" cy="39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A4D4-66CC-4C08-97C7-FED555B42728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437920" y="66290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6A31-C563-4373-A1CF-8D4FFB75CCE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38880" y="6286680"/>
            <a:ext cx="190512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宋体"/>
              </a:rPr>
              <a:t>Classic Style 2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Times New Roman Font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3680" y="1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传统中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8B2-457A-48FB-B89B-ABBDCF895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302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d footer here (go to view menu and choose heade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C24-1C0A-4129-A2CE-72EB5E785D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99F55-DDF7-47DC-9879-D2D1EDE34E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06:43:3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4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