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2BF6F-D57A-480C-B3C4-B61B19DBA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874520"/>
            <a:ext cx="822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4119120"/>
            <a:ext cx="822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70DA0-E9CA-4C7D-857E-F5EE46AF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70548-8E1B-4624-BD8C-14BD19000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8745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8745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8745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41191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41191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4119120"/>
            <a:ext cx="264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84567-E77F-4AE6-9669-21840496D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874520"/>
            <a:ext cx="8229600" cy="42973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DD921-0F1A-4C43-8CAC-43B920D16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874520"/>
            <a:ext cx="82296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E246C-6FEA-4A3C-9EA3-31200A124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88D4-3E45-455E-9201-60F41927A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B067-5D74-4CE1-B8FA-A5D754A0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8229600" cy="388620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6B3CB-345B-4246-8065-9F202A3B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08A76-E231-4CB6-B9F0-BF0933901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874520"/>
            <a:ext cx="4015800" cy="42973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41191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B6A0-14D3-4DB2-83EE-E73FABD7A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874520"/>
            <a:ext cx="40158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4119120"/>
            <a:ext cx="8229600" cy="204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CEE26-2211-4DB5-B8AD-8519F5AAD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87452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A8E5-67C6-4839-9C56-F977C5086619}"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5458-9F01-49F0-8D54-C465ACC7F6E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280" y="297000"/>
            <a:ext cx="85028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电波背景的科技医疗</a:t>
            </a:r>
            <a:r>
              <a:rPr b="1" lang="en-US"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模板下载</a:t>
            </a:r>
            <a:endParaRPr b="0" lang="en-US" sz="4000" spc="-1" strike="noStrike">
              <a:solidFill>
                <a:srgbClr val="ffffff"/>
              </a:solidFill>
              <a:latin typeface="Calibri"/>
            </a:endParaRPr>
          </a:p>
        </p:txBody>
      </p:sp>
      <p:sp>
        <p:nvSpPr>
          <p:cNvPr id="42"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621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lide Master</a:t>
            </a:r>
            <a:endParaRPr b="0" lang="en-US" sz="4400" spc="-1" strike="noStrike">
              <a:solidFill>
                <a:srgbClr val="ffffff"/>
              </a:solidFill>
              <a:latin typeface="Calibri"/>
            </a:endParaRPr>
          </a:p>
        </p:txBody>
      </p:sp>
      <p:sp>
        <p:nvSpPr>
          <p:cNvPr id="44" name=""/>
          <p:cNvSpPr txBox="1"/>
          <p:nvPr/>
        </p:nvSpPr>
        <p:spPr>
          <a:xfrm>
            <a:off x="457200" y="2255400"/>
            <a:ext cx="8229600" cy="3840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pPr>
            <a:r>
              <a:rPr b="0" lang="en-US" sz="2000" spc="-1" strike="noStrike">
                <a:solidFill>
                  <a:srgbClr val="000000"/>
                </a:solidFill>
                <a:latin typeface="Calibri"/>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Lorem ipsum dolor sit amet, consectetuer adip iscing elit, sed diam nonu mmy nibh euismod tincidunt ut laoreet do lore mag na aliquam erat volut pat. Ut wisi enim ad mi nim venia m, quis </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Duis autem vel eum iriure dolor in hendrerit in vulputate ve lit esse moles tie consequat, vel </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p:txBody>
      </p:sp>
      <p:sp>
        <p:nvSpPr>
          <p:cNvPr id="45" name=""/>
          <p:cNvSpPr/>
          <p:nvPr/>
        </p:nvSpPr>
        <p:spPr>
          <a:xfrm>
            <a:off x="684360" y="19177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rPr>
              <a:t>使用规范说明</a:t>
            </a:r>
            <a:endParaRPr b="0" lang="en-US" sz="4400" spc="-1" strike="noStrike">
              <a:solidFill>
                <a:srgbClr val="ffffff"/>
              </a:solidFill>
              <a:latin typeface="Calibri"/>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F2215FF-5027-4898-B578-AED3382328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676520" y="380520"/>
            <a:ext cx="7238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int Master</a:t>
            </a:r>
            <a:endParaRPr b="0" lang="en-US" sz="4400" spc="-1" strike="noStrike">
              <a:solidFill>
                <a:srgbClr val="ffffff"/>
              </a:solidFill>
              <a:latin typeface="Calibri"/>
            </a:endParaRPr>
          </a:p>
        </p:txBody>
      </p:sp>
      <p:sp>
        <p:nvSpPr>
          <p:cNvPr id="50" name=""/>
          <p:cNvSpPr txBox="1"/>
          <p:nvPr/>
        </p:nvSpPr>
        <p:spPr>
          <a:xfrm>
            <a:off x="1676520" y="1752480"/>
            <a:ext cx="723888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pPr>
            <a:r>
              <a:rPr b="0" lang="en-US" sz="2000" spc="-1" strike="noStrike">
                <a:solidFill>
                  <a:srgbClr val="000000"/>
                </a:solidFill>
                <a:latin typeface="Calibri"/>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Lorem ipsum dolor sit amet, consectetuer adip iscing elit, sed diam nonu mmy nibh euismod tincidunt ut laoreet do lore mag na aliquam erat volut pat. Ut wisi enim ad mi nim venia m, quis nostrud exerci tation ullamco rper susc ipit lobor tis nisl ut aliquip ex ea commodo consequat. </a:t>
            </a:r>
            <a:endParaRPr b="0" lang="en-US" sz="2000" spc="-1" strike="noStrike">
              <a:solidFill>
                <a:srgbClr val="000000"/>
              </a:solidFill>
              <a:latin typeface="Calibri"/>
            </a:endParaRPr>
          </a:p>
          <a:p>
            <a:pPr marL="343080" indent="-343080">
              <a:spcBef>
                <a:spcPts val="499"/>
              </a:spcBef>
              <a:buClr>
                <a:srgbClr val="000000"/>
              </a:buClr>
              <a:buFont typeface="Arial"/>
              <a:buChar char="•"/>
            </a:pPr>
            <a:endParaRPr b="0" lang="en-US" sz="2000" spc="-1" strike="noStrike">
              <a:solidFill>
                <a:srgbClr val="000000"/>
              </a:solidFill>
              <a:latin typeface="Calibri"/>
            </a:endParaRPr>
          </a:p>
          <a:p>
            <a:pPr marL="343080" indent="-343080">
              <a:spcBef>
                <a:spcPts val="499"/>
              </a:spcBef>
              <a:buClr>
                <a:srgbClr val="000000"/>
              </a:buClr>
              <a:buFont typeface="Arial"/>
              <a:buChar char="•"/>
            </a:pPr>
            <a:r>
              <a:rPr b="0" lang="en-US" sz="2000" spc="-1" strike="noStrike">
                <a:solidFill>
                  <a:srgbClr val="000000"/>
                </a:solidFill>
                <a:latin typeface="Calibri"/>
              </a:rPr>
              <a:t>Duis autem vel eum iriure dolor in hendrerit in vulputate ve lit es se moles tie consequat, vel illum dolore eu feugiat n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8:48Z</dcterms:created>
  <dc:creator>幻灯片之家：www.eeppt.com</dc:creator>
  <dc:description>幻灯片之家：www.eeppt.com</dc:description>
  <cp:keywords>幻灯片之家：www.eeppt.com</cp:keywords>
  <dc:language>en-US</dc:language>
  <cp:lastModifiedBy/>
  <dcterms:modified xsi:type="dcterms:W3CDTF">2015-09-18T13:22:33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_TemplateID">
    <vt:lpwstr>TC019843669991</vt:lpwstr>
  </property>
</Properties>
</file>