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1D2-37E3-4084-BB49-CC5FE4F9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524-89D0-4CC5-93BC-EC1A9583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697-D247-4D80-91E7-A2D995C8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CFBB-EB87-4695-AD19-C1C1FA90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DF2-0314-4037-BB27-E5F15924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BC5-3725-4C9F-8D61-2CDED353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FF9-10DF-4965-B5E7-C0AE221B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14B-DF13-4504-9FD8-796844B1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4C8-859B-4F91-A053-310D501E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B7A-9986-4028-8B1D-20690203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0BD-AEF1-45DB-AAB8-B59FF14D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453-C5F0-43FF-B1B4-E32A5EA8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BCD5-82BC-46A5-8CFA-E3F2925C422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6CFD-F184-4CDC-A235-5770B7AA86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0" r="0" b="15364"/>
          <a:stretch/>
        </p:blipFill>
        <p:spPr>
          <a:xfrm>
            <a:off x="0" y="-17640"/>
            <a:ext cx="9144000" cy="5161320"/>
          </a:xfrm>
          <a:prstGeom prst="rect">
            <a:avLst/>
          </a:prstGeom>
          <a:ln w="0">
            <a:noFill/>
          </a:ln>
        </p:spPr>
      </p:pic>
      <p:sp>
        <p:nvSpPr>
          <p:cNvPr id="42" name="椭圆 1049"/>
          <p:cNvSpPr/>
          <p:nvPr/>
        </p:nvSpPr>
        <p:spPr>
          <a:xfrm>
            <a:off x="1187280" y="1060560"/>
            <a:ext cx="565200" cy="38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4"/>
          <p:cNvGrpSpPr/>
          <p:nvPr/>
        </p:nvGrpSpPr>
        <p:grpSpPr>
          <a:xfrm>
            <a:off x="-117000" y="73080"/>
            <a:ext cx="3680280" cy="642600"/>
            <a:chOff x="-117000" y="73080"/>
            <a:chExt cx="3680280" cy="642600"/>
          </a:xfrm>
        </p:grpSpPr>
        <p:sp>
          <p:nvSpPr>
            <p:cNvPr id="44" name="TextBox 1052"/>
            <p:cNvSpPr/>
            <p:nvPr/>
          </p:nvSpPr>
          <p:spPr>
            <a:xfrm>
              <a:off x="1418400" y="149760"/>
              <a:ext cx="16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d8d8d8"/>
                  </a:solidFill>
                  <a:latin typeface="微软雅黑"/>
                  <a:ea typeface="微软雅黑"/>
                </a:rPr>
                <a:t>反腐倡廉公益广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1053"/>
            <p:cNvSpPr/>
            <p:nvPr/>
          </p:nvSpPr>
          <p:spPr>
            <a:xfrm>
              <a:off x="-117000" y="73080"/>
              <a:ext cx="228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8d8d8"/>
                  </a:solidFill>
                  <a:latin typeface="Onyx"/>
                </a:rPr>
                <a:t>Andy Gu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1054"/>
            <p:cNvSpPr/>
            <p:nvPr/>
          </p:nvSpPr>
          <p:spPr>
            <a:xfrm>
              <a:off x="930600" y="304920"/>
              <a:ext cx="263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8d8d8"/>
                  </a:solidFill>
                  <a:latin typeface="Onyx"/>
                </a:rPr>
                <a:t>blog.sina.com.cn/9i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13"/>
          <p:cNvSpPr/>
          <p:nvPr/>
        </p:nvSpPr>
        <p:spPr>
          <a:xfrm>
            <a:off x="3492360" y="2759040"/>
            <a:ext cx="50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生不能 </a:t>
            </a: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越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2"/>
          <p:cNvSpPr/>
          <p:nvPr/>
        </p:nvSpPr>
        <p:spPr>
          <a:xfrm>
            <a:off x="3492360" y="3787920"/>
            <a:ext cx="50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底线 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必须坚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41"/>
          <p:cNvGrpSpPr/>
          <p:nvPr/>
        </p:nvGrpSpPr>
        <p:grpSpPr>
          <a:xfrm>
            <a:off x="3224160" y="3292560"/>
            <a:ext cx="1492200" cy="1550880"/>
            <a:chOff x="3224160" y="3292560"/>
            <a:chExt cx="1492200" cy="1550880"/>
          </a:xfrm>
        </p:grpSpPr>
        <p:sp>
          <p:nvSpPr>
            <p:cNvPr id="50" name="直接连接符 37"/>
            <p:cNvSpPr/>
            <p:nvPr/>
          </p:nvSpPr>
          <p:spPr>
            <a:xfrm>
              <a:off x="3224160" y="3292560"/>
              <a:ext cx="0" cy="15508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52"/>
            <p:cNvSpPr/>
            <p:nvPr/>
          </p:nvSpPr>
          <p:spPr>
            <a:xfrm>
              <a:off x="3224160" y="4843440"/>
              <a:ext cx="1492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58"/>
          <p:cNvGrpSpPr/>
          <p:nvPr/>
        </p:nvGrpSpPr>
        <p:grpSpPr>
          <a:xfrm>
            <a:off x="7235640" y="2676600"/>
            <a:ext cx="1492200" cy="1550880"/>
            <a:chOff x="7235640" y="2676600"/>
            <a:chExt cx="1492200" cy="1550880"/>
          </a:xfrm>
        </p:grpSpPr>
        <p:sp>
          <p:nvSpPr>
            <p:cNvPr id="53" name="直接连接符 59"/>
            <p:cNvSpPr/>
            <p:nvPr/>
          </p:nvSpPr>
          <p:spPr>
            <a:xfrm flipV="1">
              <a:off x="8727840" y="2676600"/>
              <a:ext cx="0" cy="15508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直接连接符 60"/>
            <p:cNvSpPr/>
            <p:nvPr/>
          </p:nvSpPr>
          <p:spPr>
            <a:xfrm flipH="1">
              <a:off x="7235640" y="2676600"/>
              <a:ext cx="1492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386880" y="16351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党风廉政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046" descr=""/>
          <p:cNvPicPr/>
          <p:nvPr/>
        </p:nvPicPr>
        <p:blipFill>
          <a:blip r:embed="rId1"/>
          <a:srcRect l="2521" t="19440" r="0" b="0"/>
          <a:stretch/>
        </p:blipFill>
        <p:spPr>
          <a:xfrm>
            <a:off x="-22320" y="-19080"/>
            <a:ext cx="9185400" cy="5162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 rot="1145400">
            <a:off x="1859040" y="1245600"/>
            <a:ext cx="238608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越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 rot="1140000">
            <a:off x="1401480" y="2396520"/>
            <a:ext cx="23540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底限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图片 57" descr=""/>
          <p:cNvPicPr/>
          <p:nvPr/>
        </p:nvPicPr>
        <p:blipFill>
          <a:blip r:embed="rId2"/>
          <a:srcRect l="33560" t="59735" r="64348" b="37542"/>
          <a:stretch/>
        </p:blipFill>
        <p:spPr>
          <a:xfrm rot="1140000">
            <a:off x="2522520" y="2379240"/>
            <a:ext cx="196920" cy="176400"/>
          </a:xfrm>
          <a:prstGeom prst="rect">
            <a:avLst/>
          </a:prstGeom>
          <a:ln w="0">
            <a:noFill/>
          </a:ln>
        </p:spPr>
      </p:pic>
      <p:sp>
        <p:nvSpPr>
          <p:cNvPr id="60" name="椭圆 1049"/>
          <p:cNvSpPr/>
          <p:nvPr/>
        </p:nvSpPr>
        <p:spPr>
          <a:xfrm>
            <a:off x="200160" y="4560840"/>
            <a:ext cx="1131840" cy="38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048" descr=""/>
          <p:cNvPicPr/>
          <p:nvPr/>
        </p:nvPicPr>
        <p:blipFill>
          <a:blip r:embed="rId3"/>
          <a:stretch/>
        </p:blipFill>
        <p:spPr>
          <a:xfrm>
            <a:off x="466560" y="3789360"/>
            <a:ext cx="968400" cy="968400"/>
          </a:xfrm>
          <a:prstGeom prst="rect">
            <a:avLst/>
          </a:prstGeom>
          <a:ln w="0">
            <a:noFill/>
          </a:ln>
        </p:spPr>
      </p:pic>
      <p:sp>
        <p:nvSpPr>
          <p:cNvPr id="62" name="矩形 1050"/>
          <p:cNvSpPr/>
          <p:nvPr/>
        </p:nvSpPr>
        <p:spPr>
          <a:xfrm rot="1140000">
            <a:off x="1043280" y="533880"/>
            <a:ext cx="92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不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051"/>
          <p:cNvSpPr/>
          <p:nvPr/>
        </p:nvSpPr>
        <p:spPr>
          <a:xfrm rot="1140000">
            <a:off x="3678120" y="29160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必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坚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52"/>
          <p:cNvSpPr/>
          <p:nvPr/>
        </p:nvSpPr>
        <p:spPr>
          <a:xfrm>
            <a:off x="7093080" y="444960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反腐倡廉公益广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53"/>
          <p:cNvSpPr/>
          <p:nvPr/>
        </p:nvSpPr>
        <p:spPr>
          <a:xfrm>
            <a:off x="5557320" y="4373640"/>
            <a:ext cx="22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a5a5"/>
                </a:solidFill>
                <a:latin typeface="Onyx"/>
              </a:rPr>
              <a:t>Andy Gu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054"/>
          <p:cNvSpPr/>
          <p:nvPr/>
        </p:nvSpPr>
        <p:spPr>
          <a:xfrm>
            <a:off x="6604560" y="460548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Onyx"/>
              </a:rPr>
              <a:t>blog.sina.com.cn/9i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12"/>
          <p:cNvGrpSpPr/>
          <p:nvPr/>
        </p:nvGrpSpPr>
        <p:grpSpPr>
          <a:xfrm>
            <a:off x="1692360" y="4300560"/>
            <a:ext cx="3598920" cy="287280"/>
            <a:chOff x="1692360" y="4300560"/>
            <a:chExt cx="3598920" cy="287280"/>
          </a:xfrm>
        </p:grpSpPr>
        <p:sp>
          <p:nvSpPr>
            <p:cNvPr id="68" name="圆角矩形 13"/>
            <p:cNvSpPr/>
            <p:nvPr/>
          </p:nvSpPr>
          <p:spPr>
            <a:xfrm>
              <a:off x="1692360" y="4300560"/>
              <a:ext cx="2519280" cy="2872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4"/>
            <p:cNvSpPr/>
            <p:nvPr/>
          </p:nvSpPr>
          <p:spPr>
            <a:xfrm>
              <a:off x="4356360" y="4300560"/>
              <a:ext cx="9349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5"/>
          <p:cNvSpPr/>
          <p:nvPr/>
        </p:nvSpPr>
        <p:spPr>
          <a:xfrm>
            <a:off x="1332000" y="4591080"/>
            <a:ext cx="4751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C58-779F-432B-A8FC-59B38E54A8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1"/>
          <a:srcRect l="0" t="13708" r="0" b="12610"/>
          <a:stretch/>
        </p:blipFill>
        <p:spPr>
          <a:xfrm>
            <a:off x="0" y="0"/>
            <a:ext cx="91663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75" name="组合 31"/>
          <p:cNvGrpSpPr/>
          <p:nvPr/>
        </p:nvGrpSpPr>
        <p:grpSpPr>
          <a:xfrm>
            <a:off x="-369360" y="4300560"/>
            <a:ext cx="3680280" cy="642600"/>
            <a:chOff x="-369360" y="4300560"/>
            <a:chExt cx="3680280" cy="642600"/>
          </a:xfrm>
        </p:grpSpPr>
        <p:sp>
          <p:nvSpPr>
            <p:cNvPr id="76" name="TextBox 1052"/>
            <p:cNvSpPr/>
            <p:nvPr/>
          </p:nvSpPr>
          <p:spPr>
            <a:xfrm>
              <a:off x="1166040" y="4376880"/>
              <a:ext cx="165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反腐倡廉公益广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053"/>
            <p:cNvSpPr/>
            <p:nvPr/>
          </p:nvSpPr>
          <p:spPr>
            <a:xfrm>
              <a:off x="-369360" y="4300560"/>
              <a:ext cx="228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Onyx"/>
                </a:rPr>
                <a:t>Andy Gu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1054"/>
            <p:cNvSpPr/>
            <p:nvPr/>
          </p:nvSpPr>
          <p:spPr>
            <a:xfrm>
              <a:off x="678240" y="4532040"/>
              <a:ext cx="263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Onyx"/>
                </a:rPr>
                <a:t>blog.sina.com.cn/9i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矩形 16"/>
          <p:cNvSpPr/>
          <p:nvPr/>
        </p:nvSpPr>
        <p:spPr>
          <a:xfrm rot="19671000">
            <a:off x="4695480" y="840960"/>
            <a:ext cx="7419960" cy="5311800"/>
          </a:xfrm>
          <a:prstGeom prst="rect">
            <a:avLst/>
          </a:prstGeom>
          <a:solidFill>
            <a:srgbClr val="c000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 flipH="1" rot="19672800">
            <a:off x="5151240" y="1366920"/>
            <a:ext cx="511344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生不能越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底线必须坚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6820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2:32:00Z</dcterms:created>
  <dc:creator>幻灯片之家：www.eeppt.com; Andy Guo</dc:creator>
  <dc:description>幻灯片之家：www.eeppt.com</dc:description>
  <cp:keywords>幻灯片之家：www.eeppt.com</cp:keywords>
  <dc:language>en-US</dc:language>
  <cp:lastModifiedBy>soppt.com</cp:lastModifiedBy>
  <dcterms:modified xsi:type="dcterms:W3CDTF">2015-09-18T13:16:21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