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46E6A-D46F-400E-9CD1-C0B4F07E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312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42720" y="5731920"/>
            <a:ext cx="6172200" cy="312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9DFB7-1E63-449B-9B7F-3A12F0B3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312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312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42720" y="5731920"/>
            <a:ext cx="3011760" cy="312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3505320" y="5731920"/>
            <a:ext cx="3011760" cy="312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30B33-CDE0-4939-BA2D-BEA4748F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1987200" cy="312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429640" y="2311560"/>
            <a:ext cx="1987200" cy="312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16560" y="2311560"/>
            <a:ext cx="1987200" cy="312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42720" y="5731920"/>
            <a:ext cx="1987200" cy="312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429640" y="5731920"/>
            <a:ext cx="1987200" cy="312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4516560" y="5731920"/>
            <a:ext cx="1987200" cy="312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EEC31-FD7E-4221-BA13-E3FD0305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42720" y="2311560"/>
            <a:ext cx="6172200" cy="65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E7AB9-FD75-491F-B659-D9FB8E19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65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BB257-D9AC-49A4-87E8-7EAEAD94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65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65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68A46-1B5D-4410-8C03-B0E4548C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7AD30-C472-4CF9-9C48-C34CDDCC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B7144-D182-4C9A-9F28-A6EA6E75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312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65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42720" y="5731920"/>
            <a:ext cx="3011760" cy="312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E1ABD-ECD7-46EE-B3E8-2D3B1B9F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65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312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505320" y="5731920"/>
            <a:ext cx="3011760" cy="312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75227-086E-4205-80BF-3F8EDD50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312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312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42720" y="5731920"/>
            <a:ext cx="6172200" cy="312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5BF08-0AF4-4039-9F5B-33234770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7400" y="1889280"/>
            <a:ext cx="7674840" cy="8133840"/>
            <a:chOff x="-77400" y="1889280"/>
            <a:chExt cx="7674840" cy="813384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16560" y="2367720"/>
              <a:ext cx="2076480" cy="133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28800" y="2583360"/>
              <a:ext cx="2420640" cy="1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32040" y="2746800"/>
              <a:ext cx="2674080" cy="1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51120" y="2940840"/>
              <a:ext cx="2948040" cy="1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60480" y="3203280"/>
              <a:ext cx="3298320" cy="129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77040" y="3491640"/>
              <a:ext cx="3641040" cy="1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10880" y="3883680"/>
              <a:ext cx="4051800" cy="1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17360" y="4272480"/>
              <a:ext cx="4464000" cy="12960"/>
            </a:xfrm>
            <a:prstGeom prst="rect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196560" y="4707720"/>
              <a:ext cx="5011560" cy="13320"/>
            </a:xfrm>
            <a:prstGeom prst="rect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254520" y="5249520"/>
              <a:ext cx="5491440" cy="13680"/>
            </a:xfrm>
            <a:prstGeom prst="rect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372960" y="6002640"/>
              <a:ext cx="6192000" cy="133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0080" y="6607080"/>
              <a:ext cx="6431040" cy="13680"/>
            </a:xfrm>
            <a:prstGeom prst="rect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1569960" y="6715440"/>
              <a:ext cx="5491440" cy="14040"/>
            </a:xfrm>
            <a:prstGeom prst="rect">
              <a:avLst/>
            </a:prstGeom>
            <a:gradFill rotWithShape="0">
              <a:gsLst>
                <a:gs pos="0">
                  <a:srgbClr val="1f1f2e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3191760" y="7044120"/>
              <a:ext cx="4257720" cy="13320"/>
            </a:xfrm>
            <a:prstGeom prst="rect">
              <a:avLst/>
            </a:prstGeom>
            <a:gradFill rotWithShape="0">
              <a:gsLst>
                <a:gs pos="0">
                  <a:srgbClr val="030305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3675600" y="8034480"/>
              <a:ext cx="4769280" cy="6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6113160" y="9555120"/>
              <a:ext cx="1149480" cy="7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173880" y="5412600"/>
              <a:ext cx="7199280" cy="14040"/>
            </a:xfrm>
            <a:prstGeom prst="rect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235800" y="7789680"/>
              <a:ext cx="4932000" cy="13320"/>
            </a:xfrm>
            <a:prstGeom prst="rect">
              <a:avLst/>
            </a:prstGeom>
            <a:gradFill rotWithShape="0">
              <a:gsLst>
                <a:gs pos="0">
                  <a:srgbClr val="414161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196560" y="8312400"/>
              <a:ext cx="3338640" cy="14040"/>
            </a:xfrm>
            <a:prstGeom prst="rect">
              <a:avLst/>
            </a:prstGeom>
            <a:gradFill rotWithShape="0">
              <a:gsLst>
                <a:gs pos="0">
                  <a:srgbClr val="414161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30680" y="8996040"/>
              <a:ext cx="1666800" cy="14040"/>
            </a:xfrm>
            <a:prstGeom prst="rect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256680" y="7387920"/>
              <a:ext cx="6521400" cy="14040"/>
            </a:xfrm>
            <a:prstGeom prst="rect">
              <a:avLst/>
            </a:prstGeom>
            <a:gradFill rotWithShape="0">
              <a:gsLst>
                <a:gs pos="0">
                  <a:srgbClr val="32324a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37160" y="4882680"/>
              <a:ext cx="7163280" cy="13320"/>
            </a:xfrm>
            <a:prstGeom prst="rect">
              <a:avLst/>
            </a:prstGeom>
            <a:gradFill rotWithShape="0">
              <a:gsLst>
                <a:gs pos="0">
                  <a:srgbClr val="3b3b58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94680" y="4462200"/>
              <a:ext cx="6853680" cy="133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444240" y="4132800"/>
              <a:ext cx="6519240" cy="133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009080" y="3628080"/>
              <a:ext cx="5924880" cy="133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253160" y="3384720"/>
              <a:ext cx="5666760" cy="1404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480680" y="3157920"/>
              <a:ext cx="5425920" cy="1332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1770480" y="2991600"/>
              <a:ext cx="5136480" cy="1404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1963800" y="2792520"/>
              <a:ext cx="4946040" cy="1404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727200" y="3861000"/>
              <a:ext cx="6196320" cy="1404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242640" y="6825240"/>
              <a:ext cx="7323120" cy="13320"/>
            </a:xfrm>
            <a:prstGeom prst="rect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07000" y="6107760"/>
              <a:ext cx="7268040" cy="14040"/>
            </a:xfrm>
            <a:prstGeom prst="rect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80560" y="7704720"/>
              <a:ext cx="199800" cy="2199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280440" y="7050960"/>
              <a:ext cx="199800" cy="21780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188640" y="8376840"/>
              <a:ext cx="233280" cy="2426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2472840" y="6103440"/>
              <a:ext cx="185760" cy="1922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455840" y="7055640"/>
              <a:ext cx="199800" cy="21780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007000" y="6553080"/>
              <a:ext cx="185760" cy="2062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892800" y="6512040"/>
              <a:ext cx="179280" cy="20376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436680" y="6092280"/>
              <a:ext cx="178200" cy="1922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395000" y="6059880"/>
              <a:ext cx="185760" cy="19008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2858400" y="5699880"/>
              <a:ext cx="185760" cy="1900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2274120" y="5307120"/>
              <a:ext cx="159480" cy="16740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2683440" y="4940280"/>
              <a:ext cx="159480" cy="13968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3264840" y="5286960"/>
              <a:ext cx="166320" cy="1648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3348000" y="4353120"/>
              <a:ext cx="153360" cy="13968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4430520" y="4110120"/>
              <a:ext cx="152280" cy="13968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4200480" y="4348440"/>
              <a:ext cx="152280" cy="13968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3648240" y="4077720"/>
              <a:ext cx="152280" cy="141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3901680" y="4642200"/>
              <a:ext cx="159480" cy="167400"/>
            </a:xfrm>
            <a:prstGeom prst="ellipse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3603960" y="4953960"/>
              <a:ext cx="158400" cy="139680"/>
            </a:xfrm>
            <a:prstGeom prst="ellipse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1867680" y="5626080"/>
              <a:ext cx="178560" cy="20628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217960" y="4651200"/>
              <a:ext cx="165240" cy="13968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1801080" y="4988520"/>
              <a:ext cx="165240" cy="13968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417680" y="5300280"/>
              <a:ext cx="159480" cy="1652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373760" y="4694760"/>
              <a:ext cx="159480" cy="1396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359360" y="4134960"/>
              <a:ext cx="152280" cy="1396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1785600" y="4385160"/>
              <a:ext cx="152280" cy="1396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147400" y="4130280"/>
              <a:ext cx="152280" cy="1396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2570400" y="4368960"/>
              <a:ext cx="152280" cy="1396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2895480" y="4098600"/>
              <a:ext cx="152280" cy="1396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559440" y="4660560"/>
              <a:ext cx="159480" cy="1674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80640" y="4968000"/>
              <a:ext cx="159480" cy="1674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949680" y="4394160"/>
              <a:ext cx="152280" cy="13968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541440" y="4121280"/>
              <a:ext cx="152280" cy="13968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34280" y="4359600"/>
              <a:ext cx="152280" cy="13968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514080" y="5328000"/>
              <a:ext cx="165240" cy="1396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968760" y="4995360"/>
              <a:ext cx="159480" cy="1396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939240" y="5669640"/>
              <a:ext cx="185400" cy="204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3029040" y="4621320"/>
              <a:ext cx="166320" cy="16488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1734480" y="3898800"/>
              <a:ext cx="146520" cy="117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079720" y="3667320"/>
              <a:ext cx="146160" cy="11412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1648800" y="3453480"/>
              <a:ext cx="146160" cy="114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301040" y="3657960"/>
              <a:ext cx="146160" cy="117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942840" y="3875760"/>
              <a:ext cx="147600" cy="117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2394000" y="3467520"/>
              <a:ext cx="146520" cy="11412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2484720" y="3889440"/>
              <a:ext cx="146520" cy="114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2791800" y="3671280"/>
              <a:ext cx="146160" cy="114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3195720" y="3866400"/>
              <a:ext cx="146160" cy="117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959040" y="3467520"/>
              <a:ext cx="146520" cy="11412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588960" y="3662640"/>
              <a:ext cx="146160" cy="11412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271080" y="3458160"/>
              <a:ext cx="146160" cy="114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186480" y="3894120"/>
              <a:ext cx="146160" cy="1148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3437280" y="3657960"/>
              <a:ext cx="147600" cy="114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3665880" y="3465000"/>
              <a:ext cx="147600" cy="1170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3893400" y="3871080"/>
              <a:ext cx="147600" cy="117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4111200" y="3667320"/>
              <a:ext cx="146160" cy="11412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4347000" y="3453480"/>
              <a:ext cx="146520" cy="114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5061600" y="3469680"/>
              <a:ext cx="147600" cy="117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4644720" y="3900960"/>
              <a:ext cx="152280" cy="1148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4865040" y="3687480"/>
              <a:ext cx="152280" cy="1148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1526400" y="8379000"/>
              <a:ext cx="233280" cy="2548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841320" y="9207360"/>
              <a:ext cx="227160" cy="2566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2653920" y="7087320"/>
              <a:ext cx="199800" cy="2178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3100320" y="6575760"/>
              <a:ext cx="185760" cy="204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3461040" y="6119640"/>
              <a:ext cx="185760" cy="1922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3867120" y="5628600"/>
              <a:ext cx="178200" cy="2062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144160" y="7706880"/>
              <a:ext cx="199800" cy="2178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4181400" y="5280120"/>
              <a:ext cx="159480" cy="1666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4738680" y="4619160"/>
              <a:ext cx="159480" cy="1648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4468320" y="4949640"/>
              <a:ext cx="159480" cy="1396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4971960" y="4353120"/>
              <a:ext cx="152280" cy="1396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5165280" y="4121280"/>
              <a:ext cx="153360" cy="1396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5364000" y="3898800"/>
              <a:ext cx="147600" cy="1170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5549760" y="3675960"/>
              <a:ext cx="146160" cy="11484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5718600" y="3467520"/>
              <a:ext cx="152280" cy="1170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5869800" y="3281760"/>
              <a:ext cx="132120" cy="114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4566240" y="3279240"/>
              <a:ext cx="132840" cy="114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3912480" y="3279240"/>
              <a:ext cx="132840" cy="1148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3538440" y="3132360"/>
              <a:ext cx="131760" cy="11700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3753000" y="2962800"/>
              <a:ext cx="133200" cy="11412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3595680" y="2683080"/>
              <a:ext cx="132840" cy="11412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2908440" y="3137040"/>
              <a:ext cx="133200" cy="117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2739600" y="2797560"/>
              <a:ext cx="133200" cy="117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2494440" y="2944080"/>
              <a:ext cx="133200" cy="117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2652480" y="3306600"/>
              <a:ext cx="132120" cy="114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320120" y="3265560"/>
              <a:ext cx="133200" cy="11412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727200" y="2944080"/>
              <a:ext cx="131760" cy="117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362520" y="3114360"/>
              <a:ext cx="132120" cy="117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185400" y="2646000"/>
              <a:ext cx="133200" cy="114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5403240" y="3130560"/>
              <a:ext cx="126000" cy="1029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5247360" y="3301920"/>
              <a:ext cx="124920" cy="10080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4753080" y="3109680"/>
              <a:ext cx="126000" cy="1029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4126680" y="3109680"/>
              <a:ext cx="126360" cy="10296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3395520" y="2816280"/>
              <a:ext cx="126000" cy="1008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3188160" y="2543040"/>
              <a:ext cx="126360" cy="1008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3404160" y="2396160"/>
              <a:ext cx="126000" cy="10296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2311920" y="2385000"/>
              <a:ext cx="126000" cy="10296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294920" y="2928600"/>
              <a:ext cx="126000" cy="1008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984240" y="3096000"/>
              <a:ext cx="126360" cy="10296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639000" y="3274560"/>
              <a:ext cx="126360" cy="1033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755640" y="2430720"/>
              <a:ext cx="126360" cy="10296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1833120" y="2407680"/>
              <a:ext cx="126360" cy="10296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333080" y="2437560"/>
              <a:ext cx="124920" cy="10296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4918680" y="2944080"/>
              <a:ext cx="131760" cy="1033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4140000" y="2666880"/>
              <a:ext cx="133200" cy="10296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3946680" y="2818080"/>
              <a:ext cx="133200" cy="10296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3778920" y="2549880"/>
              <a:ext cx="133200" cy="1008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2852640" y="2409840"/>
              <a:ext cx="133200" cy="10296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3296880" y="3315960"/>
              <a:ext cx="131760" cy="10080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3162240" y="2967480"/>
              <a:ext cx="133200" cy="1029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2977560" y="2657520"/>
              <a:ext cx="131760" cy="10332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2645640" y="2524320"/>
              <a:ext cx="133200" cy="10116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2415600" y="2664360"/>
              <a:ext cx="131760" cy="10332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232000" y="3109680"/>
              <a:ext cx="133200" cy="10296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153520" y="2804040"/>
              <a:ext cx="132120" cy="10332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068920" y="2517480"/>
              <a:ext cx="133200" cy="1033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1884600" y="2955960"/>
              <a:ext cx="133200" cy="10296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1641600" y="3079800"/>
              <a:ext cx="133200" cy="10296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1820160" y="2650680"/>
              <a:ext cx="133200" cy="10296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1540440" y="2802240"/>
              <a:ext cx="133200" cy="1033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1564200" y="2549880"/>
              <a:ext cx="133200" cy="1008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288080" y="2673720"/>
              <a:ext cx="131760" cy="1033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044000" y="2570760"/>
              <a:ext cx="132840" cy="10296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041480" y="2788560"/>
              <a:ext cx="131760" cy="10296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809280" y="2683080"/>
              <a:ext cx="133200" cy="1008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488880" y="2824920"/>
              <a:ext cx="131760" cy="1008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516240" y="2522160"/>
              <a:ext cx="133200" cy="1008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41120" y="3008520"/>
              <a:ext cx="131760" cy="1008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021320" y="2295360"/>
              <a:ext cx="119880" cy="8676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1596600" y="2322360"/>
              <a:ext cx="119880" cy="89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070360" y="2310840"/>
              <a:ext cx="119880" cy="871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2519280" y="2295360"/>
              <a:ext cx="118800" cy="89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2762280" y="2157480"/>
              <a:ext cx="119880" cy="89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3096720" y="2281320"/>
              <a:ext cx="119880" cy="89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1984320" y="3256200"/>
              <a:ext cx="126360" cy="117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3044160" y="3476880"/>
              <a:ext cx="146160" cy="1162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4308840" y="2951280"/>
              <a:ext cx="133200" cy="1170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4513680" y="2779200"/>
              <a:ext cx="131760" cy="1170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2540880" y="2081520"/>
              <a:ext cx="93960" cy="7776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1504800" y="2081520"/>
              <a:ext cx="93960" cy="7776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1751040" y="1992240"/>
              <a:ext cx="93960" cy="7776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1964160" y="1889280"/>
              <a:ext cx="98640" cy="7776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2283480" y="1992240"/>
              <a:ext cx="100080" cy="7776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047680" y="2116440"/>
              <a:ext cx="98640" cy="774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2277360" y="2193840"/>
              <a:ext cx="113040" cy="1033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1834560" y="2206080"/>
              <a:ext cx="105840" cy="10296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280880" y="2185200"/>
              <a:ext cx="119880" cy="10296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2360880" y="9236880"/>
              <a:ext cx="232200" cy="240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2928600" y="8420040"/>
              <a:ext cx="233280" cy="2566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3855240" y="7158600"/>
              <a:ext cx="199800" cy="21780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4226760" y="6605640"/>
              <a:ext cx="186840" cy="20412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3443040" y="7746120"/>
              <a:ext cx="199800" cy="21780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4606560" y="6094080"/>
              <a:ext cx="179640" cy="1922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4869720" y="5676480"/>
              <a:ext cx="185760" cy="20412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5151960" y="5307120"/>
              <a:ext cx="159480" cy="1652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5610240" y="4637520"/>
              <a:ext cx="159480" cy="167400"/>
            </a:xfrm>
            <a:prstGeom prst="ellipse">
              <a:avLst/>
            </a:prstGeom>
            <a:gradFill rotWithShape="0">
              <a:gsLst>
                <a:gs pos="0">
                  <a:srgbClr val="32324b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5397480" y="4958640"/>
              <a:ext cx="165240" cy="1396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5790240" y="4403520"/>
              <a:ext cx="152280" cy="1396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5964120" y="4144320"/>
              <a:ext cx="152280" cy="1396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6145200" y="3903480"/>
              <a:ext cx="146160" cy="11412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6283080" y="3701520"/>
              <a:ext cx="147600" cy="1170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6427080" y="3488400"/>
              <a:ext cx="146160" cy="11628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3875400" y="9338040"/>
              <a:ext cx="233280" cy="24336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4347000" y="8470800"/>
              <a:ext cx="233280" cy="25488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5682960" y="8498160"/>
              <a:ext cx="239040" cy="24336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5347080" y="9287280"/>
              <a:ext cx="233280" cy="24084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4749480" y="7789680"/>
              <a:ext cx="199800" cy="21996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5075640" y="7204320"/>
              <a:ext cx="198720" cy="21780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6005880" y="7840080"/>
              <a:ext cx="198720" cy="21780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5421240" y="6589800"/>
              <a:ext cx="185760" cy="19008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6302160" y="7147080"/>
              <a:ext cx="199800" cy="21780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6544800" y="6603480"/>
              <a:ext cx="185760" cy="20376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5681520" y="6131160"/>
              <a:ext cx="185760" cy="19008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5913000" y="5706720"/>
              <a:ext cx="185760" cy="19224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6482160" y="4706280"/>
              <a:ext cx="159480" cy="16740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6145200" y="5307120"/>
              <a:ext cx="166320" cy="16740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6332040" y="4990680"/>
              <a:ext cx="159480" cy="13968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6645240" y="4433040"/>
              <a:ext cx="152280" cy="13968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6773760" y="4153320"/>
              <a:ext cx="152280" cy="13968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6742800" y="6146640"/>
              <a:ext cx="185400" cy="19008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77400" y="6571080"/>
              <a:ext cx="178200" cy="2041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1800" y="5681160"/>
              <a:ext cx="185760" cy="204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0800" y="3293280"/>
              <a:ext cx="126000" cy="1008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6696360" y="9198000"/>
              <a:ext cx="239040" cy="24336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4914720" y="9018720"/>
            <a:ext cx="16002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1017-231E-475A-8E3B-974815701E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342720" y="9018720"/>
            <a:ext cx="16002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2343240" y="9018720"/>
            <a:ext cx="2171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342720" y="2311560"/>
            <a:ext cx="6172200" cy="65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3"/>
          <p:cNvSpPr/>
          <p:nvPr/>
        </p:nvSpPr>
        <p:spPr>
          <a:xfrm>
            <a:off x="765000" y="0"/>
            <a:ext cx="2590920" cy="6705720"/>
          </a:xfrm>
          <a:prstGeom prst="rect">
            <a:avLst/>
          </a:prstGeom>
          <a:solidFill>
            <a:srgbClr val="52527c">
              <a:alpha val="5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692280" y="5024520"/>
            <a:ext cx="287784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華康隸書體W3(P)"/>
                <a:ea typeface="華康隸書體W3(P)"/>
              </a:rPr>
              <a:t>葉永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華康隸書體W3(P)"/>
                <a:ea typeface="華康隸書體W3(P)"/>
              </a:rPr>
              <a:t>個人簡歷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6"/>
          <p:cNvSpPr/>
          <p:nvPr/>
        </p:nvSpPr>
        <p:spPr>
          <a:xfrm>
            <a:off x="2057400" y="32004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10" descr="C:\Documents and Settings\user\桌面\melody1.jpg"/>
          <p:cNvPicPr/>
          <p:nvPr/>
        </p:nvPicPr>
        <p:blipFill>
          <a:blip r:embed="rId1"/>
          <a:stretch/>
        </p:blipFill>
        <p:spPr>
          <a:xfrm>
            <a:off x="380880" y="1066680"/>
            <a:ext cx="3657600" cy="3384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17360" y="9418680"/>
            <a:ext cx="50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83960" y="20160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动画创意个人简历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52440" y="272520"/>
            <a:ext cx="615456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1000" y="1834920"/>
            <a:ext cx="6696000" cy="75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TW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TW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TW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TW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5465880" y="480960"/>
            <a:ext cx="1041120" cy="504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81851-46C2-41BC-8213-B90A6D4DBF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765000" y="0"/>
            <a:ext cx="2590920" cy="6705720"/>
          </a:xfrm>
          <a:prstGeom prst="rect">
            <a:avLst/>
          </a:prstGeom>
          <a:solidFill>
            <a:srgbClr val="52527c">
              <a:alpha val="5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836640" y="3873600"/>
            <a:ext cx="5400720" cy="33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華康特粗楷體"/>
                <a:ea typeface="華康特粗楷體"/>
              </a:rPr>
              <a:t>國立新竹師範學院畢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現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桃園市西門國民小學 教師兼導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>
            <a:off x="2057400" y="32004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7" descr="C:\Documents and Settings\user\桌面\1514.gif"/>
          <p:cNvPicPr/>
          <p:nvPr/>
        </p:nvPicPr>
        <p:blipFill>
          <a:blip r:embed="rId1"/>
          <a:stretch/>
        </p:blipFill>
        <p:spPr>
          <a:xfrm>
            <a:off x="533520" y="1066680"/>
            <a:ext cx="2895480" cy="28195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TW" sz="16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6T09:02:32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39Z</dcterms:modified>
  <cp:revision>14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