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D53A-61FD-49E4-A6F4-FCD6FC73E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F958-077E-4663-A271-40F07E98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BACC-9248-4249-A868-EABA4C99B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B37A-0A01-4A20-8E2E-8118273A9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7711-DDC4-4361-9114-F0302167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7932-BADE-4E54-BCE4-D71BF53F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116A-4EE9-4051-8F12-6DD81337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2BA7-F0BE-48E3-9C49-41ACAB7C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8DDC-C431-4030-9D19-73D83CA1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5150-DEA5-4B21-A530-0A2026E4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7550-392F-4134-B146-EF9AAD48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1E84-59ED-43D2-9BDD-78BEEAC1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8FFB-ED6D-4FFD-B160-3572B829F5F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9D44-749F-4E32-BC28-69B82EB4597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"/>
          <p:cNvSpPr/>
          <p:nvPr/>
        </p:nvSpPr>
        <p:spPr>
          <a:xfrm>
            <a:off x="0" y="4149720"/>
            <a:ext cx="9144000" cy="10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4"/>
          <p:cNvSpPr/>
          <p:nvPr/>
        </p:nvSpPr>
        <p:spPr>
          <a:xfrm>
            <a:off x="466560" y="436572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e 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40464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导航型工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A495-3D8B-4068-AEBE-EAF249F66D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文本框 3"/>
          <p:cNvSpPr/>
          <p:nvPr/>
        </p:nvSpPr>
        <p:spPr>
          <a:xfrm>
            <a:off x="0" y="4149720"/>
            <a:ext cx="9144000" cy="10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4"/>
          <p:cNvSpPr/>
          <p:nvPr/>
        </p:nvSpPr>
        <p:spPr>
          <a:xfrm>
            <a:off x="466560" y="436572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"/>
          <p:cNvSpPr/>
          <p:nvPr/>
        </p:nvSpPr>
        <p:spPr>
          <a:xfrm>
            <a:off x="2482920" y="148428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5"/>
          <p:cNvSpPr/>
          <p:nvPr/>
        </p:nvSpPr>
        <p:spPr>
          <a:xfrm>
            <a:off x="0" y="0"/>
            <a:ext cx="1692360" cy="6858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0" y="1268280"/>
          <a:ext cx="1692360" cy="3959280"/>
        </p:xfrm>
        <a:graphic>
          <a:graphicData uri="http://schemas.openxmlformats.org/drawingml/2006/table">
            <a:tbl>
              <a:tblPr/>
              <a:tblGrid>
                <a:gridCol w="1692360"/>
              </a:tblGrid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m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ap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ari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直接连接符 8"/>
          <p:cNvSpPr/>
          <p:nvPr/>
        </p:nvSpPr>
        <p:spPr>
          <a:xfrm>
            <a:off x="1908000" y="1268280"/>
            <a:ext cx="6264360" cy="18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组合 12"/>
          <p:cNvGrpSpPr/>
          <p:nvPr/>
        </p:nvGrpSpPr>
        <p:grpSpPr>
          <a:xfrm>
            <a:off x="0" y="1273320"/>
            <a:ext cx="1692360" cy="787320"/>
            <a:chOff x="0" y="1273320"/>
            <a:chExt cx="1692360" cy="787320"/>
          </a:xfrm>
        </p:grpSpPr>
        <p:sp>
          <p:nvSpPr>
            <p:cNvPr id="49" name="矩形 10"/>
            <p:cNvSpPr/>
            <p:nvPr/>
          </p:nvSpPr>
          <p:spPr>
            <a:xfrm>
              <a:off x="0" y="1273320"/>
              <a:ext cx="1692360" cy="7873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等腰三角形 11"/>
            <p:cNvSpPr/>
            <p:nvPr/>
          </p:nvSpPr>
          <p:spPr>
            <a:xfrm rot="16200000">
              <a:off x="1548360" y="1594440"/>
              <a:ext cx="143640" cy="14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文本框 1"/>
          <p:cNvSpPr/>
          <p:nvPr/>
        </p:nvSpPr>
        <p:spPr>
          <a:xfrm>
            <a:off x="1908000" y="404640"/>
            <a:ext cx="21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NDE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979640" y="1557360"/>
          <a:ext cx="6227640" cy="4673520"/>
        </p:xfrm>
        <a:graphic>
          <a:graphicData uri="http://schemas.openxmlformats.org/drawingml/2006/table">
            <a:tbl>
              <a:tblPr/>
              <a:tblGrid>
                <a:gridCol w="2879640"/>
                <a:gridCol w="468360"/>
                <a:gridCol w="2879640"/>
              </a:tblGrid>
              <a:tr h="26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cc99"/>
                          </a:solidFill>
                          <a:latin typeface="微软雅黑"/>
                          <a:ea typeface="微软雅黑"/>
                        </a:rPr>
                        <a:t>Sum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7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 Light"/>
                          <a:ea typeface="造字工房悦黑体验版纤细体"/>
                        </a:rPr>
                        <a:t>If we can only encounter each other rather than stay with each other,then I wish we had never encounter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造字工房悦黑体验版纤细体"/>
                          <a:ea typeface="造字工房悦黑体验版纤细体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cc99"/>
                          </a:solidFill>
                          <a:latin typeface="微软雅黑"/>
                          <a:ea typeface="微软雅黑"/>
                        </a:rPr>
                        <a:t>Grap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7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 Light"/>
                          <a:ea typeface="造字工房悦黑体验版纤细体"/>
                        </a:rPr>
                        <a:t>If we can only encounter each other rather than stay with each other,then I wish we had never encounter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造字工房悦黑体验版纤细体"/>
                          <a:ea typeface="造字工房悦黑体验版纤细体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26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cc99"/>
                          </a:solidFill>
                          <a:latin typeface="微软雅黑"/>
                          <a:ea typeface="微软雅黑"/>
                        </a:rPr>
                        <a:t>T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7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 Light"/>
                          <a:ea typeface="造字工房悦黑体验版纤细体"/>
                        </a:rPr>
                        <a:t>If we can only encounter each other rather than stay with each other,then I wish we had never encounter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造字工房悦黑体验版纤细体"/>
                          <a:ea typeface="造字工房悦黑体验版纤细体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cc99"/>
                          </a:solidFill>
                          <a:latin typeface="微软雅黑"/>
                          <a:ea typeface="微软雅黑"/>
                        </a:rPr>
                        <a:t>Vari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7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 Light"/>
                          <a:ea typeface="造字工房悦黑体验版纤细体"/>
                        </a:rPr>
                        <a:t>If we can only encounter each other rather than stay with each other,then I wish we had never encounter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造字工房悦黑体验版纤细体"/>
                          <a:ea typeface="造字工房悦黑体验版纤细体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2124000" y="638172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5"/>
          <p:cNvSpPr/>
          <p:nvPr/>
        </p:nvSpPr>
        <p:spPr>
          <a:xfrm>
            <a:off x="0" y="0"/>
            <a:ext cx="1692360" cy="6858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0" y="1268280"/>
          <a:ext cx="1692360" cy="3959280"/>
        </p:xfrm>
        <a:graphic>
          <a:graphicData uri="http://schemas.openxmlformats.org/drawingml/2006/table">
            <a:tbl>
              <a:tblPr/>
              <a:tblGrid>
                <a:gridCol w="1692360"/>
              </a:tblGrid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ap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ari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直接连接符 8"/>
          <p:cNvSpPr/>
          <p:nvPr/>
        </p:nvSpPr>
        <p:spPr>
          <a:xfrm>
            <a:off x="1908000" y="1268280"/>
            <a:ext cx="6264360" cy="18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组合 12"/>
          <p:cNvGrpSpPr/>
          <p:nvPr/>
        </p:nvGrpSpPr>
        <p:grpSpPr>
          <a:xfrm>
            <a:off x="0" y="2065320"/>
            <a:ext cx="1692360" cy="787320"/>
            <a:chOff x="0" y="2065320"/>
            <a:chExt cx="1692360" cy="787320"/>
          </a:xfrm>
        </p:grpSpPr>
        <p:sp>
          <p:nvSpPr>
            <p:cNvPr id="58" name="矩形 10"/>
            <p:cNvSpPr/>
            <p:nvPr/>
          </p:nvSpPr>
          <p:spPr>
            <a:xfrm>
              <a:off x="0" y="2065320"/>
              <a:ext cx="1692360" cy="7873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umm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等腰三角形 11"/>
            <p:cNvSpPr/>
            <p:nvPr/>
          </p:nvSpPr>
          <p:spPr>
            <a:xfrm rot="16200000">
              <a:off x="1548360" y="2386440"/>
              <a:ext cx="143640" cy="14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文本框 1"/>
          <p:cNvSpPr/>
          <p:nvPr/>
        </p:nvSpPr>
        <p:spPr>
          <a:xfrm>
            <a:off x="1908000" y="404640"/>
            <a:ext cx="41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UMM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2"/>
          <p:cNvSpPr/>
          <p:nvPr/>
        </p:nvSpPr>
        <p:spPr>
          <a:xfrm>
            <a:off x="2021040" y="1557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3"/>
          <p:cNvSpPr/>
          <p:nvPr/>
        </p:nvSpPr>
        <p:spPr>
          <a:xfrm>
            <a:off x="2016000" y="2031840"/>
            <a:ext cx="62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If we can only encounter each other rather than stay with each other,then I wish we had never encou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5"/>
          <p:cNvSpPr/>
          <p:nvPr/>
        </p:nvSpPr>
        <p:spPr>
          <a:xfrm>
            <a:off x="5003640" y="3753000"/>
            <a:ext cx="0" cy="23400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6"/>
          <p:cNvSpPr/>
          <p:nvPr/>
        </p:nvSpPr>
        <p:spPr>
          <a:xfrm>
            <a:off x="2016000" y="36432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7"/>
          <p:cNvSpPr/>
          <p:nvPr/>
        </p:nvSpPr>
        <p:spPr>
          <a:xfrm>
            <a:off x="5651640" y="36432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2000160" y="4056120"/>
            <a:ext cx="286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If we can only encounter each oth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Qu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Ulllmuna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Nis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1"/>
          <p:cNvSpPr/>
          <p:nvPr/>
        </p:nvSpPr>
        <p:spPr>
          <a:xfrm>
            <a:off x="5651640" y="4056120"/>
            <a:ext cx="2860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If we can only encounter each oth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Qu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Ulllmuna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Nis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5"/>
          <p:cNvSpPr/>
          <p:nvPr/>
        </p:nvSpPr>
        <p:spPr>
          <a:xfrm>
            <a:off x="0" y="0"/>
            <a:ext cx="1692360" cy="6858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0" y="1268280"/>
          <a:ext cx="1692360" cy="3959280"/>
        </p:xfrm>
        <a:graphic>
          <a:graphicData uri="http://schemas.openxmlformats.org/drawingml/2006/table">
            <a:tbl>
              <a:tblPr/>
              <a:tblGrid>
                <a:gridCol w="1692360"/>
              </a:tblGrid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ap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ari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直接连接符 8"/>
          <p:cNvSpPr/>
          <p:nvPr/>
        </p:nvSpPr>
        <p:spPr>
          <a:xfrm>
            <a:off x="1908000" y="1268280"/>
            <a:ext cx="6264360" cy="18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组合 12"/>
          <p:cNvGrpSpPr/>
          <p:nvPr/>
        </p:nvGrpSpPr>
        <p:grpSpPr>
          <a:xfrm>
            <a:off x="0" y="2065320"/>
            <a:ext cx="1692360" cy="787320"/>
            <a:chOff x="0" y="2065320"/>
            <a:chExt cx="1692360" cy="787320"/>
          </a:xfrm>
        </p:grpSpPr>
        <p:sp>
          <p:nvSpPr>
            <p:cNvPr id="72" name="矩形 10"/>
            <p:cNvSpPr/>
            <p:nvPr/>
          </p:nvSpPr>
          <p:spPr>
            <a:xfrm>
              <a:off x="0" y="2065320"/>
              <a:ext cx="1692360" cy="7873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umm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等腰三角形 11"/>
            <p:cNvSpPr/>
            <p:nvPr/>
          </p:nvSpPr>
          <p:spPr>
            <a:xfrm rot="16200000">
              <a:off x="1548360" y="2386440"/>
              <a:ext cx="143640" cy="14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文本框 1"/>
          <p:cNvSpPr/>
          <p:nvPr/>
        </p:nvSpPr>
        <p:spPr>
          <a:xfrm>
            <a:off x="2021040" y="1557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2"/>
          <p:cNvSpPr/>
          <p:nvPr/>
        </p:nvSpPr>
        <p:spPr>
          <a:xfrm>
            <a:off x="2016000" y="2031840"/>
            <a:ext cx="62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If we can only encounter each other rather than stay with each other,then I wish we had never encou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3"/>
          <p:cNvSpPr/>
          <p:nvPr/>
        </p:nvSpPr>
        <p:spPr>
          <a:xfrm>
            <a:off x="1908000" y="404640"/>
            <a:ext cx="38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LINE CHA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表 11" descr=""/>
          <p:cNvPicPr/>
          <p:nvPr/>
        </p:nvPicPr>
        <p:blipFill>
          <a:blip r:embed="rId1"/>
          <a:stretch/>
        </p:blipFill>
        <p:spPr>
          <a:xfrm>
            <a:off x="2016000" y="3139920"/>
            <a:ext cx="6096240" cy="2913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403280" y="6237360"/>
            <a:ext cx="5041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5"/>
          <p:cNvSpPr/>
          <p:nvPr/>
        </p:nvSpPr>
        <p:spPr>
          <a:xfrm>
            <a:off x="0" y="0"/>
            <a:ext cx="1692360" cy="6858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0" y="1268280"/>
          <a:ext cx="1692360" cy="3959280"/>
        </p:xfrm>
        <a:graphic>
          <a:graphicData uri="http://schemas.openxmlformats.org/drawingml/2006/table">
            <a:tbl>
              <a:tblPr/>
              <a:tblGrid>
                <a:gridCol w="1692360"/>
              </a:tblGrid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m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ari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直接连接符 8"/>
          <p:cNvSpPr/>
          <p:nvPr/>
        </p:nvSpPr>
        <p:spPr>
          <a:xfrm>
            <a:off x="1908000" y="1268280"/>
            <a:ext cx="6264360" cy="18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组合 12"/>
          <p:cNvGrpSpPr/>
          <p:nvPr/>
        </p:nvGrpSpPr>
        <p:grpSpPr>
          <a:xfrm>
            <a:off x="-4680" y="2857680"/>
            <a:ext cx="1690560" cy="787320"/>
            <a:chOff x="-4680" y="2857680"/>
            <a:chExt cx="1690560" cy="787320"/>
          </a:xfrm>
        </p:grpSpPr>
        <p:sp>
          <p:nvSpPr>
            <p:cNvPr id="83" name="矩形 10"/>
            <p:cNvSpPr/>
            <p:nvPr/>
          </p:nvSpPr>
          <p:spPr>
            <a:xfrm>
              <a:off x="-4680" y="2857680"/>
              <a:ext cx="1690560" cy="7873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Graph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等腰三角形 11"/>
            <p:cNvSpPr/>
            <p:nvPr/>
          </p:nvSpPr>
          <p:spPr>
            <a:xfrm rot="16200000">
              <a:off x="1542240" y="3179160"/>
              <a:ext cx="143640" cy="143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文本框 3"/>
          <p:cNvSpPr/>
          <p:nvPr/>
        </p:nvSpPr>
        <p:spPr>
          <a:xfrm>
            <a:off x="1908000" y="404640"/>
            <a:ext cx="49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RCLE CHAR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表 8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2627280" cy="1944720"/>
          </a:xfrm>
          <a:prstGeom prst="rect">
            <a:avLst/>
          </a:prstGeom>
          <a:ln w="0">
            <a:noFill/>
          </a:ln>
        </p:spPr>
      </p:pic>
      <p:pic>
        <p:nvPicPr>
          <p:cNvPr id="87" name="图表 11" descr=""/>
          <p:cNvPicPr/>
          <p:nvPr/>
        </p:nvPicPr>
        <p:blipFill>
          <a:blip r:embed="rId2"/>
          <a:stretch/>
        </p:blipFill>
        <p:spPr>
          <a:xfrm>
            <a:off x="6372360" y="1844640"/>
            <a:ext cx="2628720" cy="1944720"/>
          </a:xfrm>
          <a:prstGeom prst="rect">
            <a:avLst/>
          </a:prstGeom>
          <a:ln w="0">
            <a:noFill/>
          </a:ln>
        </p:spPr>
      </p:pic>
      <p:pic>
        <p:nvPicPr>
          <p:cNvPr id="88" name="图表 12" descr=""/>
          <p:cNvPicPr/>
          <p:nvPr/>
        </p:nvPicPr>
        <p:blipFill>
          <a:blip r:embed="rId3"/>
          <a:stretch/>
        </p:blipFill>
        <p:spPr>
          <a:xfrm>
            <a:off x="4067280" y="1844640"/>
            <a:ext cx="2628720" cy="194472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13"/>
          <p:cNvSpPr/>
          <p:nvPr/>
        </p:nvSpPr>
        <p:spPr>
          <a:xfrm>
            <a:off x="2266920" y="242100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75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14"/>
          <p:cNvSpPr/>
          <p:nvPr/>
        </p:nvSpPr>
        <p:spPr>
          <a:xfrm>
            <a:off x="4572000" y="243036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50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5"/>
          <p:cNvSpPr/>
          <p:nvPr/>
        </p:nvSpPr>
        <p:spPr>
          <a:xfrm>
            <a:off x="6877080" y="243036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25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6"/>
          <p:cNvSpPr/>
          <p:nvPr/>
        </p:nvSpPr>
        <p:spPr>
          <a:xfrm>
            <a:off x="2627280" y="3860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la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7"/>
          <p:cNvSpPr/>
          <p:nvPr/>
        </p:nvSpPr>
        <p:spPr>
          <a:xfrm>
            <a:off x="5003640" y="38638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la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18"/>
          <p:cNvSpPr/>
          <p:nvPr/>
        </p:nvSpPr>
        <p:spPr>
          <a:xfrm>
            <a:off x="7236000" y="38559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lan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9"/>
          <p:cNvSpPr/>
          <p:nvPr/>
        </p:nvSpPr>
        <p:spPr>
          <a:xfrm>
            <a:off x="2192400" y="4437000"/>
            <a:ext cx="1803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If we can only encounter each other rather than stay with each other,then I wish we had never encou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20"/>
          <p:cNvSpPr/>
          <p:nvPr/>
        </p:nvSpPr>
        <p:spPr>
          <a:xfrm>
            <a:off x="4498920" y="4437000"/>
            <a:ext cx="1803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If we can only encounter each other rather than stay with each other,then I wish we had never encou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21"/>
          <p:cNvSpPr/>
          <p:nvPr/>
        </p:nvSpPr>
        <p:spPr>
          <a:xfrm>
            <a:off x="6804000" y="4437000"/>
            <a:ext cx="1803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If we can only encounter each other rather than stay with each other,then I wish we had never encou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5"/>
          <p:cNvSpPr/>
          <p:nvPr/>
        </p:nvSpPr>
        <p:spPr>
          <a:xfrm>
            <a:off x="0" y="0"/>
            <a:ext cx="1692360" cy="6858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0" y="1268280"/>
          <a:ext cx="1692360" cy="3959280"/>
        </p:xfrm>
        <a:graphic>
          <a:graphicData uri="http://schemas.openxmlformats.org/drawingml/2006/table">
            <a:tbl>
              <a:tblPr/>
              <a:tblGrid>
                <a:gridCol w="1692360"/>
              </a:tblGrid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m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ap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ari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直接连接符 8"/>
          <p:cNvSpPr/>
          <p:nvPr/>
        </p:nvSpPr>
        <p:spPr>
          <a:xfrm>
            <a:off x="1908000" y="1268280"/>
            <a:ext cx="6264360" cy="18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组合 12"/>
          <p:cNvGrpSpPr/>
          <p:nvPr/>
        </p:nvGrpSpPr>
        <p:grpSpPr>
          <a:xfrm>
            <a:off x="0" y="3645000"/>
            <a:ext cx="1692360" cy="787320"/>
            <a:chOff x="0" y="3645000"/>
            <a:chExt cx="1692360" cy="787320"/>
          </a:xfrm>
        </p:grpSpPr>
        <p:sp>
          <p:nvSpPr>
            <p:cNvPr id="102" name="矩形 10"/>
            <p:cNvSpPr/>
            <p:nvPr/>
          </p:nvSpPr>
          <p:spPr>
            <a:xfrm>
              <a:off x="0" y="3645000"/>
              <a:ext cx="1692360" cy="7873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ab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等腰三角形 11"/>
            <p:cNvSpPr/>
            <p:nvPr/>
          </p:nvSpPr>
          <p:spPr>
            <a:xfrm rot="16200000">
              <a:off x="1548360" y="3966120"/>
              <a:ext cx="143640" cy="14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文本框 2"/>
          <p:cNvSpPr/>
          <p:nvPr/>
        </p:nvSpPr>
        <p:spPr>
          <a:xfrm>
            <a:off x="1908000" y="404640"/>
            <a:ext cx="54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IMPLTE TAB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3"/>
          <p:cNvSpPr/>
          <p:nvPr/>
        </p:nvSpPr>
        <p:spPr>
          <a:xfrm>
            <a:off x="2021040" y="1557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4"/>
          <p:cNvSpPr/>
          <p:nvPr/>
        </p:nvSpPr>
        <p:spPr>
          <a:xfrm>
            <a:off x="2016000" y="2031840"/>
            <a:ext cx="62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If we can only encounter each other rather than stay with each other,then I wish we had never encou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114640" y="3139920"/>
          <a:ext cx="6095880" cy="317016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 Light"/>
                          <a:ea typeface="Calibri"/>
                        </a:rPr>
                        <a:t>Custom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 Light"/>
                          <a:ea typeface="Calibri"/>
                        </a:rPr>
                        <a:t>Reven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0c0c"/>
                          </a:solidFill>
                          <a:latin typeface="Calibri Light"/>
                          <a:ea typeface="Calibri"/>
                        </a:rPr>
                        <a:t>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0c0c"/>
                          </a:solidFill>
                          <a:latin typeface="Calibri Light"/>
                          <a:ea typeface="Calibri"/>
                        </a:rPr>
                        <a:t>6,871,3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0c0c"/>
                          </a:solidFill>
                          <a:latin typeface="Calibri Light"/>
                          <a:ea typeface="Calibri"/>
                        </a:rPr>
                        <a:t>$260,8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cd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0c0c"/>
                          </a:solidFill>
                          <a:latin typeface="Calibri Light"/>
                          <a:ea typeface="Calibri"/>
                        </a:rPr>
                        <a:t>Zha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0c0c"/>
                          </a:solidFill>
                          <a:latin typeface="Calibri Light"/>
                          <a:ea typeface="Calibri"/>
                        </a:rPr>
                        <a:t>5,7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0c0c"/>
                          </a:solidFill>
                          <a:latin typeface="Calibri Light"/>
                          <a:ea typeface="Calibri"/>
                        </a:rPr>
                        <a:t>$54,2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ffcc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0c0c"/>
                          </a:solidFill>
                          <a:latin typeface="Calibri Light"/>
                          <a:ea typeface="Calibri"/>
                        </a:rPr>
                        <a:t>We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0c0c"/>
                          </a:solidFill>
                          <a:latin typeface="Calibri Light"/>
                          <a:ea typeface="Calibri"/>
                        </a:rPr>
                        <a:t>1,287,4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0c0c"/>
                          </a:solidFill>
                          <a:latin typeface="Calibri Light"/>
                          <a:ea typeface="Calibri"/>
                        </a:rPr>
                        <a:t>$253,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cd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0c0c"/>
                          </a:solidFill>
                          <a:latin typeface="Calibri Light"/>
                          <a:ea typeface="Calibri"/>
                        </a:rPr>
                        <a:t>Wa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0c0c"/>
                          </a:solidFill>
                          <a:latin typeface="Calibri Light"/>
                          <a:ea typeface="Calibri"/>
                        </a:rPr>
                        <a:t>68,1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0c0c"/>
                          </a:solidFill>
                          <a:latin typeface="Calibri Light"/>
                          <a:ea typeface="Calibri"/>
                        </a:rPr>
                        <a:t>$260,8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ffcc"/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0c0c"/>
                          </a:solidFill>
                          <a:latin typeface="Calibri Light"/>
                          <a:ea typeface="Calibri"/>
                        </a:rPr>
                        <a:t>Che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0c0c"/>
                          </a:solidFill>
                          <a:latin typeface="Calibri Light"/>
                          <a:ea typeface="Calibri"/>
                        </a:rPr>
                        <a:t>21,3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c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0c0c"/>
                          </a:solidFill>
                          <a:latin typeface="Calibri Light"/>
                          <a:ea typeface="Calibri"/>
                        </a:rPr>
                        <a:t>$8,555,3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cd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0c0c"/>
                          </a:solidFill>
                          <a:latin typeface="Calibri Light"/>
                          <a:ea typeface="Calibri"/>
                        </a:rPr>
                        <a:t>Sh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0c0c"/>
                          </a:solidFill>
                          <a:latin typeface="Calibri Light"/>
                          <a:ea typeface="Calibri"/>
                        </a:rPr>
                        <a:t>24,5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0c0c"/>
                          </a:solidFill>
                          <a:latin typeface="Calibri Light"/>
                          <a:ea typeface="Calibri"/>
                        </a:rPr>
                        <a:t>$11,325,6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5"/>
          <p:cNvSpPr/>
          <p:nvPr/>
        </p:nvSpPr>
        <p:spPr>
          <a:xfrm>
            <a:off x="0" y="0"/>
            <a:ext cx="1692360" cy="6858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1268280"/>
          <a:ext cx="1692360" cy="3959280"/>
        </p:xfrm>
        <a:graphic>
          <a:graphicData uri="http://schemas.openxmlformats.org/drawingml/2006/table">
            <a:tbl>
              <a:tblPr/>
              <a:tblGrid>
                <a:gridCol w="1692360"/>
              </a:tblGrid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m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ap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ari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直接连接符 8"/>
          <p:cNvSpPr/>
          <p:nvPr/>
        </p:nvSpPr>
        <p:spPr>
          <a:xfrm>
            <a:off x="1908000" y="1268280"/>
            <a:ext cx="6264360" cy="18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组合 12"/>
          <p:cNvGrpSpPr/>
          <p:nvPr/>
        </p:nvGrpSpPr>
        <p:grpSpPr>
          <a:xfrm>
            <a:off x="0" y="3645000"/>
            <a:ext cx="1692360" cy="787320"/>
            <a:chOff x="0" y="3645000"/>
            <a:chExt cx="1692360" cy="787320"/>
          </a:xfrm>
        </p:grpSpPr>
        <p:sp>
          <p:nvSpPr>
            <p:cNvPr id="112" name="矩形 10"/>
            <p:cNvSpPr/>
            <p:nvPr/>
          </p:nvSpPr>
          <p:spPr>
            <a:xfrm>
              <a:off x="0" y="3645000"/>
              <a:ext cx="1692360" cy="7873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ab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等腰三角形 11"/>
            <p:cNvSpPr/>
            <p:nvPr/>
          </p:nvSpPr>
          <p:spPr>
            <a:xfrm rot="16200000">
              <a:off x="1548360" y="3966120"/>
              <a:ext cx="143640" cy="14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文本框 2"/>
          <p:cNvSpPr/>
          <p:nvPr/>
        </p:nvSpPr>
        <p:spPr>
          <a:xfrm>
            <a:off x="2021040" y="1557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"/>
          <p:cNvSpPr/>
          <p:nvPr/>
        </p:nvSpPr>
        <p:spPr>
          <a:xfrm>
            <a:off x="2016000" y="2031840"/>
            <a:ext cx="62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造字工房悦黑体验版纤细体"/>
              </a:rPr>
              <a:t>If we can only encounter each other rather than stay with each other,then I wish we had never encou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016000" y="2852640"/>
          <a:ext cx="6094440" cy="3382920"/>
        </p:xfrm>
        <a:graphic>
          <a:graphicData uri="http://schemas.openxmlformats.org/drawingml/2006/table">
            <a:tbl>
              <a:tblPr/>
              <a:tblGrid>
                <a:gridCol w="1187280"/>
                <a:gridCol w="819360"/>
                <a:gridCol w="817560"/>
                <a:gridCol w="817560"/>
                <a:gridCol w="816120"/>
                <a:gridCol w="817560"/>
                <a:gridCol w="81900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Calibri Light"/>
                          <a:ea typeface="Calibri"/>
                        </a:rPr>
                        <a:t>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Calibri Light"/>
                          <a:ea typeface="Calibri"/>
                        </a:rPr>
                        <a:t>T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Calibri Light"/>
                          <a:ea typeface="Calibri"/>
                        </a:rPr>
                        <a:t>W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Calibri Light"/>
                          <a:ea typeface="Calibri"/>
                        </a:rPr>
                        <a:t>Th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Calibri Light"/>
                          <a:ea typeface="Calibri"/>
                        </a:rPr>
                        <a:t>F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Calibri Light"/>
                          <a:ea typeface="Calibri"/>
                        </a:rPr>
                        <a:t>S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 Light"/>
                          <a:ea typeface="Calibri"/>
                        </a:rPr>
                        <a:t>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 Light"/>
                          <a:ea typeface="Calibri"/>
                        </a:rPr>
                        <a:t>Zha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 Light"/>
                          <a:ea typeface="Calibri"/>
                        </a:rPr>
                        <a:t>We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 Light"/>
                          <a:ea typeface="Calibri"/>
                        </a:rPr>
                        <a:t>Wa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 Light"/>
                          <a:ea typeface="Calibri"/>
                        </a:rPr>
                        <a:t>Che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 Light"/>
                          <a:ea typeface="Calibri"/>
                        </a:rPr>
                        <a:t>Sh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 Light"/>
                          <a:ea typeface="Calibri"/>
                        </a:rPr>
                        <a:t>X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</a:tr>
            </a:tbl>
          </a:graphicData>
        </a:graphic>
      </p:graphicFrame>
      <p:sp>
        <p:nvSpPr>
          <p:cNvPr id="117" name="文本框 5"/>
          <p:cNvSpPr/>
          <p:nvPr/>
        </p:nvSpPr>
        <p:spPr>
          <a:xfrm>
            <a:off x="1979640" y="404640"/>
            <a:ext cx="54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LANNING TAB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5"/>
          <p:cNvSpPr/>
          <p:nvPr/>
        </p:nvSpPr>
        <p:spPr>
          <a:xfrm>
            <a:off x="0" y="0"/>
            <a:ext cx="1692360" cy="6858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0" y="1268280"/>
          <a:ext cx="1692360" cy="3959280"/>
        </p:xfrm>
        <a:graphic>
          <a:graphicData uri="http://schemas.openxmlformats.org/drawingml/2006/table">
            <a:tbl>
              <a:tblPr/>
              <a:tblGrid>
                <a:gridCol w="1692360"/>
              </a:tblGrid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m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ap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直接连接符 8"/>
          <p:cNvSpPr/>
          <p:nvPr/>
        </p:nvSpPr>
        <p:spPr>
          <a:xfrm>
            <a:off x="1908000" y="1268280"/>
            <a:ext cx="6264360" cy="18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组合 12"/>
          <p:cNvGrpSpPr/>
          <p:nvPr/>
        </p:nvGrpSpPr>
        <p:grpSpPr>
          <a:xfrm>
            <a:off x="-23760" y="4437000"/>
            <a:ext cx="1692360" cy="789120"/>
            <a:chOff x="-23760" y="4437000"/>
            <a:chExt cx="1692360" cy="789120"/>
          </a:xfrm>
        </p:grpSpPr>
        <p:sp>
          <p:nvSpPr>
            <p:cNvPr id="122" name="矩形 10"/>
            <p:cNvSpPr/>
            <p:nvPr/>
          </p:nvSpPr>
          <p:spPr>
            <a:xfrm>
              <a:off x="-23760" y="4437000"/>
              <a:ext cx="1692360" cy="7891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ario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等腰三角形 11"/>
            <p:cNvSpPr/>
            <p:nvPr/>
          </p:nvSpPr>
          <p:spPr>
            <a:xfrm rot="16200000">
              <a:off x="1524600" y="4759560"/>
              <a:ext cx="144000" cy="14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直接连接符 7"/>
          <p:cNvSpPr/>
          <p:nvPr/>
        </p:nvSpPr>
        <p:spPr>
          <a:xfrm>
            <a:off x="2013120" y="2222640"/>
            <a:ext cx="6480000" cy="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"/>
          <p:cNvSpPr/>
          <p:nvPr/>
        </p:nvSpPr>
        <p:spPr>
          <a:xfrm>
            <a:off x="1908000" y="404640"/>
            <a:ext cx="32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ROC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2"/>
          <p:cNvSpPr/>
          <p:nvPr/>
        </p:nvSpPr>
        <p:spPr>
          <a:xfrm>
            <a:off x="1979640" y="1557360"/>
            <a:ext cx="1332000" cy="133200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3"/>
          <p:cNvSpPr/>
          <p:nvPr/>
        </p:nvSpPr>
        <p:spPr>
          <a:xfrm>
            <a:off x="3743280" y="1557360"/>
            <a:ext cx="1332000" cy="13320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椭圆 4"/>
          <p:cNvSpPr/>
          <p:nvPr/>
        </p:nvSpPr>
        <p:spPr>
          <a:xfrm>
            <a:off x="5505480" y="1557360"/>
            <a:ext cx="1333440" cy="133200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Lau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椭圆 5"/>
          <p:cNvSpPr/>
          <p:nvPr/>
        </p:nvSpPr>
        <p:spPr>
          <a:xfrm>
            <a:off x="7269120" y="1557360"/>
            <a:ext cx="1332000" cy="133200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994040" y="3429000"/>
          <a:ext cx="6499080" cy="3657600"/>
        </p:xfrm>
        <a:graphic>
          <a:graphicData uri="http://schemas.openxmlformats.org/drawingml/2006/table">
            <a:tbl>
              <a:tblPr/>
              <a:tblGrid>
                <a:gridCol w="1289160"/>
                <a:gridCol w="5209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sign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 Light"/>
                          <a:ea typeface="造字工房悦黑体验版纤细体"/>
                        </a:rPr>
                        <a:t>If we can only encounter each other rather than stay with each other,then I wish we had never encount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cc99"/>
                          </a:solidFill>
                          <a:latin typeface="Calibri"/>
                          <a:ea typeface="Calibri"/>
                        </a:rPr>
                        <a:t>Te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 Light"/>
                          <a:ea typeface="造字工房悦黑体验版纤细体"/>
                        </a:rPr>
                        <a:t>If we can only encounter each other rather than stay with each other,then I wish we had never encount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aunch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 Light"/>
                          <a:ea typeface="造字工房悦黑体验版纤细体"/>
                        </a:rPr>
                        <a:t>If we can only encounter each other rather than stay with each other,then I wish we had never encount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ppor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 Light"/>
                          <a:ea typeface="造字工房悦黑体验版纤细体"/>
                        </a:rPr>
                        <a:t>If we can only encounter each other rather than stay with each other,then I wish we had never encount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5"/>
          <p:cNvSpPr/>
          <p:nvPr/>
        </p:nvSpPr>
        <p:spPr>
          <a:xfrm>
            <a:off x="0" y="0"/>
            <a:ext cx="1692360" cy="6858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0" y="1268280"/>
          <a:ext cx="1692360" cy="3959280"/>
        </p:xfrm>
        <a:graphic>
          <a:graphicData uri="http://schemas.openxmlformats.org/drawingml/2006/table">
            <a:tbl>
              <a:tblPr/>
              <a:tblGrid>
                <a:gridCol w="1692360"/>
              </a:tblGrid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m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ap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直接连接符 8"/>
          <p:cNvSpPr/>
          <p:nvPr/>
        </p:nvSpPr>
        <p:spPr>
          <a:xfrm>
            <a:off x="1908000" y="1268280"/>
            <a:ext cx="6264360" cy="18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组合 12"/>
          <p:cNvGrpSpPr/>
          <p:nvPr/>
        </p:nvGrpSpPr>
        <p:grpSpPr>
          <a:xfrm>
            <a:off x="-23760" y="4437000"/>
            <a:ext cx="1692360" cy="789120"/>
            <a:chOff x="-23760" y="4437000"/>
            <a:chExt cx="1692360" cy="789120"/>
          </a:xfrm>
        </p:grpSpPr>
        <p:sp>
          <p:nvSpPr>
            <p:cNvPr id="135" name="矩形 10"/>
            <p:cNvSpPr/>
            <p:nvPr/>
          </p:nvSpPr>
          <p:spPr>
            <a:xfrm>
              <a:off x="-23760" y="4437000"/>
              <a:ext cx="1692360" cy="7891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ario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等腰三角形 11"/>
            <p:cNvSpPr/>
            <p:nvPr/>
          </p:nvSpPr>
          <p:spPr>
            <a:xfrm rot="16200000">
              <a:off x="1524600" y="4759560"/>
              <a:ext cx="144000" cy="14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文本框 1"/>
          <p:cNvSpPr/>
          <p:nvPr/>
        </p:nvSpPr>
        <p:spPr>
          <a:xfrm>
            <a:off x="1908000" y="404640"/>
            <a:ext cx="47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O-DO LI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050920" y="1606680"/>
          <a:ext cx="6095880" cy="5064120"/>
        </p:xfrm>
        <a:graphic>
          <a:graphicData uri="http://schemas.openxmlformats.org/drawingml/2006/table">
            <a:tbl>
              <a:tblPr/>
              <a:tblGrid>
                <a:gridCol w="1008000"/>
                <a:gridCol w="50878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a0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0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 Light"/>
                          <a:ea typeface="造字工房悦黑体验版纤细体"/>
                        </a:rPr>
                        <a:t>If we can only encounter each other rather than stay with each other,then I wish we had never encount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FAIL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6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 Light"/>
                          <a:ea typeface="造字工房悦黑体验版纤细体"/>
                        </a:rPr>
                        <a:t>If we can only encounter each other rather than stay with each other,then I wish we had never encount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TO 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6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6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 Light"/>
                          <a:ea typeface="造字工房悦黑体验版纤细体"/>
                        </a:rPr>
                        <a:t>If we can only encounter each other rather than stay with each other,then I wish we had never encount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TO 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6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7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 Light"/>
                          <a:ea typeface="造字工房悦黑体验版纤细体"/>
                        </a:rPr>
                        <a:t>If we can only encounter each other rather than stay with each other,then I wish we had never encount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9" name="直接连接符 10"/>
          <p:cNvSpPr/>
          <p:nvPr/>
        </p:nvSpPr>
        <p:spPr>
          <a:xfrm>
            <a:off x="1908000" y="2708280"/>
            <a:ext cx="6264360" cy="144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 11"/>
          <p:cNvSpPr/>
          <p:nvPr/>
        </p:nvSpPr>
        <p:spPr>
          <a:xfrm>
            <a:off x="1908000" y="5300640"/>
            <a:ext cx="6264360" cy="144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12"/>
          <p:cNvSpPr/>
          <p:nvPr/>
        </p:nvSpPr>
        <p:spPr>
          <a:xfrm>
            <a:off x="1908000" y="4005360"/>
            <a:ext cx="626436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5T01:37:00Z</dcterms:created>
  <dc:creator>幻灯片之家：www.eeppt.com; Administrator</dc:creator>
  <dc:description>幻灯片之家：www.eeppt.com</dc:description>
  <cp:keywords>幻灯片之家：www.eeppt.com</cp:keywords>
  <dc:language>en-US</dc:language>
  <cp:lastModifiedBy>SUNNY-PC</cp:lastModifiedBy>
  <dcterms:modified xsi:type="dcterms:W3CDTF">2015-09-18T13:19:20Z</dcterms:modified>
  <cp:revision>1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